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4.jpeg" ContentType="image/jpeg"/>
  <Override PartName="/ppt/media/image25.png" ContentType="image/png"/>
  <Override PartName="/ppt/media/image6.png" ContentType="image/png"/>
  <Override PartName="/ppt/media/image11.png" ContentType="image/png"/>
  <Override PartName="/ppt/media/image3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29.jpeg" ContentType="image/jpeg"/>
  <Override PartName="/ppt/media/image28.wmf" ContentType="image/x-wmf"/>
  <Override PartName="/ppt/media/image30.png" ContentType="image/png"/>
  <Override PartName="/ppt/media/image3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31C6-4DD0-4644-8E22-0C327994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D751-5E17-4EE5-835A-3F26AFE7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5DF2-C808-4969-83D4-133CEFDD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4A86-D595-42A6-9B92-247F6A0D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08F2-049F-47EA-98D2-48DF4BCB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1680-5062-43DF-AC3E-CC122622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AE4B-96C3-4C73-9F6D-62456BDD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0138-6471-4EA2-9791-95D7B1C1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35D8-56B4-42BE-AEAD-391EB6FE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96FA-CE10-494C-82E2-A9B59D1B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8357-CAEB-41AF-957D-DEA1F5C5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DE7-1C86-421E-A12E-D00D3938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FE0D-CE55-4D65-B27F-8AB2F95C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4F85-D2BB-47A9-8E3E-8EE9B4C0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44B6-1175-4E77-97DA-6117441D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8268-9A39-4E38-ADEA-8746FBBF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142A-A229-4DD4-BF76-B60A37A7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1BA6-0324-4E8C-8E0F-E8103500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E3C9-9965-4DA1-A68C-FABE7E22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0A51-D9C1-48FA-A1B3-A6FDFEC4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415-30CB-4CA0-AD3D-B7821E32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1FB3-E838-4AD9-99F6-BAF4EEC4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A6A-F5F4-4F8B-800D-6604F1B3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0951-22FA-4A4B-BA06-6B729628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9AA1-E67C-4589-8079-DFBAFE1541F1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27F2-3E97-4912-9ED4-612F7A1C4DE1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Cinemática del Trau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7636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avitació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638676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40000" y="979560"/>
            <a:ext cx="6264000" cy="4897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76360" y="26028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avi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769440" cy="424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403280" y="33336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Herida por arma blan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19280" y="1195560"/>
            <a:ext cx="6769080" cy="4465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24000" y="189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Herida por ba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709" t="555" r="709" b="555"/>
          <a:stretch/>
        </p:blipFill>
        <p:spPr>
          <a:xfrm>
            <a:off x="-541440" y="2492280"/>
            <a:ext cx="3726000" cy="47768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iones por cambio de veloc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052640"/>
            <a:ext cx="518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00"/>
                </a:solidFill>
                <a:latin typeface="Arial"/>
              </a:rPr>
              <a:t>Órgano sigue desplazándose traccionando ligamento o vas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4000" y="5774400"/>
            <a:ext cx="1142280" cy="41400"/>
          </a:xfrm>
          <a:prstGeom prst="line">
            <a:avLst/>
          </a:prstGeom>
          <a:ln w="1620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198440"/>
            <a:ext cx="30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Detención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brus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5029200"/>
            <a:ext cx="762120" cy="685800"/>
          </a:xfrm>
          <a:prstGeom prst="leftArrow">
            <a:avLst>
              <a:gd name="adj1" fmla="val 50000"/>
              <a:gd name="adj2" fmla="val 2778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1052640"/>
            <a:ext cx="431640" cy="1008000"/>
          </a:xfrm>
          <a:custGeom>
            <a:avLst/>
            <a:gdLst>
              <a:gd name="textAreaLeft" fmla="*/ 0 w 431640"/>
              <a:gd name="textAreaRight" fmla="*/ 155880 w 4316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709" t="555" r="709" b="555"/>
          <a:stretch/>
        </p:blipFill>
        <p:spPr>
          <a:xfrm>
            <a:off x="2627280" y="2494080"/>
            <a:ext cx="3708360" cy="4751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rcRect l="709" t="555" r="709" b="555"/>
          <a:stretch/>
        </p:blipFill>
        <p:spPr>
          <a:xfrm>
            <a:off x="5796000" y="2567160"/>
            <a:ext cx="3595680" cy="46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0" t="3641" r="0" b="0"/>
          <a:stretch/>
        </p:blipFill>
        <p:spPr>
          <a:xfrm>
            <a:off x="-685800" y="482760"/>
            <a:ext cx="11658600" cy="65545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7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iones por cambio de veloc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9000" y="266688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o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48400" y="1825560"/>
            <a:ext cx="2000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lec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iza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c0321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709" t="24901" r="709" b="555"/>
          <a:stretch/>
        </p:blipFill>
        <p:spPr>
          <a:xfrm>
            <a:off x="5241960" y="2781360"/>
            <a:ext cx="5018040" cy="4849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rcRect l="709" t="555" r="709" b="555"/>
          <a:stretch/>
        </p:blipFill>
        <p:spPr>
          <a:xfrm>
            <a:off x="1746360" y="4125960"/>
            <a:ext cx="2320920" cy="2975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523880" y="1393920"/>
            <a:ext cx="2590920" cy="20350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olisión vehículos motoriza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8229600" y="4495680"/>
            <a:ext cx="380880" cy="152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05920" y="4495680"/>
            <a:ext cx="380880" cy="152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241400">
            <a:off x="8521560" y="5181480"/>
            <a:ext cx="1243080" cy="3985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80823"/>
              </a:gs>
            </a:gsLst>
            <a:lin ang="8100000"/>
          </a:gra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5562720"/>
            <a:ext cx="7632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5486400"/>
            <a:ext cx="763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241400">
            <a:off x="3187800" y="5867280"/>
            <a:ext cx="546120" cy="152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80823"/>
              </a:gs>
            </a:gsLst>
            <a:lin ang="8100000"/>
          </a:gra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3733920"/>
            <a:ext cx="2743200" cy="312408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7280" y="2819520"/>
            <a:ext cx="2895840" cy="289548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62320" y="63244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749600">
            <a:off x="3276360" y="5715000"/>
            <a:ext cx="873000" cy="262080"/>
          </a:xfrm>
          <a:prstGeom prst="leftArrow">
            <a:avLst>
              <a:gd name="adj1" fmla="val 50000"/>
              <a:gd name="adj2" fmla="val 83276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47242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36576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1371600"/>
            <a:ext cx="762120" cy="17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7240">
                  <a:solidFill>
                    <a:srgbClr val="ffffff"/>
                  </a:solidFill>
                  <a:miter/>
                </a:ln>
                <a:noFill/>
                <a:latin typeface="Arial Black"/>
              </a:rPr>
              <a:t>1</a:t>
            </a:r>
            <a:endParaRPr b="0" lang="en-US" sz="2400" spc="1" strike="noStrike">
              <a:ln w="57240">
                <a:solidFill>
                  <a:srgbClr val="ffffff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4343400"/>
            <a:ext cx="91440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3360">
                  <a:solidFill>
                    <a:srgbClr val="ffffff"/>
                  </a:solidFill>
                  <a:miter/>
                </a:ln>
                <a:noFill/>
                <a:latin typeface="Arial Black"/>
              </a:rPr>
              <a:t>2</a:t>
            </a:r>
            <a:endParaRPr b="0" lang="en-US" sz="2400" spc="1" strike="noStrike">
              <a:ln w="63360">
                <a:solidFill>
                  <a:srgbClr val="ffffff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0" y="3352680"/>
            <a:ext cx="685800" cy="144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noFill/>
                <a:latin typeface="Arial Black"/>
              </a:rPr>
              <a:t>3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os de Prot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29528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Deformación progres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Barras lat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Ca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Cinturón de 3 pu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Bolsa de 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mpacto fr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2492280"/>
            <a:ext cx="72392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etención del movimiento hacia del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Cuerpo sin suje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Hacia abajo y adel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Hacia arriba y al f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Importancia del Cinturón de tres pu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09680" y="-368280"/>
            <a:ext cx="45720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637000"/>
            <a:ext cx="8534520" cy="39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Analizar accid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y determinar  daño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según movimie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y fuerz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involucrados</a:t>
            </a: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1125000"/>
            <a:ext cx="9829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Arial"/>
              </a:rPr>
              <a:t>Impacto frontal</a:t>
            </a:r>
            <a:br>
              <a:rPr sz="4400"/>
            </a:br>
            <a:r>
              <a:rPr b="1" lang="es-ES_tradnl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Desplazamiento hacia delante y abajo.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6162" t="2990" r="0" b="0"/>
          <a:stretch/>
        </p:blipFill>
        <p:spPr>
          <a:xfrm>
            <a:off x="2556000" y="1341360"/>
            <a:ext cx="4782960" cy="51055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rcRect l="5796" t="0" r="5796" b="0"/>
          <a:stretch/>
        </p:blipFill>
        <p:spPr>
          <a:xfrm>
            <a:off x="3203640" y="1484280"/>
            <a:ext cx="5176800" cy="5257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rcRect l="6323" t="0" r="10538" b="0"/>
          <a:stretch/>
        </p:blipFill>
        <p:spPr>
          <a:xfrm>
            <a:off x="3156120" y="2022480"/>
            <a:ext cx="4800600" cy="479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1125000"/>
            <a:ext cx="9829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Arial"/>
              </a:rPr>
              <a:t>Impacto frontal</a:t>
            </a:r>
            <a:br>
              <a:rPr sz="4400"/>
            </a:br>
            <a:r>
              <a:rPr b="1" lang="es-ES_tradnl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Desplazamiento hacia delante y abajo.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6162" t="2990" r="0" b="0"/>
          <a:stretch/>
        </p:blipFill>
        <p:spPr>
          <a:xfrm>
            <a:off x="0" y="1052640"/>
            <a:ext cx="2841480" cy="3033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rcRect l="5796" t="0" r="5796" b="0"/>
          <a:stretch/>
        </p:blipFill>
        <p:spPr>
          <a:xfrm>
            <a:off x="2786040" y="2354400"/>
            <a:ext cx="3233880" cy="3284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rcRect l="6323" t="0" r="10538" b="0"/>
          <a:stretch/>
        </p:blipFill>
        <p:spPr>
          <a:xfrm>
            <a:off x="6019920" y="3664080"/>
            <a:ext cx="3200400" cy="31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72"/>
            </a:gs>
            <a:gs pos="100000">
              <a:srgbClr val="00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0720" y="9075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Impacto Frontal</a:t>
            </a:r>
            <a:br>
              <a:rPr sz="5400"/>
            </a:b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Desplazamiento hacia adelante y arriba.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3440" y="2282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3333cc"/>
                </a:solidFill>
                <a:latin typeface="Arial"/>
              </a:rPr>
              <a:t>Impacto posterior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019920" y="502920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80000" y="-2979720"/>
            <a:ext cx="9937440" cy="896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525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3333cc"/>
                </a:solidFill>
                <a:latin typeface="Arial"/>
              </a:rPr>
              <a:t>Impacto</a:t>
            </a:r>
            <a:r>
              <a:rPr b="1" lang="es-ES_tradnl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5400" spc="-1" strike="noStrike">
                <a:solidFill>
                  <a:srgbClr val="3333cc"/>
                </a:solidFill>
                <a:latin typeface="Arial"/>
              </a:rPr>
              <a:t>lateral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068560"/>
            <a:ext cx="3809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Vehículo permanece en el lug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Lesiones por compresión y aplastamiento la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94760" y="5105520"/>
            <a:ext cx="193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00"/>
                </a:solidFill>
                <a:latin typeface="Arial"/>
              </a:rPr>
              <a:t>Cintur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ff00"/>
                </a:solidFill>
                <a:latin typeface="Arial"/>
              </a:rPr>
              <a:t>podrí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00"/>
                </a:solidFill>
                <a:latin typeface="Arial"/>
              </a:rPr>
              <a:t>provoc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00"/>
                </a:solidFill>
                <a:latin typeface="Arial"/>
              </a:rPr>
              <a:t>más d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133720" y="635040"/>
            <a:ext cx="4673520" cy="6832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124080" y="685800"/>
            <a:ext cx="3429000" cy="6832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362320" y="2666880"/>
            <a:ext cx="1371600" cy="1828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5029200"/>
            <a:ext cx="685800" cy="838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4760" y="4392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Impacto lateral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9640" y="620640"/>
            <a:ext cx="7925040" cy="39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i el vehículo es desplazado</a:t>
            </a: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Arial"/>
              </a:rPr>
              <a:t>Vehículo se mueve debajo de la víctima alejándose del impacto y arrastránd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Arial"/>
              </a:rPr>
              <a:t>Lesiones por flexión lateral y rotación de la columna cervical por colis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4508640"/>
            <a:ext cx="934920" cy="504720"/>
          </a:xfrm>
          <a:prstGeom prst="leftArrow">
            <a:avLst>
              <a:gd name="adj1" fmla="val 50000"/>
              <a:gd name="adj2" fmla="val 4630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80360" y="3284640"/>
            <a:ext cx="1079280" cy="647640"/>
          </a:xfrm>
          <a:custGeom>
            <a:avLst/>
            <a:gdLst>
              <a:gd name="textAreaLeft" fmla="*/ 188640 w 1079280"/>
              <a:gd name="textAreaRight" fmla="*/ 782640 w 107928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e4a8"/>
          </a:solidFill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3333cc"/>
                </a:solidFill>
                <a:latin typeface="Arial"/>
              </a:rPr>
              <a:t>Impacto rotacional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2514600"/>
            <a:ext cx="7924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Impacto lateral sobre un vehículo en mov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Combinación de lesiones de impacto frontal y la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Volcamiento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155736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Combinación de mecanismos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2286000"/>
            <a:ext cx="944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Gran transferencia de energ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305920" y="6315120"/>
            <a:ext cx="838080" cy="542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9372600" cy="5170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260720" y="907920"/>
            <a:ext cx="44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Lesiones de cualquier 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Expulsión del ocupante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1197000"/>
            <a:ext cx="7162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27% de muertes traumáticas por esta ca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45080" y="2492280"/>
            <a:ext cx="562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8% presentan fractura de colum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-149040" y="3452760"/>
            <a:ext cx="9016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Lesiones por choque contra el vehículo y al ca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Medios de contenció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2060640"/>
            <a:ext cx="71629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Cinturón de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Debe tener componente diagonal y transverso Adecuadamente posicionado       ( abarcar partes óseas de pelvis y de tóra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Bolsas de ai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Absorben energía en impactos frontales y later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No deben ser usados con ni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2742840"/>
            <a:ext cx="6945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Buena  historia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      Análisis escena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  +  interpretación adecuada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     INDICE DE SOSPECHA</a:t>
            </a:r>
            <a:br>
              <a:rPr sz="48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4005360"/>
            <a:ext cx="633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Cinturón de seguridad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568680" cy="49528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419720" y="2276640"/>
            <a:ext cx="4724280" cy="36748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067280" y="5335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692360" y="1252440"/>
            <a:ext cx="575928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3333cc"/>
                </a:solidFill>
                <a:latin typeface="Arial"/>
              </a:rPr>
              <a:t>Motocicleta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453" t="651" r="912" b="651"/>
          <a:stretch/>
        </p:blipFill>
        <p:spPr>
          <a:xfrm>
            <a:off x="76320" y="1895400"/>
            <a:ext cx="7891200" cy="496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99072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3333cc"/>
                </a:solidFill>
                <a:latin typeface="Arial"/>
              </a:rPr>
              <a:t>Lesiones peatonale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657600" cy="2955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370836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7056360" cy="456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9405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57160" y="213840"/>
            <a:ext cx="29797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Caída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1295280"/>
            <a:ext cx="7620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Lesiones por impactos múltiples influidos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Altura    (sobre 3 altos lesiones graves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Superficie de choque   (compresibil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Zona  corporal de impa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Caída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8153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Caídas sobre pie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2057400"/>
            <a:ext cx="76201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Fractura uni o bilateral de calcán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Fractura o luxación de cade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Fractura por compresión columna dorsal o                 lumb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Fractura de Colles bila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-36360" y="-531720"/>
            <a:ext cx="6011640" cy="7389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80000" y="-218772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rcRect l="12344" t="0" r="0" b="0"/>
          <a:stretch/>
        </p:blipFill>
        <p:spPr>
          <a:xfrm>
            <a:off x="5364000" y="0"/>
            <a:ext cx="5051520" cy="695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4211640" y="0"/>
          <a:ext cx="2057400" cy="27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0"/>
                    <a:ext cx="20574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108000" y="4941720"/>
            <a:ext cx="7620120" cy="20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DEPORTES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Lesiones variadas  segú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mecanismos involuc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76680" y="45684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cc"/>
                </a:solidFill>
                <a:latin typeface="Arial"/>
              </a:rPr>
              <a:t>Lesiones por explosió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057400"/>
            <a:ext cx="830556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Presentan tres tipos de les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Lesiones prim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Son producidas por onda de presión                           Afectan órganos con gas como pulmones o    </a:t>
            </a: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intestino                                                         Lesiones a nivel SNC                                               Quemad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Son serias y muchas veces pasan desapercib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20574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4922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Factores pre-trau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94680" y="3429000"/>
            <a:ext cx="39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Punto de impa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9120" y="4437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Cuanta es la  energía que está  involucrada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5270400"/>
            <a:ext cx="9612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Dónde y en qué direc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se  produce el intercambio de energía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80" y="772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_tradnl" sz="4800" spc="-1" strike="noStrike">
                <a:solidFill>
                  <a:srgbClr val="3333cc"/>
                </a:solidFill>
                <a:latin typeface="Arial"/>
              </a:rPr>
              <a:t>Analizar :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cc"/>
                </a:solidFill>
                <a:latin typeface="Arial"/>
              </a:rPr>
              <a:t>Lesiones por explosió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2060640"/>
            <a:ext cx="83055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Lesiones secund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Son las producidas por el impacto de sólidos (vidrios, perdigones, fragmentos metálicos,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Producen laceraciones,quemaduras, fractura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048120" y="422280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cc"/>
                </a:solidFill>
                <a:latin typeface="Arial"/>
              </a:rPr>
              <a:t>Lesiones por explosió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1916280"/>
            <a:ext cx="83059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Lesiones terci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Son aquellas producidas por la proyección de la víctima contra un objeto o suel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Producen  contusiones,  laceraciones,  quemaduras, fractura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505320" y="4502160"/>
          <a:ext cx="45482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502160"/>
                    <a:ext cx="45482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038480" y="4984920"/>
          <a:ext cx="37339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4984920"/>
                    <a:ext cx="3733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3333cc"/>
                </a:solidFill>
                <a:latin typeface="Arial"/>
              </a:rPr>
              <a:t>Resume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826920" y="2349360"/>
            <a:ext cx="73915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Las lesiones son el resultado de un intercambio de energía entre la víctima y otros obje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Podremos anticipar la magnitud y tipo de lesiones con una buena historia y una cuidadosa observación de la escen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Puntos a recordar 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4652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916280"/>
            <a:ext cx="8280360" cy="53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ff"/>
                </a:solidFill>
                <a:latin typeface="Tahoma"/>
              </a:rPr>
              <a:t>La energía no  se crea ni se destruye, sólo se transforma </a:t>
            </a:r>
            <a:r>
              <a:rPr b="0" lang="es-ES_tradnl" sz="2000" spc="-1" strike="noStrike">
                <a:solidFill>
                  <a:srgbClr val="0000ff"/>
                </a:solidFill>
                <a:latin typeface="Tahoma"/>
              </a:rPr>
              <a:t>(Ley de conservación de la energí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ff"/>
                </a:solidFill>
                <a:latin typeface="Tahoma"/>
              </a:rPr>
              <a:t>Un cuerpo en reposo permanecerá en reposo y que un cuerpo en movimiento permanecerá en movimiento a menos que sobre ellos actúe una fuerza externa. </a:t>
            </a:r>
            <a:r>
              <a:rPr b="0" lang="es-ES_tradnl" sz="2000" spc="-1" strike="noStrike">
                <a:solidFill>
                  <a:srgbClr val="0000ff"/>
                </a:solidFill>
                <a:latin typeface="Tahoma"/>
              </a:rPr>
              <a:t>( Primera ley del movimiento de Newt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9640" y="476280"/>
            <a:ext cx="8280360" cy="45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Formula  de energía Cinéti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600" spc="-1" strike="noStrike">
                <a:solidFill>
                  <a:srgbClr val="ff0000"/>
                </a:solidFill>
                <a:latin typeface="Times New Roman"/>
              </a:rPr>
              <a:t>EC = ½ m v</a:t>
            </a:r>
            <a:r>
              <a:rPr b="0" lang="es-MX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12000" y="2909880"/>
            <a:ext cx="360360" cy="520560"/>
          </a:xfrm>
          <a:prstGeom prst="rect">
            <a:avLst/>
          </a:prstGeom>
          <a:noFill/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Intercambio de Energí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549440"/>
            <a:ext cx="82296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99"/>
                </a:solidFill>
                <a:latin typeface="Arial"/>
              </a:rPr>
              <a:t>Determina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Dónde y en qué dirección se produce el intercambio de energ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Cuanta energía afectó a la victima y en qué form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Factores a Analizar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20574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413000"/>
            <a:ext cx="7772400" cy="40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33cc"/>
                </a:solidFill>
                <a:latin typeface="Arial"/>
              </a:rPr>
              <a:t>Lesiones  en  relación  c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4800" spc="-1" strike="noStrike">
                <a:solidFill>
                  <a:srgbClr val="3333cc"/>
                </a:solidFill>
                <a:latin typeface="Arial"/>
              </a:rPr>
              <a:t>Energí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4800" spc="-1" strike="noStrike">
                <a:solidFill>
                  <a:srgbClr val="3333cc"/>
                </a:solidFill>
                <a:latin typeface="Arial"/>
              </a:rPr>
              <a:t>Anatomía</a:t>
            </a: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5T21:00:20Z</dcterms:created>
  <dc:creator>xgrove</dc:creator>
  <dc:description/>
  <dc:language>en-US</dc:language>
  <cp:lastModifiedBy>Ivo</cp:lastModifiedBy>
  <dcterms:modified xsi:type="dcterms:W3CDTF">2008-12-04T15:41:53Z</dcterms:modified>
  <cp:revision>164</cp:revision>
  <dc:subject/>
  <dc:title>CINEMATICA DEL TRAUMA</dc:title>
</cp:coreProperties>
</file>