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4.jpeg" ContentType="image/jpeg"/>
  <Override PartName="/ppt/media/image25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29.jpeg" ContentType="image/jpeg"/>
  <Override PartName="/ppt/media/image28.wmf" ContentType="image/x-wmf"/>
  <Override PartName="/ppt/media/image30.png" ContentType="image/png"/>
  <Override PartName="/ppt/media/image3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BF3-3106-4808-90A9-C20034DA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262-4230-4B7F-8DE2-91C4F567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DA8-4778-4684-835E-5A633A93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C60-A0E5-4AA6-B629-F38693D4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1C39-1497-4381-97A0-00683D0A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48E5-96C6-4C81-83CB-8E8F7E2C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69DC-EBD2-4562-B0FD-6C1A9B8D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D7FB-A00E-46B6-987F-9088FECD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6E38-1AFE-4F19-BD80-56FE60E3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98D2-EE38-4D80-8715-02C824A7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190C-6BEB-4B16-8C0B-3D0C8533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E57-0D7C-4EC5-8D1C-C5A76888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72B1-6882-45B5-9102-7D8E1EFF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474A-6BE7-4D89-9655-DB659B90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7373-3B0F-4BE8-B66B-3C53C090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6846-15C4-4528-98A6-F51C4DAF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BBCB-216E-4E83-9B0B-A3A2B190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94F-4E19-4226-94FD-27DA47CF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940-5D03-46B6-888A-A88415DC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166-F37E-45E2-96A2-ED9E08C8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FB8-3085-412D-8D1A-A5E0CBF4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1CD-EAF4-4E12-85C4-04A7E14B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BF3-8A7F-4DEF-AC2B-F9C257E0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11A-966F-473D-BC32-EF8E2120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7F8A-FBDE-418B-8734-4059E163489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062B-C5A6-4DCD-AADD-DBB8A2828A4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inemática del Trau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avitació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3867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0000" y="979560"/>
            <a:ext cx="6264000" cy="489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26028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vi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2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328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Herida por arma blan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19280" y="1195560"/>
            <a:ext cx="6769080" cy="44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2400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Herida por ba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709" t="555" r="709" b="555"/>
          <a:stretch/>
        </p:blipFill>
        <p:spPr>
          <a:xfrm>
            <a:off x="-541440" y="2492280"/>
            <a:ext cx="3726000" cy="4776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iones por cambio de veloc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05264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00"/>
                </a:solidFill>
                <a:latin typeface="Arial"/>
              </a:rPr>
              <a:t>Órgano sigue desplazándose traccionando ligamento o vas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000" y="5774400"/>
            <a:ext cx="1142280" cy="41400"/>
          </a:xfrm>
          <a:prstGeom prst="line">
            <a:avLst/>
          </a:prstGeom>
          <a:ln w="1620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198440"/>
            <a:ext cx="30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tención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brus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5029200"/>
            <a:ext cx="762120" cy="685800"/>
          </a:xfrm>
          <a:prstGeom prst="leftArrow">
            <a:avLst>
              <a:gd name="adj1" fmla="val 50000"/>
              <a:gd name="adj2" fmla="val 2778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1052640"/>
            <a:ext cx="431640" cy="1008000"/>
          </a:xfrm>
          <a:custGeom>
            <a:avLst/>
            <a:gdLst>
              <a:gd name="textAreaLeft" fmla="*/ 0 w 431640"/>
              <a:gd name="textAreaRight" fmla="*/ 155880 w 431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709" t="555" r="709" b="555"/>
          <a:stretch/>
        </p:blipFill>
        <p:spPr>
          <a:xfrm>
            <a:off x="2627280" y="2494080"/>
            <a:ext cx="3708360" cy="475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709" t="555" r="709" b="555"/>
          <a:stretch/>
        </p:blipFill>
        <p:spPr>
          <a:xfrm>
            <a:off x="5796000" y="2567160"/>
            <a:ext cx="359568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3641" r="0" b="0"/>
          <a:stretch/>
        </p:blipFill>
        <p:spPr>
          <a:xfrm>
            <a:off x="-685800" y="482760"/>
            <a:ext cx="11658600" cy="6554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iones por cambio de veloc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9000" y="266688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48400" y="1825560"/>
            <a:ext cx="200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le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iz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c0321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709" t="24901" r="709" b="555"/>
          <a:stretch/>
        </p:blipFill>
        <p:spPr>
          <a:xfrm>
            <a:off x="5241960" y="2781360"/>
            <a:ext cx="5018040" cy="4849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709" t="555" r="709" b="555"/>
          <a:stretch/>
        </p:blipFill>
        <p:spPr>
          <a:xfrm>
            <a:off x="1746360" y="4125960"/>
            <a:ext cx="2320920" cy="297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523880" y="1393920"/>
            <a:ext cx="2590920" cy="20350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lisión vehículos motoriz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495680"/>
            <a:ext cx="380880" cy="152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4495680"/>
            <a:ext cx="380880" cy="152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241400">
            <a:off x="8521560" y="5181480"/>
            <a:ext cx="1243080" cy="398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80823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5562720"/>
            <a:ext cx="76320" cy="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5486400"/>
            <a:ext cx="7632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ffff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241400">
            <a:off x="3187800" y="5867280"/>
            <a:ext cx="54612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80823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3733920"/>
            <a:ext cx="2743200" cy="3124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2819520"/>
            <a:ext cx="2895840" cy="28954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6324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749600">
            <a:off x="3276360" y="5715000"/>
            <a:ext cx="873000" cy="262080"/>
          </a:xfrm>
          <a:prstGeom prst="leftArrow">
            <a:avLst>
              <a:gd name="adj1" fmla="val 50000"/>
              <a:gd name="adj2" fmla="val 8327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36576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371600"/>
            <a:ext cx="762120" cy="17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1</a:t>
            </a:r>
            <a:endParaRPr b="0" lang="en-US" sz="2400" spc="1" strike="noStrike">
              <a:ln w="5724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4343400"/>
            <a:ext cx="91440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336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2</a:t>
            </a:r>
            <a:endParaRPr b="0" lang="en-US" sz="2400" spc="1" strike="noStrike">
              <a:ln w="6336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352680"/>
            <a:ext cx="6858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3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os de Prot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29528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Deformación progres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Barras lat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Ca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Cinturón de 3 pu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Bolsa de 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886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acto fr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492280"/>
            <a:ext cx="7239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tención del movimiento hacia del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uerpo sin suje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Hacia abajo y adel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Hacia arriba y al f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Importancia del Cinturón de tres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09680" y="-36828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37000"/>
            <a:ext cx="8534520" cy="39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Analizar accid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y determinar  dañ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egún movim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y fuerz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involucrados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82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Impacto frontal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splazamiento hacia delante y abajo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6162" t="2990" r="0" b="0"/>
          <a:stretch/>
        </p:blipFill>
        <p:spPr>
          <a:xfrm>
            <a:off x="2556000" y="1341360"/>
            <a:ext cx="4782960" cy="5105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5796" t="0" r="5796" b="0"/>
          <a:stretch/>
        </p:blipFill>
        <p:spPr>
          <a:xfrm>
            <a:off x="3203640" y="1484280"/>
            <a:ext cx="5176800" cy="5257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6323" t="0" r="10538" b="0"/>
          <a:stretch/>
        </p:blipFill>
        <p:spPr>
          <a:xfrm>
            <a:off x="3156120" y="2022480"/>
            <a:ext cx="480060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82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Impacto frontal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splazamiento hacia delante y abajo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6162" t="2990" r="0" b="0"/>
          <a:stretch/>
        </p:blipFill>
        <p:spPr>
          <a:xfrm>
            <a:off x="0" y="1052640"/>
            <a:ext cx="2841480" cy="3033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5796" t="0" r="5796" b="0"/>
          <a:stretch/>
        </p:blipFill>
        <p:spPr>
          <a:xfrm>
            <a:off x="2786040" y="2354400"/>
            <a:ext cx="3233880" cy="3284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rcRect l="6323" t="0" r="10538" b="0"/>
          <a:stretch/>
        </p:blipFill>
        <p:spPr>
          <a:xfrm>
            <a:off x="6019920" y="3664080"/>
            <a:ext cx="320040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72"/>
            </a:gs>
            <a:gs pos="100000">
              <a:srgbClr val="00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907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Impacto Frontal</a:t>
            </a:r>
            <a:br>
              <a:rPr sz="5400"/>
            </a:b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Desplazamiento hacia adelante y arriba.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3440" y="2282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Impacto posterior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19920" y="50292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80000" y="-2979720"/>
            <a:ext cx="9937440" cy="896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525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Arial"/>
              </a:rPr>
              <a:t>Impacto</a:t>
            </a:r>
            <a:r>
              <a:rPr b="1" lang="es-ES_tradnl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5400" spc="-1" strike="noStrike">
                <a:solidFill>
                  <a:srgbClr val="3333cc"/>
                </a:solidFill>
                <a:latin typeface="Arial"/>
              </a:rPr>
              <a:t>lateral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68560"/>
            <a:ext cx="3809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Vehículo permanece en el lug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por compresión y aplastamiento 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4760" y="5105520"/>
            <a:ext cx="193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Cintur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podr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provoc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Arial"/>
              </a:rPr>
              <a:t>más d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133720" y="635040"/>
            <a:ext cx="4673520" cy="6832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124080" y="685800"/>
            <a:ext cx="3429000" cy="6832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362320" y="2666880"/>
            <a:ext cx="137160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5029200"/>
            <a:ext cx="68580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439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Impacto lateral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620640"/>
            <a:ext cx="792504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 el vehículo es desplazado</a:t>
            </a: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Vehículo se mueve debajo de la víctima alejándose del impacto y arrastránd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Arial"/>
              </a:rPr>
              <a:t>Lesiones por flexión lateral y rotación de la columna cervical por colis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4508640"/>
            <a:ext cx="934920" cy="504720"/>
          </a:xfrm>
          <a:prstGeom prst="leftArrow">
            <a:avLst>
              <a:gd name="adj1" fmla="val 50000"/>
              <a:gd name="adj2" fmla="val 4630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80360" y="3284640"/>
            <a:ext cx="1079280" cy="64764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e4a8"/>
          </a:soli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Impacto rotacional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514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mpacto lateral sobre un vehículo en mov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ombinación de lesiones de impacto frontal y 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Volcamiento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557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ombinación de mecanismos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286000"/>
            <a:ext cx="9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Gran transferencia de energ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05920" y="6315120"/>
            <a:ext cx="838080" cy="542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372600" cy="5170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60720" y="907920"/>
            <a:ext cx="44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Lesiones de cualquier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Expulsión del ocupante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1197000"/>
            <a:ext cx="716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27% de muertes traumáticas por esta ca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5080" y="2492280"/>
            <a:ext cx="56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8% presentan fractura de colum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149040" y="3452760"/>
            <a:ext cx="9016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Lesiones por choque contra el vehículo y al ca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Medios de contenció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2060640"/>
            <a:ext cx="71629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inturón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ebe tener componente diagonal y transverso Adecuadamente posicionado       ( abarcar partes óseas de pelvis y de tór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Bolsas de ai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Absorben energía en impactos frontales y 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No deben ser usados con ni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2742840"/>
            <a:ext cx="6945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Buena  histori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    Análisis escena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+  interpretación adecuad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     INDICE DE SOSPECHA</a:t>
            </a:r>
            <a:br>
              <a:rPr sz="48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4005360"/>
            <a:ext cx="633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inturón de seguridad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568680" cy="4952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419720" y="2276640"/>
            <a:ext cx="4724280" cy="3674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067280" y="533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92360" y="1252440"/>
            <a:ext cx="575928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Motocicleta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453" t="651" r="912" b="651"/>
          <a:stretch/>
        </p:blipFill>
        <p:spPr>
          <a:xfrm>
            <a:off x="76320" y="1895400"/>
            <a:ext cx="789120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99072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Lesiones peatonal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657600" cy="2955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7083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056360" cy="45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405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57160" y="213840"/>
            <a:ext cx="29797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aída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1295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Lesiones por impactos múltiples influidos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Altura    (sobre 3 altos lesiones grave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Superficie de choque   (compresibil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Zona  corporal de imp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aída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153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Caídas sobre pi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057400"/>
            <a:ext cx="76201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uni o bilateral de calcán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o luxación de cad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por compresión columna dorsal o                 lum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ractura de Colles 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36360" y="-531720"/>
            <a:ext cx="6011640" cy="7389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80000" y="-218772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rcRect l="12344" t="0" r="0" b="0"/>
          <a:stretch/>
        </p:blipFill>
        <p:spPr>
          <a:xfrm>
            <a:off x="5364000" y="0"/>
            <a:ext cx="5051520" cy="695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4211640" y="0"/>
          <a:ext cx="205740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0"/>
                    <a:ext cx="2057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08000" y="4941720"/>
            <a:ext cx="762012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DEPORTES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Lesiones variadas  segú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ecanismos involuc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76680" y="4568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Lesiones por explos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057400"/>
            <a:ext cx="83055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esentan tres tipos de le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prim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producidas por onda de presión                           Afectan órganos con gas como pulmones o   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stino                                                         Lesiones a nivel SNC                                               Quema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serias y muchas veces pasan desapercib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057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92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actores pre-trau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94680" y="3429000"/>
            <a:ext cx="39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Punto de impa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120" y="4437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uanta es la  energía que está  involucrada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270400"/>
            <a:ext cx="9612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Dónde y en qué direc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se  produce el intercambio de energía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80" y="772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Analizar :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Lesiones por explos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060640"/>
            <a:ext cx="83055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secund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las producidas por el impacto de sólidos (vidrios, perdigones, fragmentos metálicos,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oducen laceraciones,quemaduras, fractura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8120" y="42228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Lesiones por explos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447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7524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1916280"/>
            <a:ext cx="83059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esiones terci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Son aquellas producidas por la proyección de la víctima contra un objeto o sue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oducen  contusiones,  laceraciones,  quemaduras, fractura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505320" y="4502160"/>
          <a:ext cx="45482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02160"/>
                    <a:ext cx="45482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038480" y="4984920"/>
          <a:ext cx="37339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984920"/>
                    <a:ext cx="3733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Arial"/>
              </a:rPr>
              <a:t>Resume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2349360"/>
            <a:ext cx="73915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as lesiones son el resultado de un intercambio de energía entre la víctima y otros obje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odremos anticipar la magnitud y tipo de lesiones con una buena historia y una cuidadosa observación de la esce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Puntos a recordar 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4652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916280"/>
            <a:ext cx="828036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ff"/>
                </a:solidFill>
                <a:latin typeface="Tahoma"/>
              </a:rPr>
              <a:t>La energía no  se crea ni se destruye, sólo se transforma </a:t>
            </a: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(Ley de conservación de la energí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ff"/>
                </a:solidFill>
                <a:latin typeface="Tahoma"/>
              </a:rPr>
              <a:t>Un cuerpo en reposo permanecerá en reposo y que un cuerpo en movimiento permanecerá en movimiento a menos que sobre ellos actúe una fuerza externa. </a:t>
            </a: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( Primera ley del movimiento de New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476280"/>
            <a:ext cx="828036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Formula  de energía Cinét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600" spc="-1" strike="noStrike">
                <a:solidFill>
                  <a:srgbClr val="ff0000"/>
                </a:solidFill>
                <a:latin typeface="Times New Roman"/>
              </a:rPr>
              <a:t>EC = ½ m v</a:t>
            </a:r>
            <a:r>
              <a:rPr b="0" lang="es-MX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2000" y="2909880"/>
            <a:ext cx="360360" cy="520560"/>
          </a:xfrm>
          <a:prstGeom prst="rect">
            <a:avLst/>
          </a:prstGeom>
          <a:noFill/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Intercambio de Energí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49440"/>
            <a:ext cx="8229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Arial"/>
              </a:rPr>
              <a:t>Determin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Dónde y en qué dirección se produce el intercambio de energ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Cuanta energía afectó a la victima y en qué form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Factores a Analizar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057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413000"/>
            <a:ext cx="7772400" cy="40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Lesiones  en  relación  c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Energí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4800" spc="-1" strike="noStrike">
                <a:solidFill>
                  <a:srgbClr val="3333cc"/>
                </a:solidFill>
                <a:latin typeface="Arial"/>
              </a:rPr>
              <a:t>Anatomía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21:00:20Z</dcterms:created>
  <dc:creator>xgrove</dc:creator>
  <dc:description/>
  <dc:language>en-US</dc:language>
  <cp:lastModifiedBy>Ivo</cp:lastModifiedBy>
  <dcterms:modified xsi:type="dcterms:W3CDTF">2008-12-04T15:41:53Z</dcterms:modified>
  <cp:revision>164</cp:revision>
  <dc:subject/>
  <dc:title>CINEMATICA DEL TRAUMA</dc:title>
</cp:coreProperties>
</file>