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wmf" ContentType="image/x-wmf"/>
  <Override PartName="/ppt/media/image28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780588" cy="6648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74E-5667-450A-831C-4102251A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80E-7013-486F-B46D-17EB01B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360-252D-448D-AECD-CFFC494F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B83-2ED7-49B1-963B-4B426D0A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3CC-F2BC-4F6F-9A05-65426D1B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43B5-785B-40E8-B4D9-3E6BF48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43F4-53F5-4801-A449-777C3940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0E6-1E34-4F25-B02C-5CB63C6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547E-1148-41AD-90BD-4EA7646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8AE-811C-475A-95E4-9E01395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88CD-1120-471E-85CC-3EE0EE6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448-09B6-4922-BF5D-B9D1EAB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1C0-7CD7-4560-8AF0-3959192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1B64-D7C4-4E50-AC03-39EAF5E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C39F-F3D4-438C-B904-3EF35576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CE7F-701B-4B9C-99E3-294ED93A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5AB9-6EBA-46C5-8CA3-9A054A74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8F8-C6BF-4A5A-9AEA-A349EEB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85C-0051-4572-A0FD-DE1A712B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24B-5BE7-4FCF-9212-52543BF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5FB-E68E-4148-B35F-8BA9412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FE5-91C5-4FB0-BA85-F0CAB743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9E9-3287-40C3-B6ED-5A6EAEF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EC3-FB7B-4C81-A266-4154EC5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9B7-3BBB-4825-A151-33229122FCD7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AE3B-347C-4E17-8088-1DABD6E015A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ns-2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3581280" cy="2444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7920" y="609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RTOPUNZA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72428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fesora Mónica Acuñ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rec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lizabeth Quint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pervisora Prevencionista de 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77940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objetos cortopunzantes, inmediatamente después de utilizados se depositarán en recipientes de plástico con tapa, con una amplia abertura a manera de alcancía, que impida la introducción de las manos.Utilice SIEMPRE un recipiente plástico entregado por la Unidad de Biosegu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e el nivel de llenado para decidir si es necesario reemplazar el recipi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ga siempre las precauciones universales al manipular cualquier material potencialmente contamin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ve sus manos y utilice el equipo de protección personal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e  guantes y bata cerrada en atención de pacientes que se exponen a fluidos corporales contamin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permita que los pacientes y visitantes usen  el recipiente de objeto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topunz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mo receptáculo o percha para sus artículos pers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toque, golpee, sacuda o movilice el recipiente por ninguna raz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coloque ningún objeto sobre el recip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recipientes descartadores deben estar lo más próximo posible al área de trabaj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no l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loque en áreas donde puedan ser trope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dentificación clara y visible de las muestras extraídas a pacientes confirmado con hepatitis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mpieza inmediata de las superficies contaminadas con sangre o flu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debe quitar la aguja de la jeringa antes de tirarl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reencapucha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oblar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romperlas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debe colocar el capuchón protector debe desecharse en el mismo momento en que se retira de la aguja estér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unca guarde agujas en los bolsillos o las deje en lugares donde no se puedan ver clarament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viar muestras fuera del laboratorio se debe empacar el tubo en otro recipiente que sea resistente de tal manera que en caso de quebrarse el mensajero o la persona implicada no tenga riesgo de contamina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Asimismo la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uestras no deberán ser procesadas por personal en embarazo, personal con lesiones cutáneas, o personal con inmunodeficiencia o inmunosupres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tub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lead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líquidos orgánicos deben estar en óptimas condiciones, con bordes íntegros para evitar accid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pón de caucho que ajuste bien par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vita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rr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urante el transporte o área de procesa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desechar elementos pun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rtantes en bolsas de basura, cajas o contenedores que no sean resistentes a puncion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ificación de todo accidente o incidente al jefe directo del laboratorio con copia a la Unidad de Bioseguridad con el fin de corregir los riesgos aso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971800" y="1752480"/>
            <a:ext cx="586728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Eras Bk BT"/>
              </a:rPr>
              <a:t>Si durante algún procedimiento, las manos o la piel de las personas entrará en contacto con sangre o fluidos corporales de alto riesgo, éstas deben lavarse de inmediato, con abundante agua y jab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Eras Bk BT"/>
              </a:rPr>
              <a:t>Lavar la piel con abundante agua y jab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Eras Bk BT"/>
              </a:rPr>
              <a:t>En caso de mucosas, lavar con suero fisiológico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Eras Bk BT"/>
              </a:rPr>
              <a:t>¡Mantener la calm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2274840" cy="3048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895480" y="762120"/>
            <a:ext cx="3200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Eras Bk BT"/>
              </a:rPr>
              <a:t>IMPORTA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VADO DE MAN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6696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143000" y="2514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ire de sus manos reloj, pulseras y anillos.Moje sus manos y tome solución de jabón del frasco dispersados. Júntelas y frote las 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669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algun material potencialmente infeccioso alcanza sus manos, mientras más rápido se lave, menor será el riesgo de que sea contami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914400" cy="11635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219320" y="3581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que la palma de la mano derecha sobre la parte posterior de la izquierda y frótese. Luego haga lo mismo a la in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228600" y="4419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301040" y="4800600"/>
            <a:ext cx="49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ótese las palmas con los dedos entrela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28600" y="5562720"/>
            <a:ext cx="914400" cy="993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295280" y="5791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ótese la parte posterior de los dedos con la palma de la mano derecha e izquierda,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143000" y="68580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BARRERAS PROTECT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3809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849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Guantes de goma o plás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849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Mascari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849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Anteojos protec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849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Pechera p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898880" y="4191120"/>
            <a:ext cx="1300320" cy="14475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7086600" y="5105520"/>
            <a:ext cx="1566720" cy="10382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6400800" y="1905120"/>
            <a:ext cx="1676520" cy="30477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04920" y="167652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Deben usarse rutinariamente“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barreras protectora</a:t>
            </a:r>
            <a:r>
              <a:rPr b="1" lang="es-ES_tradnl" sz="1800" spc="-1" strike="noStrike">
                <a:solidFill>
                  <a:srgbClr val="38492d"/>
                </a:solidFill>
                <a:latin typeface="Arial"/>
              </a:rPr>
              <a:t>”para evitar que la piel del personal del equipo de salud tomen contacto con sangre o fluidos corporales de alto riesgo, de cualquier pac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752480" y="304920"/>
            <a:ext cx="66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USO DE GUANTES  Y  PROTECCIÓN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5238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guantes de goma o plástico deben ser usado en cada procedimiento en el cual se manipule sangre u otro fluido corporal de alto riesgo. Estos deben cambiarse cada vez que se romp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579760" cy="16714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6095880" y="4114800"/>
            <a:ext cx="1905120" cy="17096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33520" y="4114800"/>
            <a:ext cx="44193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o de mascarill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ojos protector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hera plástica estos deben usarse en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os los procedimientos en los c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produce salpicaduras con sangre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2286000"/>
            <a:ext cx="144792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RMAS DE LOS LOS E.P.P. (ELEMENTOS DE PROTECCIÓN PERS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E.P.P. deben ser los apropiados para las  tareas que se desarrollan, y Ud. debe usarlos siempre que sea necesario: calzado de seguridad, cubre calzado de entretela, Cofia, Barbijo, Protección ocular, Guantes de ciru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tes de retirarse del área de trabajo, quítese los EPP y colóquelos en el lugar designado o en el contenedor para su lavado, descontaminación o desech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delantal es de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uso exclusivo</a:t>
            </a:r>
            <a:r>
              <a:rPr b="0" lang="es-ES_tradn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el laboratorio. Deberá cambiar su delantal cada vez que sale del área contaminada (Ejemplo casin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foto4" descr=""/>
          <p:cNvPicPr/>
          <p:nvPr/>
        </p:nvPicPr>
        <p:blipFill>
          <a:blip r:embed="rId2"/>
          <a:stretch/>
        </p:blipFill>
        <p:spPr>
          <a:xfrm>
            <a:off x="3276720" y="4800600"/>
            <a:ext cx="1981080" cy="169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LAVADO DE ROPA Y SÍMBOLO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49568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opa sucia debe colocarse en bolsas codificadas, es decir, que se conozca el contenido rotuladas. Estas deben ser a pruebas de filt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bolsas siempre deben ser acompañados por una etiqueta de identificación, de manera que se pueda saber cuál es su conteni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1218960" cy="1187280"/>
          </a:xfrm>
          <a:prstGeom prst="rect">
            <a:avLst/>
          </a:prstGeom>
          <a:ln w="0">
            <a:noFill/>
          </a:ln>
        </p:spPr>
      </p:pic>
      <p:pic>
        <p:nvPicPr>
          <p:cNvPr id="458" name="osha3134-simbolo" descr="RIESGO BIOLOGICO"/>
          <p:cNvPicPr/>
          <p:nvPr/>
        </p:nvPicPr>
        <p:blipFill>
          <a:blip r:embed="rId3"/>
          <a:stretch/>
        </p:blipFill>
        <p:spPr>
          <a:xfrm>
            <a:off x="6248520" y="3809880"/>
            <a:ext cx="1104840" cy="110016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04920" y="1600200"/>
            <a:ext cx="8610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ipular la ropa sucia es una tarea peligrosa. Recuerde que la ropa sucia puede estar contaminada, por ello, tenga en cuanta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TENEDOR CORTOPUNZANTES O DESCARTADORES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162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 considera descartadores al recipiente donde se deposita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materiales corto-punzant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l recipiente debe ser  a prueba de perforaciones de envase, plástico o metá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2920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696080" y="1600200"/>
          <a:ext cx="120168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1600200"/>
                    <a:ext cx="1201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228600" y="30481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acterísticas del conten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920" y="3429000"/>
            <a:ext cx="8458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en  ser ríg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 polietilen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istentes a fracturas y pérdida del contenido al caer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truibles por medios fisicoquímic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ner tap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 una 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rtura  para depósito con dispositivo para cierre segu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iquetados con la leyenda 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LIGRO, RESIDUOS PUNZ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RTANTES BIOLOGICO-INFECCIOS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 y  el símbolo universal de riesgo biológ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a vez llenos los recipientes no deben ser abiertos o vaciados, deben cambiarse por uno nuevo en la Unidad de Bio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1981080"/>
            <a:ext cx="7848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iendo la evidencia que existen varias enfermedades cuya vía de transmisión es la sangre; Ej. SIDA, hepatitis, entre otras,  y como el SIDA va en aumento, ha sido necesario establecer medidas para proteger a los funcionarios académicos y no académicos alumnos de pre y post grado de la Facultad de Medicina 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57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EJO CONTENEDORE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N EL TRASLADO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s descartadores no deben bajo ninguna circunstancia ser reuti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porte el recipiente de desecho de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rtopunzant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erca de su cuerpo. Por ejemplo, debajo de su brazo o como si se tratara de un lib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ben ser de color rojo y tener el símbolo de material infectante o riesgo biológ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isualizarlo desde cualquier 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esec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ementos punz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tantes en bolsas de basur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 bajo esp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debe haber material sobresaliente en ell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si este sobrepasa las ¾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partes deberá asegurarse c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u tap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original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tela adhesiva antes de ser eli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el interior del laboratorio debe contar con u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sucia par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bicarlos transitoriamente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ersonal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cargado d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o debe saber identificar los contenedores y debe manipularlos bajo las normas de segur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via capacitación para el manejo de estos por el jefe del laboratori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ersonal de aseo debe usar guantes gruesos para manipular basura,  lavarse las manos después de quitarse los gu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IDENTES CON CORTOPUNZANTE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os pinchazos son accidentes comunes que ocurren en los laboratorios y que ocasionan infecciones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uede ocurrir por un microtraumatismo de la piel con agujas hipodérmicas, hojas de bisturí, ampollas rotas, etc., o la exposición de heridas previas a instrumental o desechos contaminad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os factores de riesgo 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a cantidad de material inocu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a susceptibilidad del hué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a profundidad del traumatis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existencia de lesiones previas en la pie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a distribución de accidentes con objetos cortopunzantes, ocurre en el siguiente or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ntes de desecharlo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 50.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urante su uso  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 29.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ientras se desecha 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 12.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spués de desecharlo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:   7.6 %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CIDENTES CON CORTOPUNZAN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ident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abandon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 aquel que ocurre con material que no fue descartado en el lugar de eliminación, por ejemplo, basurero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sechos domésticos,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uelo y su origen es desconocido al igual que la presencia de fluido corporal de ries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identes por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de vidrio durante el la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ringas, frascos, material de laborato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idente por 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minación de agujas por envases de descartes lle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e deb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que los envases se encuentran llenos de material cortopunzante y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xcede la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¾ part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 su capac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 transito 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ción d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s el accidente que ocurre por existir depósitos de descarte muy  lejos del paciente (interior laborato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ificaci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 del accidente del trabaj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unciar enseguida el accidente a la jefatura correspondiente. Hacer informe interno de identificación del accidente, para respaldar el a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jefatura debe derivar al Afectado al Servicio de Urgencia ( agente de ACHS) a la menor brevedad posible. Procurar identificar la FUENTE para aportar antecedentes  al médico (muestra de sang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lenar el Formulario DI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Personal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entregar al trabajador la copia correspondiente. Este documento permite reconocerlo como Accidente del Trabajo para el efecto de la Ley 16.744 con lo cual tiene derecho a las prestaciones establecidas en ell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sonas protegidas por la LEY 16.7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odo trabajador dependiente que forma parte del personal de salud, profesional y no profesio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rabajador por cuenta propia está protegido de acuerdo a su seguro de salud común; no está protegido por la Ley 16.74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Esta Ley no incluye alumnos de pre y post grado.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240" y="14475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JO-GRAMA ACCIDENTES DE RIESGO BIOLÓG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04920" y="2994120"/>
          <a:ext cx="8534160" cy="225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994120"/>
                    <a:ext cx="853416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419720" y="0"/>
          <a:ext cx="798480" cy="1447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0"/>
                    <a:ext cx="798480" cy="1447920"/>
                  </a:xfrm>
                  <a:prstGeom prst="rect">
                    <a:avLst/>
                  </a:prstGeom>
                  <a:ln w="9360">
                    <a:solidFill>
                      <a:srgbClr val="6666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09480" y="4724280"/>
            <a:ext cx="7696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LA PREVENCIÓN DE RIESGOS ES TAREA DE TODOS, PROTEGER AL PRINCIPAL ACTIVO DE LA EMPRE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¿QUIE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“ </a:t>
            </a: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TODOS NOSOTROS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6765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  <a:ea typeface="Arial Unicode MS"/>
              </a:rPr>
              <a:t>COMO PRECAUCIÓN, TODO EL PERSONAL QUE ESTÉ EN RIESGO DE EXPOSICIÓN A SANGRE U OTROS FLUIDOS CORPORALES DEBE SER VACUNADO CONTRA LA HEPATITIS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1240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TENER EN CUENTA TODOS LOS CUIDADOS PREVENTIVOS PARA EVITAR EL CONTACTO CON AGENTES INFECCIOSOS, PERMITE CUIDAR NUESTRA SALUD Y LA DE AQUELLOS QUE NOS ROD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85800" y="205740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“</a:t>
            </a:r>
            <a:r>
              <a:rPr b="1" i="1" lang="es-C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L ACCESO A LOS LABORATORIOS QUE MANEJAN MATERIALES PELIGROSOS ( RIESGOS BIOLÓGICOS, QUÍMICOS Y FÍSICOS) DEBE SER RESTRINGIDO INCLUYENDO FAMILIARES Y AMIGOS, EXCEPTO PARA EL PERSONAL QUE TRABAJA O QUE SE DESEMPEÑA EN ESTOS LABORATORIOS. CUALQUIER OTRA PERSONA QUE DEBA HACER INGRESO EN ELLOS DEBE CONTAR CON LA AUTORIZACIÓN EXPLÍCITA DEL  DIRECTOR, JEFE  O ENCARGADO GENERAL</a:t>
            </a:r>
            <a:r>
              <a:rPr b="1" i="1" lang="es-ES_tradn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”</a:t>
            </a:r>
            <a:r>
              <a:rPr b="1" i="1" lang="es-CL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66880" y="47304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ROPÓSITO  Y OBJETIV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731960"/>
            <a:ext cx="83818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Eras Bd BT"/>
              </a:rPr>
              <a:t>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Eras Bd BT"/>
              </a:rPr>
              <a:t>Reducir la incidencia de accidentes cortopunzantes que pueden ocurrir a los funcionarios de la Facultad de Medicina, Universidad de Chile y lograr establecer una respuesta adecuada y oportuna ante este tipo de accidentes para minimizar sus consecu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Eras Bd BT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Eras Bd BT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Eras Bd BT"/>
              </a:rPr>
              <a:t>Lograr que el personal y alumnos conozcan el tema, para prevenir accidentes como cortarse, pincharse con objetos contaminados, con sangre u otros fluidos corporales potencialmente infectado con virus de la inmunodeficiencia humana(VIH), virus de la hepatitis B, entre otros.</a:t>
            </a:r>
            <a:r>
              <a:rPr b="0" lang="es-ES_tradnl" sz="1800" spc="-1" strike="noStrike">
                <a:solidFill>
                  <a:srgbClr val="000000"/>
                </a:solidFill>
                <a:latin typeface="Eras B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FLUIDOS CORPO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55627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3048120"/>
            <a:ext cx="28400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ALTO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ang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íquidos con sangre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creciones vagi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odos los tej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819520" y="4038480"/>
            <a:ext cx="2023920" cy="136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38680" y="2895480"/>
            <a:ext cx="3505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 Narrow"/>
              </a:rPr>
              <a:t>BAJO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Depo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Secreciones na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Expect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Transpi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O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Vómitos</a:t>
            </a:r>
            <a:r>
              <a:rPr b="1" i="1" lang="es-ES_tradnl" sz="2400" spc="-1" strike="noStrike">
                <a:solidFill>
                  <a:srgbClr val="000000"/>
                </a:solidFill>
                <a:latin typeface="Eras Bk BT"/>
              </a:rPr>
              <a:t>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315200" y="4495680"/>
            <a:ext cx="1828800" cy="7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955880" cy="2819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1447920"/>
            <a:ext cx="6172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o fortuito que produce una lesión traumática de la piel o mucosa, ocurrido en diferentes circunstancias, tales como, procedimientos clínicos,  limpieza de material y eliminación de desech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76720"/>
            <a:ext cx="8381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os de transmis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agentes patógenos de la sangre pueden entrar en su cuerpo e infectarlo por diferentes med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herida accidental ocasionada por un objeto corto-punzante contaminado con material infeccioso.En este grupo se encuentra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gu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jas Bistur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d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strumental quirúrg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715000" y="4632480"/>
            <a:ext cx="1905120" cy="79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620120" y="4876920"/>
            <a:ext cx="12826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4766400" y="5038560"/>
            <a:ext cx="2355120" cy="1629000"/>
            <a:chOff x="4766400" y="5038560"/>
            <a:chExt cx="2355120" cy="1629000"/>
          </a:xfrm>
        </p:grpSpPr>
        <p:grpSp>
          <p:nvGrpSpPr>
            <p:cNvPr id="101" name=""/>
            <p:cNvGrpSpPr/>
            <p:nvPr/>
          </p:nvGrpSpPr>
          <p:grpSpPr>
            <a:xfrm>
              <a:off x="4766400" y="5038560"/>
              <a:ext cx="2199240" cy="1533960"/>
              <a:chOff x="4766400" y="5038560"/>
              <a:chExt cx="2199240" cy="1533960"/>
            </a:xfrm>
          </p:grpSpPr>
          <p:sp>
            <p:nvSpPr>
              <p:cNvPr id="102" name=""/>
              <p:cNvSpPr/>
              <p:nvPr/>
            </p:nvSpPr>
            <p:spPr>
              <a:xfrm rot="1833000">
                <a:off x="4899240" y="5570640"/>
                <a:ext cx="1972440" cy="6840"/>
              </a:xfrm>
              <a:custGeom>
                <a:avLst/>
                <a:gdLst/>
                <a:ahLst/>
                <a:rect l="l" t="t" r="r" b="b"/>
                <a:pathLst>
                  <a:path w="1979" h="2">
                    <a:moveTo>
                      <a:pt x="1979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968" y="0"/>
                    </a:lnTo>
                    <a:lnTo>
                      <a:pt x="1970" y="0"/>
                    </a:lnTo>
                    <a:lnTo>
                      <a:pt x="1971" y="0"/>
                    </a:lnTo>
                    <a:lnTo>
                      <a:pt x="1973" y="0"/>
                    </a:lnTo>
                    <a:lnTo>
                      <a:pt x="1973" y="0"/>
                    </a:lnTo>
                    <a:lnTo>
                      <a:pt x="1974" y="0"/>
                    </a:lnTo>
                    <a:lnTo>
                      <a:pt x="1976" y="0"/>
                    </a:lnTo>
                    <a:lnTo>
                      <a:pt x="1978" y="0"/>
                    </a:lnTo>
                    <a:lnTo>
                      <a:pt x="1979" y="2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833000">
                <a:off x="4894560" y="5569920"/>
                <a:ext cx="1979280" cy="10440"/>
              </a:xfrm>
              <a:custGeom>
                <a:avLst/>
                <a:gdLst/>
                <a:ahLst/>
                <a:rect l="l" t="t" r="r" b="b"/>
                <a:pathLst>
                  <a:path w="1986" h="3">
                    <a:moveTo>
                      <a:pt x="1986" y="3"/>
                    </a:moveTo>
                    <a:lnTo>
                      <a:pt x="0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72" y="0"/>
                    </a:lnTo>
                    <a:lnTo>
                      <a:pt x="1974" y="0"/>
                    </a:lnTo>
                    <a:lnTo>
                      <a:pt x="1975" y="0"/>
                    </a:lnTo>
                    <a:lnTo>
                      <a:pt x="1978" y="0"/>
                    </a:lnTo>
                    <a:lnTo>
                      <a:pt x="1980" y="0"/>
                    </a:lnTo>
                    <a:lnTo>
                      <a:pt x="1982" y="2"/>
                    </a:lnTo>
                    <a:lnTo>
                      <a:pt x="1983" y="2"/>
                    </a:lnTo>
                    <a:lnTo>
                      <a:pt x="1985" y="2"/>
                    </a:lnTo>
                    <a:lnTo>
                      <a:pt x="1986" y="3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833000">
                <a:off x="4888800" y="5575680"/>
                <a:ext cx="1984320" cy="9720"/>
              </a:xfrm>
              <a:custGeom>
                <a:avLst/>
                <a:gdLst/>
                <a:ahLst/>
                <a:rect l="l" t="t" r="r" b="b"/>
                <a:pathLst>
                  <a:path w="1991" h="3">
                    <a:moveTo>
                      <a:pt x="6" y="0"/>
                    </a:moveTo>
                    <a:lnTo>
                      <a:pt x="1985" y="0"/>
                    </a:lnTo>
                    <a:lnTo>
                      <a:pt x="1985" y="0"/>
                    </a:lnTo>
                    <a:lnTo>
                      <a:pt x="1987" y="0"/>
                    </a:lnTo>
                    <a:lnTo>
                      <a:pt x="1987" y="0"/>
                    </a:lnTo>
                    <a:lnTo>
                      <a:pt x="1988" y="1"/>
                    </a:lnTo>
                    <a:lnTo>
                      <a:pt x="1990" y="1"/>
                    </a:lnTo>
                    <a:lnTo>
                      <a:pt x="1990" y="1"/>
                    </a:lnTo>
                    <a:lnTo>
                      <a:pt x="1991" y="1"/>
                    </a:lnTo>
                    <a:lnTo>
                      <a:pt x="199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d8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33000">
                <a:off x="4883040" y="5579640"/>
                <a:ext cx="1991160" cy="12960"/>
              </a:xfrm>
              <a:custGeom>
                <a:avLst/>
                <a:gdLst/>
                <a:ahLst/>
                <a:rect l="l" t="t" r="r" b="b"/>
                <a:pathLst>
                  <a:path w="1998" h="4">
                    <a:moveTo>
                      <a:pt x="5" y="0"/>
                    </a:moveTo>
                    <a:lnTo>
                      <a:pt x="1991" y="0"/>
                    </a:lnTo>
                    <a:lnTo>
                      <a:pt x="1993" y="0"/>
                    </a:lnTo>
                    <a:lnTo>
                      <a:pt x="1993" y="0"/>
                    </a:lnTo>
                    <a:lnTo>
                      <a:pt x="1994" y="0"/>
                    </a:lnTo>
                    <a:lnTo>
                      <a:pt x="1994" y="2"/>
                    </a:lnTo>
                    <a:lnTo>
                      <a:pt x="1996" y="2"/>
                    </a:lnTo>
                    <a:lnTo>
                      <a:pt x="1996" y="2"/>
                    </a:lnTo>
                    <a:lnTo>
                      <a:pt x="1996" y="2"/>
                    </a:lnTo>
                    <a:lnTo>
                      <a:pt x="1998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8187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833000">
                <a:off x="4879080" y="5584680"/>
                <a:ext cx="1994400" cy="10440"/>
              </a:xfrm>
              <a:custGeom>
                <a:avLst/>
                <a:gdLst/>
                <a:ahLst/>
                <a:rect l="l" t="t" r="r" b="b"/>
                <a:pathLst>
                  <a:path w="2001" h="3">
                    <a:moveTo>
                      <a:pt x="5" y="0"/>
                    </a:moveTo>
                    <a:lnTo>
                      <a:pt x="1996" y="0"/>
                    </a:lnTo>
                    <a:lnTo>
                      <a:pt x="1998" y="0"/>
                    </a:lnTo>
                    <a:lnTo>
                      <a:pt x="1998" y="0"/>
                    </a:lnTo>
                    <a:lnTo>
                      <a:pt x="1998" y="0"/>
                    </a:lnTo>
                    <a:lnTo>
                      <a:pt x="2000" y="2"/>
                    </a:lnTo>
                    <a:lnTo>
                      <a:pt x="2000" y="2"/>
                    </a:lnTo>
                    <a:lnTo>
                      <a:pt x="2000" y="2"/>
                    </a:lnTo>
                    <a:lnTo>
                      <a:pt x="2001" y="2"/>
                    </a:lnTo>
                    <a:lnTo>
                      <a:pt x="200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838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833000">
                <a:off x="4872600" y="5590440"/>
                <a:ext cx="1999440" cy="9720"/>
              </a:xfrm>
              <a:custGeom>
                <a:avLst/>
                <a:gdLst/>
                <a:ahLst/>
                <a:rect l="l" t="t" r="r" b="b"/>
                <a:pathLst>
                  <a:path w="2006" h="3">
                    <a:moveTo>
                      <a:pt x="5" y="0"/>
                    </a:moveTo>
                    <a:lnTo>
                      <a:pt x="2003" y="0"/>
                    </a:lnTo>
                    <a:lnTo>
                      <a:pt x="2003" y="0"/>
                    </a:lnTo>
                    <a:lnTo>
                      <a:pt x="2003" y="0"/>
                    </a:lnTo>
                    <a:lnTo>
                      <a:pt x="2004" y="0"/>
                    </a:lnTo>
                    <a:lnTo>
                      <a:pt x="2004" y="1"/>
                    </a:lnTo>
                    <a:lnTo>
                      <a:pt x="2004" y="1"/>
                    </a:lnTo>
                    <a:lnTo>
                      <a:pt x="2006" y="1"/>
                    </a:lnTo>
                    <a:lnTo>
                      <a:pt x="2006" y="1"/>
                    </a:lnTo>
                    <a:lnTo>
                      <a:pt x="2006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878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33000">
                <a:off x="4869360" y="5593680"/>
                <a:ext cx="2001240" cy="9720"/>
              </a:xfrm>
              <a:custGeom>
                <a:avLst/>
                <a:gdLst/>
                <a:ahLst/>
                <a:rect l="l" t="t" r="r" b="b"/>
                <a:pathLst>
                  <a:path w="2008" h="3">
                    <a:moveTo>
                      <a:pt x="4" y="0"/>
                    </a:moveTo>
                    <a:lnTo>
                      <a:pt x="2005" y="0"/>
                    </a:lnTo>
                    <a:lnTo>
                      <a:pt x="2005" y="0"/>
                    </a:lnTo>
                    <a:lnTo>
                      <a:pt x="2007" y="0"/>
                    </a:lnTo>
                    <a:lnTo>
                      <a:pt x="2007" y="0"/>
                    </a:lnTo>
                    <a:lnTo>
                      <a:pt x="2007" y="2"/>
                    </a:lnTo>
                    <a:lnTo>
                      <a:pt x="2008" y="2"/>
                    </a:lnTo>
                    <a:lnTo>
                      <a:pt x="2008" y="2"/>
                    </a:lnTo>
                    <a:lnTo>
                      <a:pt x="2008" y="2"/>
                    </a:lnTo>
                    <a:lnTo>
                      <a:pt x="2008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88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833000">
                <a:off x="4863960" y="5599080"/>
                <a:ext cx="2005560" cy="10440"/>
              </a:xfrm>
              <a:custGeom>
                <a:avLst/>
                <a:gdLst/>
                <a:ahLst/>
                <a:rect l="l" t="t" r="r" b="b"/>
                <a:pathLst>
                  <a:path w="2012" h="3">
                    <a:moveTo>
                      <a:pt x="3" y="0"/>
                    </a:moveTo>
                    <a:lnTo>
                      <a:pt x="2009" y="0"/>
                    </a:lnTo>
                    <a:lnTo>
                      <a:pt x="2010" y="0"/>
                    </a:lnTo>
                    <a:lnTo>
                      <a:pt x="2010" y="0"/>
                    </a:lnTo>
                    <a:lnTo>
                      <a:pt x="2010" y="0"/>
                    </a:lnTo>
                    <a:lnTo>
                      <a:pt x="2010" y="1"/>
                    </a:lnTo>
                    <a:lnTo>
                      <a:pt x="2012" y="1"/>
                    </a:lnTo>
                    <a:lnTo>
                      <a:pt x="2012" y="1"/>
                    </a:lnTo>
                    <a:lnTo>
                      <a:pt x="2012" y="1"/>
                    </a:lnTo>
                    <a:lnTo>
                      <a:pt x="201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9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833000">
                <a:off x="4861440" y="5602320"/>
                <a:ext cx="2007360" cy="13680"/>
              </a:xfrm>
              <a:custGeom>
                <a:avLst/>
                <a:gdLst/>
                <a:ahLst/>
                <a:rect l="l" t="t" r="r" b="b"/>
                <a:pathLst>
                  <a:path w="2014" h="4">
                    <a:moveTo>
                      <a:pt x="2" y="0"/>
                    </a:moveTo>
                    <a:lnTo>
                      <a:pt x="2010" y="0"/>
                    </a:lnTo>
                    <a:lnTo>
                      <a:pt x="2012" y="0"/>
                    </a:lnTo>
                    <a:lnTo>
                      <a:pt x="2012" y="0"/>
                    </a:lnTo>
                    <a:lnTo>
                      <a:pt x="2012" y="0"/>
                    </a:lnTo>
                    <a:lnTo>
                      <a:pt x="2012" y="2"/>
                    </a:lnTo>
                    <a:lnTo>
                      <a:pt x="2012" y="2"/>
                    </a:lnTo>
                    <a:lnTo>
                      <a:pt x="2014" y="2"/>
                    </a:lnTo>
                    <a:lnTo>
                      <a:pt x="2014" y="4"/>
                    </a:lnTo>
                    <a:lnTo>
                      <a:pt x="201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09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833000">
                <a:off x="4857120" y="5608800"/>
                <a:ext cx="2010240" cy="9720"/>
              </a:xfrm>
              <a:custGeom>
                <a:avLst/>
                <a:gdLst/>
                <a:ahLst/>
                <a:rect l="l" t="t" r="r" b="b"/>
                <a:pathLst>
                  <a:path w="2017" h="3">
                    <a:moveTo>
                      <a:pt x="2" y="0"/>
                    </a:moveTo>
                    <a:lnTo>
                      <a:pt x="2014" y="0"/>
                    </a:lnTo>
                    <a:lnTo>
                      <a:pt x="2016" y="0"/>
                    </a:lnTo>
                    <a:lnTo>
                      <a:pt x="2016" y="0"/>
                    </a:lnTo>
                    <a:lnTo>
                      <a:pt x="2016" y="0"/>
                    </a:lnTo>
                    <a:lnTo>
                      <a:pt x="2016" y="2"/>
                    </a:lnTo>
                    <a:lnTo>
                      <a:pt x="2016" y="2"/>
                    </a:lnTo>
                    <a:lnTo>
                      <a:pt x="2017" y="2"/>
                    </a:lnTo>
                    <a:lnTo>
                      <a:pt x="2017" y="3"/>
                    </a:lnTo>
                    <a:lnTo>
                      <a:pt x="2017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39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833000">
                <a:off x="4852080" y="5614560"/>
                <a:ext cx="2013480" cy="9720"/>
              </a:xfrm>
              <a:custGeom>
                <a:avLst/>
                <a:gdLst/>
                <a:ahLst/>
                <a:rect l="l" t="t" r="r" b="b"/>
                <a:pathLst>
                  <a:path w="2020" h="3">
                    <a:moveTo>
                      <a:pt x="3" y="0"/>
                    </a:moveTo>
                    <a:lnTo>
                      <a:pt x="2017" y="0"/>
                    </a:lnTo>
                    <a:lnTo>
                      <a:pt x="2017" y="0"/>
                    </a:lnTo>
                    <a:lnTo>
                      <a:pt x="2018" y="0"/>
                    </a:lnTo>
                    <a:lnTo>
                      <a:pt x="2018" y="1"/>
                    </a:lnTo>
                    <a:lnTo>
                      <a:pt x="2018" y="1"/>
                    </a:lnTo>
                    <a:lnTo>
                      <a:pt x="2018" y="1"/>
                    </a:lnTo>
                    <a:lnTo>
                      <a:pt x="2018" y="1"/>
                    </a:lnTo>
                    <a:lnTo>
                      <a:pt x="2018" y="3"/>
                    </a:lnTo>
                    <a:lnTo>
                      <a:pt x="202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59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833000">
                <a:off x="4848840" y="5616720"/>
                <a:ext cx="2015280" cy="9720"/>
              </a:xfrm>
              <a:custGeom>
                <a:avLst/>
                <a:gdLst/>
                <a:ahLst/>
                <a:rect l="l" t="t" r="r" b="b"/>
                <a:pathLst>
                  <a:path w="2022" h="3">
                    <a:moveTo>
                      <a:pt x="3" y="0"/>
                    </a:moveTo>
                    <a:lnTo>
                      <a:pt x="2020" y="0"/>
                    </a:lnTo>
                    <a:lnTo>
                      <a:pt x="2020" y="0"/>
                    </a:lnTo>
                    <a:lnTo>
                      <a:pt x="2020" y="0"/>
                    </a:lnTo>
                    <a:lnTo>
                      <a:pt x="2020" y="2"/>
                    </a:lnTo>
                    <a:lnTo>
                      <a:pt x="2022" y="2"/>
                    </a:lnTo>
                    <a:lnTo>
                      <a:pt x="2022" y="2"/>
                    </a:lnTo>
                    <a:lnTo>
                      <a:pt x="2022" y="2"/>
                    </a:lnTo>
                    <a:lnTo>
                      <a:pt x="2022" y="3"/>
                    </a:lnTo>
                    <a:lnTo>
                      <a:pt x="202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8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833000">
                <a:off x="4845240" y="5623200"/>
                <a:ext cx="2016360" cy="9720"/>
              </a:xfrm>
              <a:custGeom>
                <a:avLst/>
                <a:gdLst/>
                <a:ahLst/>
                <a:rect l="l" t="t" r="r" b="b"/>
                <a:pathLst>
                  <a:path w="2023" h="3">
                    <a:moveTo>
                      <a:pt x="2" y="0"/>
                    </a:moveTo>
                    <a:lnTo>
                      <a:pt x="2022" y="0"/>
                    </a:lnTo>
                    <a:lnTo>
                      <a:pt x="2022" y="0"/>
                    </a:lnTo>
                    <a:lnTo>
                      <a:pt x="2022" y="0"/>
                    </a:lnTo>
                    <a:lnTo>
                      <a:pt x="2022" y="1"/>
                    </a:lnTo>
                    <a:lnTo>
                      <a:pt x="2022" y="1"/>
                    </a:lnTo>
                    <a:lnTo>
                      <a:pt x="2022" y="1"/>
                    </a:lnTo>
                    <a:lnTo>
                      <a:pt x="2023" y="1"/>
                    </a:lnTo>
                    <a:lnTo>
                      <a:pt x="2023" y="3"/>
                    </a:lnTo>
                    <a:lnTo>
                      <a:pt x="202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a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833000">
                <a:off x="4842000" y="5625360"/>
                <a:ext cx="2019240" cy="13680"/>
              </a:xfrm>
              <a:custGeom>
                <a:avLst/>
                <a:gdLst/>
                <a:ahLst/>
                <a:rect l="l" t="t" r="r" b="b"/>
                <a:pathLst>
                  <a:path w="2026" h="4">
                    <a:moveTo>
                      <a:pt x="1" y="0"/>
                    </a:moveTo>
                    <a:lnTo>
                      <a:pt x="2023" y="0"/>
                    </a:lnTo>
                    <a:lnTo>
                      <a:pt x="2023" y="0"/>
                    </a:lnTo>
                    <a:lnTo>
                      <a:pt x="2024" y="0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4"/>
                    </a:lnTo>
                    <a:lnTo>
                      <a:pt x="202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0a5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33000">
                <a:off x="4838760" y="5631840"/>
                <a:ext cx="2019240" cy="9720"/>
              </a:xfrm>
              <a:custGeom>
                <a:avLst/>
                <a:gdLst/>
                <a:ahLst/>
                <a:rect l="l" t="t" r="r" b="b"/>
                <a:pathLst>
                  <a:path w="2026" h="3">
                    <a:moveTo>
                      <a:pt x="1" y="0"/>
                    </a:moveTo>
                    <a:lnTo>
                      <a:pt x="2024" y="0"/>
                    </a:lnTo>
                    <a:lnTo>
                      <a:pt x="2024" y="0"/>
                    </a:lnTo>
                    <a:lnTo>
                      <a:pt x="2024" y="0"/>
                    </a:lnTo>
                    <a:lnTo>
                      <a:pt x="2024" y="2"/>
                    </a:lnTo>
                    <a:lnTo>
                      <a:pt x="2026" y="2"/>
                    </a:lnTo>
                    <a:lnTo>
                      <a:pt x="2026" y="2"/>
                    </a:lnTo>
                    <a:lnTo>
                      <a:pt x="2026" y="2"/>
                    </a:lnTo>
                    <a:lnTo>
                      <a:pt x="2026" y="3"/>
                    </a:lnTo>
                    <a:lnTo>
                      <a:pt x="2026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3a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833000">
                <a:off x="4833720" y="5637960"/>
                <a:ext cx="2023200" cy="9720"/>
              </a:xfrm>
              <a:custGeom>
                <a:avLst/>
                <a:gdLst/>
                <a:ahLst/>
                <a:rect l="l" t="t" r="r" b="b"/>
                <a:pathLst>
                  <a:path w="2030" h="3">
                    <a:moveTo>
                      <a:pt x="2" y="0"/>
                    </a:moveTo>
                    <a:lnTo>
                      <a:pt x="2028" y="0"/>
                    </a:lnTo>
                    <a:lnTo>
                      <a:pt x="2028" y="0"/>
                    </a:lnTo>
                    <a:lnTo>
                      <a:pt x="2028" y="0"/>
                    </a:lnTo>
                    <a:lnTo>
                      <a:pt x="2028" y="1"/>
                    </a:lnTo>
                    <a:lnTo>
                      <a:pt x="2028" y="1"/>
                    </a:lnTo>
                    <a:lnTo>
                      <a:pt x="2028" y="1"/>
                    </a:lnTo>
                    <a:lnTo>
                      <a:pt x="2028" y="1"/>
                    </a:lnTo>
                    <a:lnTo>
                      <a:pt x="2028" y="3"/>
                    </a:lnTo>
                    <a:lnTo>
                      <a:pt x="203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833000">
                <a:off x="4832280" y="5640480"/>
                <a:ext cx="2023200" cy="9720"/>
              </a:xfrm>
              <a:custGeom>
                <a:avLst/>
                <a:gdLst/>
                <a:ahLst/>
                <a:rect l="l" t="t" r="r" b="b"/>
                <a:pathLst>
                  <a:path w="2030" h="3">
                    <a:moveTo>
                      <a:pt x="2" y="0"/>
                    </a:moveTo>
                    <a:lnTo>
                      <a:pt x="2028" y="0"/>
                    </a:lnTo>
                    <a:lnTo>
                      <a:pt x="2028" y="0"/>
                    </a:lnTo>
                    <a:lnTo>
                      <a:pt x="2028" y="0"/>
                    </a:lnTo>
                    <a:lnTo>
                      <a:pt x="2028" y="2"/>
                    </a:lnTo>
                    <a:lnTo>
                      <a:pt x="2030" y="2"/>
                    </a:lnTo>
                    <a:lnTo>
                      <a:pt x="2030" y="2"/>
                    </a:lnTo>
                    <a:lnTo>
                      <a:pt x="2030" y="2"/>
                    </a:lnTo>
                    <a:lnTo>
                      <a:pt x="2030" y="3"/>
                    </a:lnTo>
                    <a:lnTo>
                      <a:pt x="203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9ac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833000">
                <a:off x="4826520" y="5645880"/>
                <a:ext cx="2025360" cy="9720"/>
              </a:xfrm>
              <a:custGeom>
                <a:avLst/>
                <a:gdLst/>
                <a:ahLst/>
                <a:rect l="l" t="t" r="r" b="b"/>
                <a:pathLst>
                  <a:path w="2032" h="3">
                    <a:moveTo>
                      <a:pt x="2" y="0"/>
                    </a:moveTo>
                    <a:lnTo>
                      <a:pt x="2032" y="0"/>
                    </a:lnTo>
                    <a:lnTo>
                      <a:pt x="2032" y="0"/>
                    </a:lnTo>
                    <a:lnTo>
                      <a:pt x="2032" y="0"/>
                    </a:lnTo>
                    <a:lnTo>
                      <a:pt x="2032" y="1"/>
                    </a:lnTo>
                    <a:lnTo>
                      <a:pt x="2032" y="1"/>
                    </a:lnTo>
                    <a:lnTo>
                      <a:pt x="2032" y="1"/>
                    </a:lnTo>
                    <a:lnTo>
                      <a:pt x="2032" y="1"/>
                    </a:lnTo>
                    <a:lnTo>
                      <a:pt x="2032" y="3"/>
                    </a:lnTo>
                    <a:lnTo>
                      <a:pt x="203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c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833000">
                <a:off x="4824720" y="5648760"/>
                <a:ext cx="2026440" cy="10440"/>
              </a:xfrm>
              <a:custGeom>
                <a:avLst/>
                <a:gdLst/>
                <a:ahLst/>
                <a:rect l="l" t="t" r="r" b="b"/>
                <a:pathLst>
                  <a:path w="2033" h="3">
                    <a:moveTo>
                      <a:pt x="2" y="0"/>
                    </a:moveTo>
                    <a:lnTo>
                      <a:pt x="2032" y="0"/>
                    </a:lnTo>
                    <a:lnTo>
                      <a:pt x="2032" y="0"/>
                    </a:lnTo>
                    <a:lnTo>
                      <a:pt x="2032" y="0"/>
                    </a:lnTo>
                    <a:lnTo>
                      <a:pt x="2032" y="2"/>
                    </a:lnTo>
                    <a:lnTo>
                      <a:pt x="2032" y="2"/>
                    </a:lnTo>
                    <a:lnTo>
                      <a:pt x="2033" y="2"/>
                    </a:lnTo>
                    <a:lnTo>
                      <a:pt x="2033" y="2"/>
                    </a:lnTo>
                    <a:lnTo>
                      <a:pt x="2033" y="3"/>
                    </a:lnTo>
                    <a:lnTo>
                      <a:pt x="203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833000">
                <a:off x="4820760" y="5654520"/>
                <a:ext cx="2027160" cy="9720"/>
              </a:xfrm>
              <a:custGeom>
                <a:avLst/>
                <a:gdLst/>
                <a:ahLst/>
                <a:rect l="l" t="t" r="r" b="b"/>
                <a:pathLst>
                  <a:path w="2034" h="3">
                    <a:moveTo>
                      <a:pt x="1" y="0"/>
                    </a:moveTo>
                    <a:lnTo>
                      <a:pt x="2033" y="0"/>
                    </a:lnTo>
                    <a:lnTo>
                      <a:pt x="2034" y="0"/>
                    </a:lnTo>
                    <a:lnTo>
                      <a:pt x="2034" y="0"/>
                    </a:lnTo>
                    <a:lnTo>
                      <a:pt x="2034" y="1"/>
                    </a:lnTo>
                    <a:lnTo>
                      <a:pt x="2034" y="1"/>
                    </a:lnTo>
                    <a:lnTo>
                      <a:pt x="2034" y="1"/>
                    </a:lnTo>
                    <a:lnTo>
                      <a:pt x="2034" y="1"/>
                    </a:lnTo>
                    <a:lnTo>
                      <a:pt x="2034" y="3"/>
                    </a:lnTo>
                    <a:lnTo>
                      <a:pt x="2034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833000">
                <a:off x="4817520" y="5658480"/>
                <a:ext cx="2029320" cy="12960"/>
              </a:xfrm>
              <a:custGeom>
                <a:avLst/>
                <a:gdLst/>
                <a:ahLst/>
                <a:rect l="l" t="t" r="r" b="b"/>
                <a:pathLst>
                  <a:path w="2036" h="4">
                    <a:moveTo>
                      <a:pt x="1" y="0"/>
                    </a:moveTo>
                    <a:lnTo>
                      <a:pt x="2034" y="0"/>
                    </a:lnTo>
                    <a:lnTo>
                      <a:pt x="2034" y="0"/>
                    </a:lnTo>
                    <a:lnTo>
                      <a:pt x="2034" y="0"/>
                    </a:lnTo>
                    <a:lnTo>
                      <a:pt x="2034" y="2"/>
                    </a:lnTo>
                    <a:lnTo>
                      <a:pt x="2034" y="2"/>
                    </a:lnTo>
                    <a:lnTo>
                      <a:pt x="2034" y="2"/>
                    </a:lnTo>
                    <a:lnTo>
                      <a:pt x="2034" y="2"/>
                    </a:lnTo>
                    <a:lnTo>
                      <a:pt x="2036" y="4"/>
                    </a:lnTo>
                    <a:lnTo>
                      <a:pt x="203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833000">
                <a:off x="4815000" y="5663520"/>
                <a:ext cx="2029320" cy="10440"/>
              </a:xfrm>
              <a:custGeom>
                <a:avLst/>
                <a:gdLst/>
                <a:ahLst/>
                <a:rect l="l" t="t" r="r" b="b"/>
                <a:pathLst>
                  <a:path w="2036" h="3">
                    <a:moveTo>
                      <a:pt x="0" y="0"/>
                    </a:moveTo>
                    <a:lnTo>
                      <a:pt x="2034" y="0"/>
                    </a:lnTo>
                    <a:lnTo>
                      <a:pt x="2034" y="0"/>
                    </a:lnTo>
                    <a:lnTo>
                      <a:pt x="2034" y="0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3"/>
                    </a:lnTo>
                    <a:lnTo>
                      <a:pt x="2036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8b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833000">
                <a:off x="4809960" y="5669280"/>
                <a:ext cx="2031120" cy="10440"/>
              </a:xfrm>
              <a:custGeom>
                <a:avLst/>
                <a:gdLst/>
                <a:ahLst/>
                <a:rect l="l" t="t" r="r" b="b"/>
                <a:pathLst>
                  <a:path w="2038" h="3">
                    <a:moveTo>
                      <a:pt x="2" y="0"/>
                    </a:moveTo>
                    <a:lnTo>
                      <a:pt x="2038" y="0"/>
                    </a:lnTo>
                    <a:lnTo>
                      <a:pt x="2038" y="0"/>
                    </a:lnTo>
                    <a:lnTo>
                      <a:pt x="2038" y="0"/>
                    </a:lnTo>
                    <a:lnTo>
                      <a:pt x="2038" y="1"/>
                    </a:lnTo>
                    <a:lnTo>
                      <a:pt x="2038" y="1"/>
                    </a:lnTo>
                    <a:lnTo>
                      <a:pt x="2038" y="1"/>
                    </a:lnTo>
                    <a:lnTo>
                      <a:pt x="2038" y="1"/>
                    </a:lnTo>
                    <a:lnTo>
                      <a:pt x="2038" y="3"/>
                    </a:lnTo>
                    <a:lnTo>
                      <a:pt x="2038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c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833000">
                <a:off x="4808160" y="5672520"/>
                <a:ext cx="2032200" cy="9720"/>
              </a:xfrm>
              <a:custGeom>
                <a:avLst/>
                <a:gdLst/>
                <a:ahLst/>
                <a:rect l="l" t="t" r="r" b="b"/>
                <a:pathLst>
                  <a:path w="2039" h="3">
                    <a:moveTo>
                      <a:pt x="2" y="0"/>
                    </a:moveTo>
                    <a:lnTo>
                      <a:pt x="2038" y="0"/>
                    </a:lnTo>
                    <a:lnTo>
                      <a:pt x="2038" y="0"/>
                    </a:lnTo>
                    <a:lnTo>
                      <a:pt x="2038" y="0"/>
                    </a:lnTo>
                    <a:lnTo>
                      <a:pt x="2038" y="2"/>
                    </a:lnTo>
                    <a:lnTo>
                      <a:pt x="2038" y="2"/>
                    </a:lnTo>
                    <a:lnTo>
                      <a:pt x="2038" y="2"/>
                    </a:lnTo>
                    <a:lnTo>
                      <a:pt x="2038" y="2"/>
                    </a:lnTo>
                    <a:lnTo>
                      <a:pt x="2039" y="3"/>
                    </a:lnTo>
                    <a:lnTo>
                      <a:pt x="2039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33000">
                <a:off x="4804560" y="5678640"/>
                <a:ext cx="2032200" cy="9720"/>
              </a:xfrm>
              <a:custGeom>
                <a:avLst/>
                <a:gdLst/>
                <a:ahLst/>
                <a:rect l="l" t="t" r="r" b="b"/>
                <a:pathLst>
                  <a:path w="2039" h="3">
                    <a:moveTo>
                      <a:pt x="0" y="0"/>
                    </a:moveTo>
                    <a:lnTo>
                      <a:pt x="2038" y="0"/>
                    </a:lnTo>
                    <a:lnTo>
                      <a:pt x="2038" y="0"/>
                    </a:lnTo>
                    <a:lnTo>
                      <a:pt x="2038" y="0"/>
                    </a:lnTo>
                    <a:lnTo>
                      <a:pt x="2039" y="1"/>
                    </a:lnTo>
                    <a:lnTo>
                      <a:pt x="2039" y="1"/>
                    </a:lnTo>
                    <a:lnTo>
                      <a:pt x="2039" y="1"/>
                    </a:lnTo>
                    <a:lnTo>
                      <a:pt x="2039" y="1"/>
                    </a:lnTo>
                    <a:lnTo>
                      <a:pt x="2039" y="3"/>
                    </a:lnTo>
                    <a:lnTo>
                      <a:pt x="2039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33000">
                <a:off x="4802040" y="5681520"/>
                <a:ext cx="2032200" cy="13680"/>
              </a:xfrm>
              <a:custGeom>
                <a:avLst/>
                <a:gdLst/>
                <a:ahLst/>
                <a:rect l="l" t="t" r="r" b="b"/>
                <a:pathLst>
                  <a:path w="2039" h="4">
                    <a:moveTo>
                      <a:pt x="0" y="0"/>
                    </a:moveTo>
                    <a:lnTo>
                      <a:pt x="2039" y="0"/>
                    </a:lnTo>
                    <a:lnTo>
                      <a:pt x="2039" y="0"/>
                    </a:lnTo>
                    <a:lnTo>
                      <a:pt x="2039" y="0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4"/>
                    </a:lnTo>
                    <a:lnTo>
                      <a:pt x="2039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33000">
                <a:off x="4798440" y="5686920"/>
                <a:ext cx="2032920" cy="9720"/>
              </a:xfrm>
              <a:custGeom>
                <a:avLst/>
                <a:gdLst/>
                <a:ahLst/>
                <a:rect l="l" t="t" r="r" b="b"/>
                <a:pathLst>
                  <a:path w="2040" h="3">
                    <a:moveTo>
                      <a:pt x="1" y="0"/>
                    </a:move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9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33000">
                <a:off x="4794480" y="569376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1" y="0"/>
                    </a:move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bc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833000">
                <a:off x="4793040" y="569628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0" y="0"/>
                    </a:lnTo>
                    <a:lnTo>
                      <a:pt x="2040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833000">
                <a:off x="4789800" y="570204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1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833000">
                <a:off x="4786920" y="5704920"/>
                <a:ext cx="2035080" cy="13680"/>
              </a:xfrm>
              <a:custGeom>
                <a:avLst/>
                <a:gdLst/>
                <a:ahLst/>
                <a:rect l="l" t="t" r="r" b="b"/>
                <a:pathLst>
                  <a:path w="2042" h="4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4"/>
                    </a:lnTo>
                    <a:lnTo>
                      <a:pt x="204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833000">
                <a:off x="4784400" y="571068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833000">
                <a:off x="4779360" y="571680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2" y="0"/>
                    </a:moveTo>
                    <a:lnTo>
                      <a:pt x="2044" y="0"/>
                    </a:lnTo>
                    <a:lnTo>
                      <a:pt x="2044" y="0"/>
                    </a:lnTo>
                    <a:lnTo>
                      <a:pt x="2044" y="0"/>
                    </a:lnTo>
                    <a:lnTo>
                      <a:pt x="2044" y="1"/>
                    </a:lnTo>
                    <a:lnTo>
                      <a:pt x="2044" y="1"/>
                    </a:lnTo>
                    <a:lnTo>
                      <a:pt x="2044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c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833000">
                <a:off x="4777920" y="571968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2" y="0"/>
                    </a:moveTo>
                    <a:lnTo>
                      <a:pt x="2044" y="0"/>
                    </a:lnTo>
                    <a:lnTo>
                      <a:pt x="2044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ed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833000">
                <a:off x="4774320" y="57254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833000">
                <a:off x="4771800" y="5727960"/>
                <a:ext cx="2038320" cy="13680"/>
              </a:xfrm>
              <a:custGeom>
                <a:avLst/>
                <a:gdLst/>
                <a:ahLst/>
                <a:rect l="l" t="t" r="r" b="b"/>
                <a:pathLst>
                  <a:path w="2045" h="4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833000">
                <a:off x="4768920" y="5733720"/>
                <a:ext cx="2038320" cy="1044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33000">
                <a:off x="4765680" y="57398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833000">
                <a:off x="4763880" y="57434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833000">
                <a:off x="4760280" y="5748480"/>
                <a:ext cx="2038320" cy="1044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833000">
                <a:off x="4757400" y="5751720"/>
                <a:ext cx="2038320" cy="12960"/>
              </a:xfrm>
              <a:custGeom>
                <a:avLst/>
                <a:gdLst/>
                <a:ahLst/>
                <a:rect l="l" t="t" r="r" b="b"/>
                <a:pathLst>
                  <a:path w="2045" h="4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33000">
                <a:off x="4755240" y="57578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33000">
                <a:off x="4751640" y="5762880"/>
                <a:ext cx="2038320" cy="1044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33000">
                <a:off x="4750200" y="576648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833000">
                <a:off x="4746600" y="577260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33000">
                <a:off x="4743720" y="5775120"/>
                <a:ext cx="2038320" cy="13680"/>
              </a:xfrm>
              <a:custGeom>
                <a:avLst/>
                <a:gdLst/>
                <a:ahLst/>
                <a:rect l="l" t="t" r="r" b="b"/>
                <a:pathLst>
                  <a:path w="2045" h="4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33000">
                <a:off x="4741560" y="57812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833000">
                <a:off x="4737960" y="578700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833000">
                <a:off x="4736160" y="578988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833000">
                <a:off x="4732920" y="57956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833000">
                <a:off x="4730040" y="5798160"/>
                <a:ext cx="2038320" cy="13680"/>
              </a:xfrm>
              <a:custGeom>
                <a:avLst/>
                <a:gdLst/>
                <a:ahLst/>
                <a:rect l="l" t="t" r="r" b="b"/>
                <a:pathLst>
                  <a:path w="2045" h="4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204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833000">
                <a:off x="4727880" y="580464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2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2045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833000">
                <a:off x="4724280" y="5810400"/>
                <a:ext cx="2038320" cy="972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5" y="1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833000">
                <a:off x="4722120" y="5812920"/>
                <a:ext cx="2038320" cy="10440"/>
              </a:xfrm>
              <a:custGeom>
                <a:avLst/>
                <a:gdLst/>
                <a:ahLst/>
                <a:rect l="l" t="t" r="r" b="b"/>
                <a:pathLst>
                  <a:path w="2045" h="3">
                    <a:moveTo>
                      <a:pt x="0" y="0"/>
                    </a:moveTo>
                    <a:lnTo>
                      <a:pt x="2045" y="0"/>
                    </a:lnTo>
                    <a:lnTo>
                      <a:pt x="2045" y="0"/>
                    </a:lnTo>
                    <a:lnTo>
                      <a:pt x="2044" y="2"/>
                    </a:lnTo>
                    <a:lnTo>
                      <a:pt x="2044" y="2"/>
                    </a:lnTo>
                    <a:lnTo>
                      <a:pt x="2044" y="2"/>
                    </a:lnTo>
                    <a:lnTo>
                      <a:pt x="2044" y="2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833000">
                <a:off x="4719240" y="5818680"/>
                <a:ext cx="2037240" cy="9720"/>
              </a:xfrm>
              <a:custGeom>
                <a:avLst/>
                <a:gdLst/>
                <a:ahLst/>
                <a:rect l="l" t="t" r="r" b="b"/>
                <a:pathLst>
                  <a:path w="2044" h="3">
                    <a:moveTo>
                      <a:pt x="0" y="0"/>
                    </a:moveTo>
                    <a:lnTo>
                      <a:pt x="2044" y="0"/>
                    </a:lnTo>
                    <a:lnTo>
                      <a:pt x="2044" y="0"/>
                    </a:lnTo>
                    <a:lnTo>
                      <a:pt x="2044" y="1"/>
                    </a:lnTo>
                    <a:lnTo>
                      <a:pt x="2044" y="1"/>
                    </a:lnTo>
                    <a:lnTo>
                      <a:pt x="2044" y="1"/>
                    </a:lnTo>
                    <a:lnTo>
                      <a:pt x="2044" y="1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204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833000">
                <a:off x="4717800" y="5822280"/>
                <a:ext cx="2035080" cy="12960"/>
              </a:xfrm>
              <a:custGeom>
                <a:avLst/>
                <a:gdLst/>
                <a:ahLst/>
                <a:rect l="l" t="t" r="r" b="b"/>
                <a:pathLst>
                  <a:path w="2042" h="4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4"/>
                    </a:lnTo>
                    <a:lnTo>
                      <a:pt x="2042" y="4"/>
                    </a:lnTo>
                    <a:lnTo>
                      <a:pt x="204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f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833000">
                <a:off x="4715640" y="5827680"/>
                <a:ext cx="2035080" cy="1044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2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204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c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33000">
                <a:off x="4712040" y="583344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1"/>
                    </a:lnTo>
                    <a:lnTo>
                      <a:pt x="2042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833000">
                <a:off x="4709880" y="5837040"/>
                <a:ext cx="2035080" cy="9720"/>
              </a:xfrm>
              <a:custGeom>
                <a:avLst/>
                <a:gdLst/>
                <a:ahLst/>
                <a:rect l="l" t="t" r="r" b="b"/>
                <a:pathLst>
                  <a:path w="2042" h="3">
                    <a:moveTo>
                      <a:pt x="0" y="0"/>
                    </a:moveTo>
                    <a:lnTo>
                      <a:pt x="2042" y="0"/>
                    </a:lnTo>
                    <a:lnTo>
                      <a:pt x="2042" y="0"/>
                    </a:lnTo>
                    <a:lnTo>
                      <a:pt x="2042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2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5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833000">
                <a:off x="4707000" y="5841720"/>
                <a:ext cx="2032920" cy="10440"/>
              </a:xfrm>
              <a:custGeom>
                <a:avLst/>
                <a:gdLst/>
                <a:ahLst/>
                <a:rect l="l" t="t" r="r" b="b"/>
                <a:pathLst>
                  <a:path w="2040" h="3">
                    <a:moveTo>
                      <a:pt x="0" y="0"/>
                    </a:move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0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1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204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833000">
                <a:off x="4705200" y="5844960"/>
                <a:ext cx="2032200" cy="13680"/>
              </a:xfrm>
              <a:custGeom>
                <a:avLst/>
                <a:gdLst/>
                <a:ahLst/>
                <a:rect l="l" t="t" r="r" b="b"/>
                <a:pathLst>
                  <a:path w="2039" h="4">
                    <a:moveTo>
                      <a:pt x="0" y="0"/>
                    </a:moveTo>
                    <a:lnTo>
                      <a:pt x="2039" y="0"/>
                    </a:lnTo>
                    <a:lnTo>
                      <a:pt x="2039" y="0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4"/>
                    </a:lnTo>
                    <a:lnTo>
                      <a:pt x="2039" y="4"/>
                    </a:lnTo>
                    <a:lnTo>
                      <a:pt x="2039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d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833000">
                <a:off x="4702680" y="5851440"/>
                <a:ext cx="2032200" cy="9720"/>
              </a:xfrm>
              <a:custGeom>
                <a:avLst/>
                <a:gdLst/>
                <a:ahLst/>
                <a:rect l="l" t="t" r="r" b="b"/>
                <a:pathLst>
                  <a:path w="2039" h="3">
                    <a:moveTo>
                      <a:pt x="0" y="0"/>
                    </a:moveTo>
                    <a:lnTo>
                      <a:pt x="2039" y="0"/>
                    </a:lnTo>
                    <a:lnTo>
                      <a:pt x="2039" y="0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2"/>
                    </a:lnTo>
                    <a:lnTo>
                      <a:pt x="2039" y="3"/>
                    </a:lnTo>
                    <a:lnTo>
                      <a:pt x="2038" y="3"/>
                    </a:lnTo>
                    <a:lnTo>
                      <a:pt x="2038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833000">
                <a:off x="4699080" y="5857200"/>
                <a:ext cx="2032200" cy="9720"/>
              </a:xfrm>
              <a:custGeom>
                <a:avLst/>
                <a:gdLst/>
                <a:ahLst/>
                <a:rect l="l" t="t" r="r" b="b"/>
                <a:pathLst>
                  <a:path w="2039" h="3">
                    <a:moveTo>
                      <a:pt x="0" y="0"/>
                    </a:moveTo>
                    <a:lnTo>
                      <a:pt x="2039" y="0"/>
                    </a:lnTo>
                    <a:lnTo>
                      <a:pt x="2039" y="0"/>
                    </a:lnTo>
                    <a:lnTo>
                      <a:pt x="2039" y="1"/>
                    </a:lnTo>
                    <a:lnTo>
                      <a:pt x="2038" y="1"/>
                    </a:lnTo>
                    <a:lnTo>
                      <a:pt x="2038" y="1"/>
                    </a:lnTo>
                    <a:lnTo>
                      <a:pt x="2038" y="1"/>
                    </a:lnTo>
                    <a:lnTo>
                      <a:pt x="2038" y="3"/>
                    </a:lnTo>
                    <a:lnTo>
                      <a:pt x="2038" y="3"/>
                    </a:lnTo>
                    <a:lnTo>
                      <a:pt x="2038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33000">
                <a:off x="4699080" y="5860080"/>
                <a:ext cx="2029320" cy="9720"/>
              </a:xfrm>
              <a:custGeom>
                <a:avLst/>
                <a:gdLst/>
                <a:ahLst/>
                <a:rect l="l" t="t" r="r" b="b"/>
                <a:pathLst>
                  <a:path w="2036" h="3">
                    <a:moveTo>
                      <a:pt x="0" y="0"/>
                    </a:moveTo>
                    <a:lnTo>
                      <a:pt x="2036" y="0"/>
                    </a:lnTo>
                    <a:lnTo>
                      <a:pt x="2036" y="0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2"/>
                    </a:lnTo>
                    <a:lnTo>
                      <a:pt x="2036" y="3"/>
                    </a:lnTo>
                    <a:lnTo>
                      <a:pt x="2036" y="3"/>
                    </a:lnTo>
                    <a:lnTo>
                      <a:pt x="2036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33000">
                <a:off x="4695840" y="5866200"/>
                <a:ext cx="2029320" cy="9720"/>
              </a:xfrm>
              <a:custGeom>
                <a:avLst/>
                <a:gdLst/>
                <a:ahLst/>
                <a:rect l="l" t="t" r="r" b="b"/>
                <a:pathLst>
                  <a:path w="2036" h="3">
                    <a:moveTo>
                      <a:pt x="0" y="0"/>
                    </a:moveTo>
                    <a:lnTo>
                      <a:pt x="2036" y="0"/>
                    </a:lnTo>
                    <a:lnTo>
                      <a:pt x="2036" y="0"/>
                    </a:lnTo>
                    <a:lnTo>
                      <a:pt x="2036" y="1"/>
                    </a:lnTo>
                    <a:lnTo>
                      <a:pt x="2036" y="1"/>
                    </a:lnTo>
                    <a:lnTo>
                      <a:pt x="2036" y="1"/>
                    </a:lnTo>
                    <a:lnTo>
                      <a:pt x="2036" y="1"/>
                    </a:lnTo>
                    <a:lnTo>
                      <a:pt x="2036" y="3"/>
                    </a:lnTo>
                    <a:lnTo>
                      <a:pt x="2034" y="3"/>
                    </a:lnTo>
                    <a:lnTo>
                      <a:pt x="2034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33000">
                <a:off x="4693320" y="5868000"/>
                <a:ext cx="2029320" cy="13680"/>
              </a:xfrm>
              <a:custGeom>
                <a:avLst/>
                <a:gdLst/>
                <a:ahLst/>
                <a:rect l="l" t="t" r="r" b="b"/>
                <a:pathLst>
                  <a:path w="2036" h="4">
                    <a:moveTo>
                      <a:pt x="0" y="0"/>
                    </a:moveTo>
                    <a:lnTo>
                      <a:pt x="2036" y="0"/>
                    </a:lnTo>
                    <a:lnTo>
                      <a:pt x="2036" y="0"/>
                    </a:lnTo>
                    <a:lnTo>
                      <a:pt x="2036" y="2"/>
                    </a:lnTo>
                    <a:lnTo>
                      <a:pt x="2034" y="2"/>
                    </a:lnTo>
                    <a:lnTo>
                      <a:pt x="2034" y="2"/>
                    </a:lnTo>
                    <a:lnTo>
                      <a:pt x="2034" y="2"/>
                    </a:lnTo>
                    <a:lnTo>
                      <a:pt x="2034" y="4"/>
                    </a:lnTo>
                    <a:lnTo>
                      <a:pt x="2034" y="4"/>
                    </a:lnTo>
                    <a:lnTo>
                      <a:pt x="2034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33000">
                <a:off x="4691880" y="5874480"/>
                <a:ext cx="2026440" cy="9720"/>
              </a:xfrm>
              <a:custGeom>
                <a:avLst/>
                <a:gdLst/>
                <a:ahLst/>
                <a:rect l="l" t="t" r="r" b="b"/>
                <a:pathLst>
                  <a:path w="2033" h="3">
                    <a:moveTo>
                      <a:pt x="0" y="0"/>
                    </a:moveTo>
                    <a:lnTo>
                      <a:pt x="2033" y="0"/>
                    </a:lnTo>
                    <a:lnTo>
                      <a:pt x="2033" y="0"/>
                    </a:lnTo>
                    <a:lnTo>
                      <a:pt x="2033" y="2"/>
                    </a:lnTo>
                    <a:lnTo>
                      <a:pt x="2033" y="2"/>
                    </a:lnTo>
                    <a:lnTo>
                      <a:pt x="2033" y="2"/>
                    </a:lnTo>
                    <a:lnTo>
                      <a:pt x="2033" y="2"/>
                    </a:lnTo>
                    <a:lnTo>
                      <a:pt x="2033" y="3"/>
                    </a:lnTo>
                    <a:lnTo>
                      <a:pt x="2033" y="3"/>
                    </a:lnTo>
                    <a:lnTo>
                      <a:pt x="203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33000">
                <a:off x="4688280" y="5880600"/>
                <a:ext cx="2026440" cy="9720"/>
              </a:xfrm>
              <a:custGeom>
                <a:avLst/>
                <a:gdLst/>
                <a:ahLst/>
                <a:rect l="l" t="t" r="r" b="b"/>
                <a:pathLst>
                  <a:path w="2033" h="3">
                    <a:moveTo>
                      <a:pt x="0" y="0"/>
                    </a:moveTo>
                    <a:lnTo>
                      <a:pt x="2033" y="0"/>
                    </a:lnTo>
                    <a:lnTo>
                      <a:pt x="2033" y="0"/>
                    </a:lnTo>
                    <a:lnTo>
                      <a:pt x="2033" y="1"/>
                    </a:lnTo>
                    <a:lnTo>
                      <a:pt x="2033" y="1"/>
                    </a:lnTo>
                    <a:lnTo>
                      <a:pt x="2033" y="1"/>
                    </a:lnTo>
                    <a:lnTo>
                      <a:pt x="2032" y="1"/>
                    </a:lnTo>
                    <a:lnTo>
                      <a:pt x="2032" y="3"/>
                    </a:lnTo>
                    <a:lnTo>
                      <a:pt x="2032" y="3"/>
                    </a:lnTo>
                    <a:lnTo>
                      <a:pt x="203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33000">
                <a:off x="4686840" y="5882760"/>
                <a:ext cx="2026440" cy="9720"/>
              </a:xfrm>
              <a:custGeom>
                <a:avLst/>
                <a:gdLst/>
                <a:ahLst/>
                <a:rect l="l" t="t" r="r" b="b"/>
                <a:pathLst>
                  <a:path w="2033" h="3">
                    <a:moveTo>
                      <a:pt x="0" y="0"/>
                    </a:moveTo>
                    <a:lnTo>
                      <a:pt x="2033" y="0"/>
                    </a:lnTo>
                    <a:lnTo>
                      <a:pt x="2032" y="0"/>
                    </a:lnTo>
                    <a:lnTo>
                      <a:pt x="2032" y="2"/>
                    </a:lnTo>
                    <a:lnTo>
                      <a:pt x="2032" y="2"/>
                    </a:lnTo>
                    <a:lnTo>
                      <a:pt x="2032" y="2"/>
                    </a:lnTo>
                    <a:lnTo>
                      <a:pt x="2032" y="2"/>
                    </a:lnTo>
                    <a:lnTo>
                      <a:pt x="2032" y="3"/>
                    </a:lnTo>
                    <a:lnTo>
                      <a:pt x="2032" y="3"/>
                    </a:lnTo>
                    <a:lnTo>
                      <a:pt x="203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33000">
                <a:off x="4685400" y="5889600"/>
                <a:ext cx="2023200" cy="9720"/>
              </a:xfrm>
              <a:custGeom>
                <a:avLst/>
                <a:gdLst/>
                <a:ahLst/>
                <a:rect l="l" t="t" r="r" b="b"/>
                <a:pathLst>
                  <a:path w="2030" h="3">
                    <a:moveTo>
                      <a:pt x="0" y="0"/>
                    </a:moveTo>
                    <a:lnTo>
                      <a:pt x="2030" y="0"/>
                    </a:lnTo>
                    <a:lnTo>
                      <a:pt x="2030" y="0"/>
                    </a:lnTo>
                    <a:lnTo>
                      <a:pt x="2030" y="1"/>
                    </a:lnTo>
                    <a:lnTo>
                      <a:pt x="2030" y="1"/>
                    </a:lnTo>
                    <a:lnTo>
                      <a:pt x="2030" y="1"/>
                    </a:lnTo>
                    <a:lnTo>
                      <a:pt x="2030" y="1"/>
                    </a:lnTo>
                    <a:lnTo>
                      <a:pt x="2028" y="3"/>
                    </a:lnTo>
                    <a:lnTo>
                      <a:pt x="2028" y="3"/>
                    </a:lnTo>
                    <a:lnTo>
                      <a:pt x="2028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33000">
                <a:off x="4683600" y="5892120"/>
                <a:ext cx="2023200" cy="10440"/>
              </a:xfrm>
              <a:custGeom>
                <a:avLst/>
                <a:gdLst/>
                <a:ahLst/>
                <a:rect l="l" t="t" r="r" b="b"/>
                <a:pathLst>
                  <a:path w="2030" h="3">
                    <a:moveTo>
                      <a:pt x="0" y="0"/>
                    </a:moveTo>
                    <a:lnTo>
                      <a:pt x="2030" y="0"/>
                    </a:lnTo>
                    <a:lnTo>
                      <a:pt x="2030" y="0"/>
                    </a:lnTo>
                    <a:lnTo>
                      <a:pt x="2028" y="2"/>
                    </a:lnTo>
                    <a:lnTo>
                      <a:pt x="2028" y="2"/>
                    </a:lnTo>
                    <a:lnTo>
                      <a:pt x="2028" y="2"/>
                    </a:lnTo>
                    <a:lnTo>
                      <a:pt x="2028" y="2"/>
                    </a:lnTo>
                    <a:lnTo>
                      <a:pt x="2028" y="3"/>
                    </a:lnTo>
                    <a:lnTo>
                      <a:pt x="2028" y="3"/>
                    </a:lnTo>
                    <a:lnTo>
                      <a:pt x="2028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33000">
                <a:off x="4681800" y="5897880"/>
                <a:ext cx="2019240" cy="9720"/>
              </a:xfrm>
              <a:custGeom>
                <a:avLst/>
                <a:gdLst/>
                <a:ahLst/>
                <a:rect l="l" t="t" r="r" b="b"/>
                <a:pathLst>
                  <a:path w="2026" h="3">
                    <a:moveTo>
                      <a:pt x="0" y="0"/>
                    </a:moveTo>
                    <a:lnTo>
                      <a:pt x="2026" y="0"/>
                    </a:lnTo>
                    <a:lnTo>
                      <a:pt x="2026" y="0"/>
                    </a:lnTo>
                    <a:lnTo>
                      <a:pt x="2026" y="1"/>
                    </a:lnTo>
                    <a:lnTo>
                      <a:pt x="2026" y="1"/>
                    </a:lnTo>
                    <a:lnTo>
                      <a:pt x="2026" y="1"/>
                    </a:lnTo>
                    <a:lnTo>
                      <a:pt x="2024" y="1"/>
                    </a:lnTo>
                    <a:lnTo>
                      <a:pt x="2024" y="3"/>
                    </a:lnTo>
                    <a:lnTo>
                      <a:pt x="2024" y="3"/>
                    </a:lnTo>
                    <a:lnTo>
                      <a:pt x="2024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a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3000">
                <a:off x="4679280" y="5901120"/>
                <a:ext cx="2019240" cy="12960"/>
              </a:xfrm>
              <a:custGeom>
                <a:avLst/>
                <a:gdLst/>
                <a:ahLst/>
                <a:rect l="l" t="t" r="r" b="b"/>
                <a:pathLst>
                  <a:path w="2026" h="4">
                    <a:moveTo>
                      <a:pt x="0" y="0"/>
                    </a:moveTo>
                    <a:lnTo>
                      <a:pt x="2026" y="0"/>
                    </a:lnTo>
                    <a:lnTo>
                      <a:pt x="2024" y="0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2"/>
                    </a:lnTo>
                    <a:lnTo>
                      <a:pt x="2024" y="4"/>
                    </a:lnTo>
                    <a:lnTo>
                      <a:pt x="2024" y="4"/>
                    </a:lnTo>
                    <a:lnTo>
                      <a:pt x="202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33000">
                <a:off x="4677840" y="5906160"/>
                <a:ext cx="2016360" cy="10440"/>
              </a:xfrm>
              <a:custGeom>
                <a:avLst/>
                <a:gdLst/>
                <a:ahLst/>
                <a:rect l="l" t="t" r="r" b="b"/>
                <a:pathLst>
                  <a:path w="2023" h="3">
                    <a:moveTo>
                      <a:pt x="0" y="0"/>
                    </a:moveTo>
                    <a:lnTo>
                      <a:pt x="2023" y="0"/>
                    </a:lnTo>
                    <a:lnTo>
                      <a:pt x="2023" y="0"/>
                    </a:lnTo>
                    <a:lnTo>
                      <a:pt x="2023" y="2"/>
                    </a:lnTo>
                    <a:lnTo>
                      <a:pt x="2023" y="2"/>
                    </a:lnTo>
                    <a:lnTo>
                      <a:pt x="2022" y="2"/>
                    </a:lnTo>
                    <a:lnTo>
                      <a:pt x="2022" y="2"/>
                    </a:lnTo>
                    <a:lnTo>
                      <a:pt x="2022" y="3"/>
                    </a:lnTo>
                    <a:lnTo>
                      <a:pt x="2022" y="3"/>
                    </a:lnTo>
                    <a:lnTo>
                      <a:pt x="202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7a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833000">
                <a:off x="4676040" y="5912640"/>
                <a:ext cx="2013480" cy="10440"/>
              </a:xfrm>
              <a:custGeom>
                <a:avLst/>
                <a:gdLst/>
                <a:ahLst/>
                <a:rect l="l" t="t" r="r" b="b"/>
                <a:pathLst>
                  <a:path w="2020" h="3">
                    <a:moveTo>
                      <a:pt x="0" y="0"/>
                    </a:moveTo>
                    <a:lnTo>
                      <a:pt x="2020" y="0"/>
                    </a:lnTo>
                    <a:lnTo>
                      <a:pt x="2020" y="0"/>
                    </a:lnTo>
                    <a:lnTo>
                      <a:pt x="2020" y="1"/>
                    </a:lnTo>
                    <a:lnTo>
                      <a:pt x="2020" y="1"/>
                    </a:lnTo>
                    <a:lnTo>
                      <a:pt x="2020" y="1"/>
                    </a:lnTo>
                    <a:lnTo>
                      <a:pt x="2020" y="1"/>
                    </a:lnTo>
                    <a:lnTo>
                      <a:pt x="2018" y="3"/>
                    </a:lnTo>
                    <a:lnTo>
                      <a:pt x="2018" y="3"/>
                    </a:lnTo>
                    <a:lnTo>
                      <a:pt x="2018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4a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833000">
                <a:off x="4674240" y="5915880"/>
                <a:ext cx="2013480" cy="9720"/>
              </a:xfrm>
              <a:custGeom>
                <a:avLst/>
                <a:gdLst/>
                <a:ahLst/>
                <a:rect l="l" t="t" r="r" b="b"/>
                <a:pathLst>
                  <a:path w="2020" h="3">
                    <a:moveTo>
                      <a:pt x="0" y="0"/>
                    </a:moveTo>
                    <a:lnTo>
                      <a:pt x="2020" y="0"/>
                    </a:lnTo>
                    <a:lnTo>
                      <a:pt x="2020" y="0"/>
                    </a:lnTo>
                    <a:lnTo>
                      <a:pt x="2018" y="2"/>
                    </a:lnTo>
                    <a:lnTo>
                      <a:pt x="2018" y="2"/>
                    </a:lnTo>
                    <a:lnTo>
                      <a:pt x="2018" y="2"/>
                    </a:lnTo>
                    <a:lnTo>
                      <a:pt x="2018" y="3"/>
                    </a:lnTo>
                    <a:lnTo>
                      <a:pt x="2018" y="3"/>
                    </a:lnTo>
                    <a:lnTo>
                      <a:pt x="2017" y="3"/>
                    </a:lnTo>
                    <a:lnTo>
                      <a:pt x="2017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a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33000">
                <a:off x="4672080" y="5922000"/>
                <a:ext cx="2010240" cy="9720"/>
              </a:xfrm>
              <a:custGeom>
                <a:avLst/>
                <a:gdLst/>
                <a:ahLst/>
                <a:rect l="l" t="t" r="r" b="b"/>
                <a:pathLst>
                  <a:path w="2017" h="3">
                    <a:moveTo>
                      <a:pt x="0" y="0"/>
                    </a:moveTo>
                    <a:lnTo>
                      <a:pt x="2017" y="0"/>
                    </a:lnTo>
                    <a:lnTo>
                      <a:pt x="2017" y="0"/>
                    </a:lnTo>
                    <a:lnTo>
                      <a:pt x="2017" y="1"/>
                    </a:lnTo>
                    <a:lnTo>
                      <a:pt x="2016" y="1"/>
                    </a:lnTo>
                    <a:lnTo>
                      <a:pt x="2016" y="1"/>
                    </a:lnTo>
                    <a:lnTo>
                      <a:pt x="2016" y="3"/>
                    </a:lnTo>
                    <a:lnTo>
                      <a:pt x="2016" y="3"/>
                    </a:lnTo>
                    <a:lnTo>
                      <a:pt x="2016" y="3"/>
                    </a:lnTo>
                    <a:lnTo>
                      <a:pt x="201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a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33000">
                <a:off x="4671720" y="5924160"/>
                <a:ext cx="2007360" cy="13680"/>
              </a:xfrm>
              <a:custGeom>
                <a:avLst/>
                <a:gdLst/>
                <a:ahLst/>
                <a:rect l="l" t="t" r="r" b="b"/>
                <a:pathLst>
                  <a:path w="2014" h="4">
                    <a:moveTo>
                      <a:pt x="0" y="0"/>
                    </a:moveTo>
                    <a:lnTo>
                      <a:pt x="2014" y="0"/>
                    </a:lnTo>
                    <a:lnTo>
                      <a:pt x="2014" y="2"/>
                    </a:lnTo>
                    <a:lnTo>
                      <a:pt x="2014" y="2"/>
                    </a:lnTo>
                    <a:lnTo>
                      <a:pt x="2014" y="2"/>
                    </a:lnTo>
                    <a:lnTo>
                      <a:pt x="2012" y="2"/>
                    </a:lnTo>
                    <a:lnTo>
                      <a:pt x="2012" y="4"/>
                    </a:lnTo>
                    <a:lnTo>
                      <a:pt x="2012" y="4"/>
                    </a:lnTo>
                    <a:lnTo>
                      <a:pt x="2012" y="4"/>
                    </a:lnTo>
                    <a:lnTo>
                      <a:pt x="2010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33000">
                <a:off x="4670640" y="5930280"/>
                <a:ext cx="2003400" cy="9720"/>
              </a:xfrm>
              <a:custGeom>
                <a:avLst/>
                <a:gdLst/>
                <a:ahLst/>
                <a:rect l="l" t="t" r="r" b="b"/>
                <a:pathLst>
                  <a:path w="2010" h="3">
                    <a:moveTo>
                      <a:pt x="0" y="0"/>
                    </a:moveTo>
                    <a:lnTo>
                      <a:pt x="2010" y="0"/>
                    </a:lnTo>
                    <a:lnTo>
                      <a:pt x="2010" y="2"/>
                    </a:lnTo>
                    <a:lnTo>
                      <a:pt x="2010" y="2"/>
                    </a:lnTo>
                    <a:lnTo>
                      <a:pt x="2010" y="2"/>
                    </a:lnTo>
                    <a:lnTo>
                      <a:pt x="2008" y="2"/>
                    </a:lnTo>
                    <a:lnTo>
                      <a:pt x="2008" y="3"/>
                    </a:lnTo>
                    <a:lnTo>
                      <a:pt x="2008" y="3"/>
                    </a:lnTo>
                    <a:lnTo>
                      <a:pt x="2008" y="3"/>
                    </a:lnTo>
                    <a:lnTo>
                      <a:pt x="2007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33000">
                <a:off x="4668480" y="5936400"/>
                <a:ext cx="2000160" cy="9720"/>
              </a:xfrm>
              <a:custGeom>
                <a:avLst/>
                <a:gdLst/>
                <a:ahLst/>
                <a:rect l="l" t="t" r="r" b="b"/>
                <a:pathLst>
                  <a:path w="2007" h="3">
                    <a:moveTo>
                      <a:pt x="0" y="0"/>
                    </a:moveTo>
                    <a:lnTo>
                      <a:pt x="2007" y="0"/>
                    </a:lnTo>
                    <a:lnTo>
                      <a:pt x="2007" y="1"/>
                    </a:lnTo>
                    <a:lnTo>
                      <a:pt x="2007" y="1"/>
                    </a:lnTo>
                    <a:lnTo>
                      <a:pt x="2007" y="1"/>
                    </a:lnTo>
                    <a:lnTo>
                      <a:pt x="2006" y="1"/>
                    </a:lnTo>
                    <a:lnTo>
                      <a:pt x="2006" y="3"/>
                    </a:lnTo>
                    <a:lnTo>
                      <a:pt x="2006" y="3"/>
                    </a:lnTo>
                    <a:lnTo>
                      <a:pt x="2006" y="3"/>
                    </a:lnTo>
                    <a:lnTo>
                      <a:pt x="200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9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33000">
                <a:off x="4668480" y="5938920"/>
                <a:ext cx="1997640" cy="9720"/>
              </a:xfrm>
              <a:custGeom>
                <a:avLst/>
                <a:gdLst/>
                <a:ahLst/>
                <a:rect l="l" t="t" r="r" b="b"/>
                <a:pathLst>
                  <a:path w="2004" h="3">
                    <a:moveTo>
                      <a:pt x="0" y="0"/>
                    </a:moveTo>
                    <a:lnTo>
                      <a:pt x="2004" y="0"/>
                    </a:lnTo>
                    <a:lnTo>
                      <a:pt x="2004" y="2"/>
                    </a:lnTo>
                    <a:lnTo>
                      <a:pt x="2004" y="2"/>
                    </a:lnTo>
                    <a:lnTo>
                      <a:pt x="2002" y="2"/>
                    </a:lnTo>
                    <a:lnTo>
                      <a:pt x="2002" y="2"/>
                    </a:lnTo>
                    <a:lnTo>
                      <a:pt x="2002" y="3"/>
                    </a:lnTo>
                    <a:lnTo>
                      <a:pt x="2002" y="3"/>
                    </a:lnTo>
                    <a:lnTo>
                      <a:pt x="2001" y="3"/>
                    </a:lnTo>
                    <a:lnTo>
                      <a:pt x="200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33000">
                <a:off x="4666680" y="5945040"/>
                <a:ext cx="1994400" cy="9720"/>
              </a:xfrm>
              <a:custGeom>
                <a:avLst/>
                <a:gdLst/>
                <a:ahLst/>
                <a:rect l="l" t="t" r="r" b="b"/>
                <a:pathLst>
                  <a:path w="2001" h="3">
                    <a:moveTo>
                      <a:pt x="0" y="0"/>
                    </a:moveTo>
                    <a:lnTo>
                      <a:pt x="2001" y="0"/>
                    </a:lnTo>
                    <a:lnTo>
                      <a:pt x="2001" y="1"/>
                    </a:lnTo>
                    <a:lnTo>
                      <a:pt x="2001" y="1"/>
                    </a:lnTo>
                    <a:lnTo>
                      <a:pt x="2000" y="1"/>
                    </a:lnTo>
                    <a:lnTo>
                      <a:pt x="2000" y="1"/>
                    </a:lnTo>
                    <a:lnTo>
                      <a:pt x="1998" y="3"/>
                    </a:lnTo>
                    <a:lnTo>
                      <a:pt x="1998" y="3"/>
                    </a:lnTo>
                    <a:lnTo>
                      <a:pt x="1998" y="3"/>
                    </a:lnTo>
                    <a:lnTo>
                      <a:pt x="199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92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33000">
                <a:off x="4665960" y="5947560"/>
                <a:ext cx="1991160" cy="13680"/>
              </a:xfrm>
              <a:custGeom>
                <a:avLst/>
                <a:gdLst/>
                <a:ahLst/>
                <a:rect l="l" t="t" r="r" b="b"/>
                <a:pathLst>
                  <a:path w="1998" h="4">
                    <a:moveTo>
                      <a:pt x="0" y="0"/>
                    </a:moveTo>
                    <a:lnTo>
                      <a:pt x="1998" y="0"/>
                    </a:lnTo>
                    <a:lnTo>
                      <a:pt x="1996" y="2"/>
                    </a:lnTo>
                    <a:lnTo>
                      <a:pt x="1996" y="2"/>
                    </a:lnTo>
                    <a:lnTo>
                      <a:pt x="1996" y="2"/>
                    </a:lnTo>
                    <a:lnTo>
                      <a:pt x="1994" y="2"/>
                    </a:lnTo>
                    <a:lnTo>
                      <a:pt x="1994" y="4"/>
                    </a:lnTo>
                    <a:lnTo>
                      <a:pt x="1993" y="4"/>
                    </a:lnTo>
                    <a:lnTo>
                      <a:pt x="1993" y="4"/>
                    </a:lnTo>
                    <a:lnTo>
                      <a:pt x="1991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833000">
                <a:off x="4666320" y="5952960"/>
                <a:ext cx="1984320" cy="9720"/>
              </a:xfrm>
              <a:custGeom>
                <a:avLst/>
                <a:gdLst/>
                <a:ahLst/>
                <a:rect l="l" t="t" r="r" b="b"/>
                <a:pathLst>
                  <a:path w="1991" h="3">
                    <a:moveTo>
                      <a:pt x="0" y="0"/>
                    </a:moveTo>
                    <a:lnTo>
                      <a:pt x="1991" y="0"/>
                    </a:lnTo>
                    <a:lnTo>
                      <a:pt x="1991" y="2"/>
                    </a:lnTo>
                    <a:lnTo>
                      <a:pt x="1990" y="2"/>
                    </a:lnTo>
                    <a:lnTo>
                      <a:pt x="1990" y="2"/>
                    </a:lnTo>
                    <a:lnTo>
                      <a:pt x="1988" y="2"/>
                    </a:lnTo>
                    <a:lnTo>
                      <a:pt x="1988" y="3"/>
                    </a:lnTo>
                    <a:lnTo>
                      <a:pt x="1987" y="3"/>
                    </a:lnTo>
                    <a:lnTo>
                      <a:pt x="1985" y="3"/>
                    </a:lnTo>
                    <a:lnTo>
                      <a:pt x="198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c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33000">
                <a:off x="4665960" y="5959080"/>
                <a:ext cx="1978200" cy="9720"/>
              </a:xfrm>
              <a:custGeom>
                <a:avLst/>
                <a:gdLst/>
                <a:ahLst/>
                <a:rect l="l" t="t" r="r" b="b"/>
                <a:pathLst>
                  <a:path w="1985" h="3">
                    <a:moveTo>
                      <a:pt x="0" y="0"/>
                    </a:moveTo>
                    <a:lnTo>
                      <a:pt x="1985" y="0"/>
                    </a:lnTo>
                    <a:lnTo>
                      <a:pt x="1984" y="1"/>
                    </a:lnTo>
                    <a:lnTo>
                      <a:pt x="1982" y="1"/>
                    </a:lnTo>
                    <a:lnTo>
                      <a:pt x="1981" y="1"/>
                    </a:lnTo>
                    <a:lnTo>
                      <a:pt x="1979" y="3"/>
                    </a:lnTo>
                    <a:lnTo>
                      <a:pt x="1977" y="3"/>
                    </a:lnTo>
                    <a:lnTo>
                      <a:pt x="1974" y="3"/>
                    </a:lnTo>
                    <a:lnTo>
                      <a:pt x="1973" y="3"/>
                    </a:lnTo>
                    <a:lnTo>
                      <a:pt x="1971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48a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3000">
                <a:off x="4667760" y="5962320"/>
                <a:ext cx="1972440" cy="6840"/>
              </a:xfrm>
              <a:custGeom>
                <a:avLst/>
                <a:gdLst/>
                <a:ahLst/>
                <a:rect l="l" t="t" r="r" b="b"/>
                <a:pathLst>
                  <a:path w="1979" h="2">
                    <a:moveTo>
                      <a:pt x="0" y="0"/>
                    </a:moveTo>
                    <a:lnTo>
                      <a:pt x="1979" y="0"/>
                    </a:lnTo>
                    <a:lnTo>
                      <a:pt x="1978" y="2"/>
                    </a:lnTo>
                    <a:lnTo>
                      <a:pt x="1976" y="2"/>
                    </a:lnTo>
                    <a:lnTo>
                      <a:pt x="1974" y="2"/>
                    </a:lnTo>
                    <a:lnTo>
                      <a:pt x="1973" y="2"/>
                    </a:lnTo>
                    <a:lnTo>
                      <a:pt x="1973" y="2"/>
                    </a:lnTo>
                    <a:lnTo>
                      <a:pt x="1971" y="2"/>
                    </a:lnTo>
                    <a:lnTo>
                      <a:pt x="1970" y="2"/>
                    </a:lnTo>
                    <a:lnTo>
                      <a:pt x="1968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833000">
                <a:off x="4914360" y="5554800"/>
                <a:ext cx="1949760" cy="27720"/>
              </a:xfrm>
              <a:custGeom>
                <a:avLst/>
                <a:gdLst/>
                <a:ahLst/>
                <a:rect l="l" t="t" r="r" b="b"/>
                <a:pathLst>
                  <a:path w="1956" h="8">
                    <a:moveTo>
                      <a:pt x="1956" y="0"/>
                    </a:moveTo>
                    <a:lnTo>
                      <a:pt x="1956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956" y="8"/>
                    </a:lnTo>
                    <a:lnTo>
                      <a:pt x="1956" y="8"/>
                    </a:lnTo>
                    <a:lnTo>
                      <a:pt x="195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833000">
                <a:off x="6692040" y="6051960"/>
                <a:ext cx="43560" cy="16020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45"/>
                    </a:moveTo>
                    <a:lnTo>
                      <a:pt x="44" y="45"/>
                    </a:lnTo>
                    <a:lnTo>
                      <a:pt x="43" y="37"/>
                    </a:lnTo>
                    <a:lnTo>
                      <a:pt x="40" y="29"/>
                    </a:lnTo>
                    <a:lnTo>
                      <a:pt x="35" y="21"/>
                    </a:lnTo>
                    <a:lnTo>
                      <a:pt x="30" y="15"/>
                    </a:lnTo>
                    <a:lnTo>
                      <a:pt x="24" y="10"/>
                    </a:lnTo>
                    <a:lnTo>
                      <a:pt x="17" y="5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4" y="12"/>
                    </a:lnTo>
                    <a:lnTo>
                      <a:pt x="19" y="15"/>
                    </a:lnTo>
                    <a:lnTo>
                      <a:pt x="24" y="20"/>
                    </a:lnTo>
                    <a:lnTo>
                      <a:pt x="29" y="26"/>
                    </a:lnTo>
                    <a:lnTo>
                      <a:pt x="33" y="32"/>
                    </a:lnTo>
                    <a:lnTo>
                      <a:pt x="37" y="40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44" y="4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833000">
                <a:off x="6667920" y="6199560"/>
                <a:ext cx="10800" cy="8748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26"/>
                    </a:moveTo>
                    <a:lnTo>
                      <a:pt x="11" y="26"/>
                    </a:lnTo>
                    <a:lnTo>
                      <a:pt x="10" y="22"/>
                    </a:lnTo>
                    <a:lnTo>
                      <a:pt x="10" y="19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8" y="8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1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1" y="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833000">
                <a:off x="6619320" y="6274080"/>
                <a:ext cx="10800" cy="10224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6" y="30"/>
                    </a:moveTo>
                    <a:lnTo>
                      <a:pt x="6" y="30"/>
                    </a:lnTo>
                    <a:lnTo>
                      <a:pt x="8" y="25"/>
                    </a:lnTo>
                    <a:lnTo>
                      <a:pt x="8" y="22"/>
                    </a:lnTo>
                    <a:lnTo>
                      <a:pt x="10" y="19"/>
                    </a:lnTo>
                    <a:lnTo>
                      <a:pt x="10" y="16"/>
                    </a:lnTo>
                    <a:lnTo>
                      <a:pt x="10" y="11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833000">
                <a:off x="6521400" y="6341760"/>
                <a:ext cx="43560" cy="1591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47"/>
                    </a:moveTo>
                    <a:lnTo>
                      <a:pt x="0" y="47"/>
                    </a:lnTo>
                    <a:lnTo>
                      <a:pt x="8" y="45"/>
                    </a:lnTo>
                    <a:lnTo>
                      <a:pt x="17" y="42"/>
                    </a:lnTo>
                    <a:lnTo>
                      <a:pt x="24" y="37"/>
                    </a:lnTo>
                    <a:lnTo>
                      <a:pt x="30" y="32"/>
                    </a:lnTo>
                    <a:lnTo>
                      <a:pt x="35" y="26"/>
                    </a:lnTo>
                    <a:lnTo>
                      <a:pt x="40" y="18"/>
                    </a:lnTo>
                    <a:lnTo>
                      <a:pt x="43" y="10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7" y="7"/>
                    </a:lnTo>
                    <a:lnTo>
                      <a:pt x="33" y="15"/>
                    </a:lnTo>
                    <a:lnTo>
                      <a:pt x="29" y="21"/>
                    </a:lnTo>
                    <a:lnTo>
                      <a:pt x="25" y="27"/>
                    </a:lnTo>
                    <a:lnTo>
                      <a:pt x="19" y="32"/>
                    </a:lnTo>
                    <a:lnTo>
                      <a:pt x="14" y="35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833000">
                <a:off x="4676400" y="5958360"/>
                <a:ext cx="1949760" cy="26640"/>
              </a:xfrm>
              <a:custGeom>
                <a:avLst/>
                <a:gdLst/>
                <a:ahLst/>
                <a:rect l="l" t="t" r="r" b="b"/>
                <a:pathLst>
                  <a:path w="1956" h="8">
                    <a:moveTo>
                      <a:pt x="0" y="8"/>
                    </a:moveTo>
                    <a:lnTo>
                      <a:pt x="0" y="8"/>
                    </a:lnTo>
                    <a:lnTo>
                      <a:pt x="1956" y="8"/>
                    </a:lnTo>
                    <a:lnTo>
                      <a:pt x="195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33000">
                <a:off x="4803840" y="5328000"/>
                <a:ext cx="44640" cy="1591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0" y="2"/>
                    </a:moveTo>
                    <a:lnTo>
                      <a:pt x="0" y="2"/>
                    </a:lnTo>
                    <a:lnTo>
                      <a:pt x="2" y="10"/>
                    </a:lnTo>
                    <a:lnTo>
                      <a:pt x="5" y="18"/>
                    </a:lnTo>
                    <a:lnTo>
                      <a:pt x="10" y="26"/>
                    </a:lnTo>
                    <a:lnTo>
                      <a:pt x="14" y="32"/>
                    </a:lnTo>
                    <a:lnTo>
                      <a:pt x="21" y="37"/>
                    </a:lnTo>
                    <a:lnTo>
                      <a:pt x="27" y="42"/>
                    </a:lnTo>
                    <a:lnTo>
                      <a:pt x="35" y="45"/>
                    </a:lnTo>
                    <a:lnTo>
                      <a:pt x="45" y="47"/>
                    </a:lnTo>
                    <a:lnTo>
                      <a:pt x="45" y="39"/>
                    </a:lnTo>
                    <a:lnTo>
                      <a:pt x="37" y="39"/>
                    </a:lnTo>
                    <a:lnTo>
                      <a:pt x="30" y="35"/>
                    </a:lnTo>
                    <a:lnTo>
                      <a:pt x="25" y="32"/>
                    </a:lnTo>
                    <a:lnTo>
                      <a:pt x="19" y="27"/>
                    </a:lnTo>
                    <a:lnTo>
                      <a:pt x="16" y="21"/>
                    </a:lnTo>
                    <a:lnTo>
                      <a:pt x="11" y="15"/>
                    </a:lnTo>
                    <a:lnTo>
                      <a:pt x="8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33000">
                <a:off x="4889160" y="5157720"/>
                <a:ext cx="8640" cy="190080"/>
              </a:xfrm>
              <a:custGeom>
                <a:avLst/>
                <a:gdLst/>
                <a:ahLst/>
                <a:rect l="l" t="t" r="r" b="b"/>
                <a:pathLst>
                  <a:path w="9" h="56">
                    <a:moveTo>
                      <a:pt x="3" y="0"/>
                    </a:moveTo>
                    <a:lnTo>
                      <a:pt x="3" y="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3" y="56"/>
                    </a:lnTo>
                    <a:lnTo>
                      <a:pt x="9" y="54"/>
                    </a:lnTo>
                    <a:lnTo>
                      <a:pt x="8" y="48"/>
                    </a:lnTo>
                    <a:lnTo>
                      <a:pt x="6" y="42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2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33000">
                <a:off x="4974480" y="5038560"/>
                <a:ext cx="44640" cy="16020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45" y="0"/>
                    </a:moveTo>
                    <a:lnTo>
                      <a:pt x="45" y="0"/>
                    </a:lnTo>
                    <a:lnTo>
                      <a:pt x="35" y="2"/>
                    </a:lnTo>
                    <a:lnTo>
                      <a:pt x="27" y="5"/>
                    </a:lnTo>
                    <a:lnTo>
                      <a:pt x="21" y="10"/>
                    </a:lnTo>
                    <a:lnTo>
                      <a:pt x="14" y="15"/>
                    </a:lnTo>
                    <a:lnTo>
                      <a:pt x="10" y="21"/>
                    </a:lnTo>
                    <a:lnTo>
                      <a:pt x="5" y="29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6" y="47"/>
                    </a:lnTo>
                    <a:lnTo>
                      <a:pt x="8" y="39"/>
                    </a:lnTo>
                    <a:lnTo>
                      <a:pt x="11" y="32"/>
                    </a:lnTo>
                    <a:lnTo>
                      <a:pt x="14" y="26"/>
                    </a:lnTo>
                    <a:lnTo>
                      <a:pt x="19" y="20"/>
                    </a:lnTo>
                    <a:lnTo>
                      <a:pt x="24" y="15"/>
                    </a:lnTo>
                    <a:lnTo>
                      <a:pt x="30" y="12"/>
                    </a:lnTo>
                    <a:lnTo>
                      <a:pt x="37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33000">
                <a:off x="4940280" y="5407560"/>
                <a:ext cx="1077480" cy="74520"/>
              </a:xfrm>
              <a:custGeom>
                <a:avLst/>
                <a:gdLst/>
                <a:ahLst/>
                <a:rect l="l" t="t" r="r" b="b"/>
                <a:pathLst>
                  <a:path w="1081" h="22">
                    <a:moveTo>
                      <a:pt x="1057" y="0"/>
                    </a:moveTo>
                    <a:lnTo>
                      <a:pt x="1081" y="16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0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833000">
                <a:off x="5909400" y="5906520"/>
                <a:ext cx="830160" cy="74520"/>
              </a:xfrm>
              <a:custGeom>
                <a:avLst/>
                <a:gdLst/>
                <a:ahLst/>
                <a:rect l="l" t="t" r="r" b="b"/>
                <a:pathLst>
                  <a:path w="833" h="22">
                    <a:moveTo>
                      <a:pt x="18" y="0"/>
                    </a:moveTo>
                    <a:lnTo>
                      <a:pt x="0" y="16"/>
                    </a:lnTo>
                    <a:lnTo>
                      <a:pt x="833" y="22"/>
                    </a:lnTo>
                    <a:lnTo>
                      <a:pt x="81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833000">
                <a:off x="4808520" y="5628960"/>
                <a:ext cx="1077480" cy="77760"/>
              </a:xfrm>
              <a:custGeom>
                <a:avLst/>
                <a:gdLst/>
                <a:ahLst/>
                <a:rect l="l" t="t" r="r" b="b"/>
                <a:pathLst>
                  <a:path w="1081" h="23">
                    <a:moveTo>
                      <a:pt x="1057" y="21"/>
                    </a:moveTo>
                    <a:lnTo>
                      <a:pt x="1081" y="5"/>
                    </a:lnTo>
                    <a:lnTo>
                      <a:pt x="11" y="0"/>
                    </a:lnTo>
                    <a:lnTo>
                      <a:pt x="0" y="23"/>
                    </a:lnTo>
                    <a:lnTo>
                      <a:pt x="1057" y="21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33000">
                <a:off x="5776920" y="6130080"/>
                <a:ext cx="838080" cy="77760"/>
              </a:xfrm>
              <a:custGeom>
                <a:avLst/>
                <a:gdLst/>
                <a:ahLst/>
                <a:rect l="l" t="t" r="r" b="b"/>
                <a:pathLst>
                  <a:path w="841" h="23">
                    <a:moveTo>
                      <a:pt x="18" y="21"/>
                    </a:moveTo>
                    <a:lnTo>
                      <a:pt x="0" y="5"/>
                    </a:lnTo>
                    <a:lnTo>
                      <a:pt x="841" y="0"/>
                    </a:lnTo>
                    <a:lnTo>
                      <a:pt x="824" y="23"/>
                    </a:lnTo>
                    <a:lnTo>
                      <a:pt x="18" y="21"/>
                    </a:lnTo>
                    <a:close/>
                  </a:path>
                </a:pathLst>
              </a:custGeom>
              <a:solidFill>
                <a:srgbClr val="7b8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33000">
                <a:off x="6683760" y="62204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8d8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833000">
                <a:off x="6681960" y="622044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9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833000">
                <a:off x="6679080" y="6220440"/>
                <a:ext cx="7920" cy="266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9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833000">
                <a:off x="6678360" y="622044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b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833000">
                <a:off x="6676920" y="6221160"/>
                <a:ext cx="11880" cy="367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8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b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833000">
                <a:off x="6675120" y="6220800"/>
                <a:ext cx="12600" cy="435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c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833000">
                <a:off x="6672600" y="6220800"/>
                <a:ext cx="14760" cy="53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1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dddc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833000">
                <a:off x="6671160" y="6221160"/>
                <a:ext cx="17640" cy="576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3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ded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833000">
                <a:off x="6667920" y="6220800"/>
                <a:ext cx="19800" cy="7056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16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f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833000">
                <a:off x="6666840" y="6221160"/>
                <a:ext cx="22680" cy="7452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7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0d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33000">
                <a:off x="6664680" y="6221160"/>
                <a:ext cx="23760" cy="813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1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d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33000">
                <a:off x="6662160" y="6221160"/>
                <a:ext cx="26640" cy="914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2"/>
                    </a:move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e1e1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33000">
                <a:off x="6660360" y="6221160"/>
                <a:ext cx="28800" cy="982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4"/>
                    </a:move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1e1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833000">
                <a:off x="6657480" y="6220800"/>
                <a:ext cx="30600" cy="1083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27"/>
                    </a:move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2e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833000">
                <a:off x="6654600" y="6221160"/>
                <a:ext cx="33840" cy="118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29"/>
                    </a:move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3e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833000">
                <a:off x="6652800" y="6220800"/>
                <a:ext cx="34560" cy="125280"/>
              </a:xfrm>
              <a:custGeom>
                <a:avLst/>
                <a:gdLst/>
                <a:ahLst/>
                <a:rect l="l" t="t" r="r" b="b"/>
                <a:pathLst>
                  <a:path w="35" h="37">
                    <a:moveTo>
                      <a:pt x="0" y="32"/>
                    </a:moveTo>
                    <a:lnTo>
                      <a:pt x="31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4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833000">
                <a:off x="6649200" y="6221160"/>
                <a:ext cx="39960" cy="135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" y="35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e5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833000">
                <a:off x="6646680" y="6220440"/>
                <a:ext cx="40680" cy="14544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1" y="37"/>
                    </a:moveTo>
                    <a:lnTo>
                      <a:pt x="36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e5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833000">
                <a:off x="6644880" y="6220800"/>
                <a:ext cx="43560" cy="15228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40"/>
                    </a:move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e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833000">
                <a:off x="6643440" y="6221160"/>
                <a:ext cx="45720" cy="15624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3"/>
                    </a:moveTo>
                    <a:lnTo>
                      <a:pt x="41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7e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833000">
                <a:off x="6643440" y="6221160"/>
                <a:ext cx="46800" cy="15624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5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8e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833000">
                <a:off x="6644160" y="6222240"/>
                <a:ext cx="49680" cy="15624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46"/>
                    </a:moveTo>
                    <a:lnTo>
                      <a:pt x="45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9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833000">
                <a:off x="6645960" y="622332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9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833000">
                <a:off x="6648480" y="622476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5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b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33000">
                <a:off x="6650280" y="622584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bea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33000">
                <a:off x="6650640" y="6226560"/>
                <a:ext cx="50760" cy="15624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46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ce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833000">
                <a:off x="6654600" y="622836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de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833000">
                <a:off x="6655320" y="622908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e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833000">
                <a:off x="6656760" y="6230160"/>
                <a:ext cx="50760" cy="15624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0" y="46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f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833000">
                <a:off x="6659640" y="6231600"/>
                <a:ext cx="48600" cy="15624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44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0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833000">
                <a:off x="6662880" y="6226200"/>
                <a:ext cx="49680" cy="16308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8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0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833000">
                <a:off x="6662160" y="6226560"/>
                <a:ext cx="50760" cy="16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48"/>
                    </a:moveTo>
                    <a:lnTo>
                      <a:pt x="46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2f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33000">
                <a:off x="6665400" y="6227640"/>
                <a:ext cx="48600" cy="1692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48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2f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33000">
                <a:off x="6666480" y="6229440"/>
                <a:ext cx="50760" cy="16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3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833000">
                <a:off x="6667560" y="6229800"/>
                <a:ext cx="50760" cy="16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833000">
                <a:off x="6670440" y="6231240"/>
                <a:ext cx="49680" cy="16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4f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33000">
                <a:off x="6671880" y="6232320"/>
                <a:ext cx="50760" cy="16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6f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33000">
                <a:off x="6673320" y="6233400"/>
                <a:ext cx="51480" cy="16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50"/>
                    </a:move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6f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833000">
                <a:off x="6675840" y="6234840"/>
                <a:ext cx="50760" cy="1692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7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833000">
                <a:off x="6677640" y="6235560"/>
                <a:ext cx="49680" cy="16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8f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833000">
                <a:off x="6697800" y="6163920"/>
                <a:ext cx="77400" cy="254160"/>
              </a:xfrm>
              <a:custGeom>
                <a:avLst/>
                <a:gdLst/>
                <a:ahLst/>
                <a:rect l="l" t="t" r="r" b="b"/>
                <a:pathLst>
                  <a:path w="78" h="75">
                    <a:moveTo>
                      <a:pt x="0" y="75"/>
                    </a:moveTo>
                    <a:lnTo>
                      <a:pt x="48" y="25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0" y="75"/>
                    </a:lnTo>
                    <a:close/>
                    <a:moveTo>
                      <a:pt x="78" y="0"/>
                    </a:moveTo>
                    <a:lnTo>
                      <a:pt x="68" y="9"/>
                    </a:lnTo>
                    <a:lnTo>
                      <a:pt x="68" y="8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3" y="5"/>
                    </a:lnTo>
                    <a:lnTo>
                      <a:pt x="73" y="3"/>
                    </a:lnTo>
                    <a:lnTo>
                      <a:pt x="75" y="1"/>
                    </a:lnTo>
                    <a:lnTo>
                      <a:pt x="76" y="1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833000">
                <a:off x="6705000" y="6150960"/>
                <a:ext cx="80640" cy="27108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0" y="80"/>
                    </a:moveTo>
                    <a:lnTo>
                      <a:pt x="46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  <a:moveTo>
                      <a:pt x="81" y="0"/>
                    </a:moveTo>
                    <a:lnTo>
                      <a:pt x="57" y="24"/>
                    </a:lnTo>
                    <a:lnTo>
                      <a:pt x="59" y="21"/>
                    </a:lnTo>
                    <a:lnTo>
                      <a:pt x="62" y="17"/>
                    </a:lnTo>
                    <a:lnTo>
                      <a:pt x="65" y="14"/>
                    </a:lnTo>
                    <a:lnTo>
                      <a:pt x="67" y="11"/>
                    </a:lnTo>
                    <a:lnTo>
                      <a:pt x="70" y="8"/>
                    </a:lnTo>
                    <a:lnTo>
                      <a:pt x="73" y="5"/>
                    </a:lnTo>
                    <a:lnTo>
                      <a:pt x="76" y="2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a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833000">
                <a:off x="6708240" y="6145560"/>
                <a:ext cx="81720" cy="2779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4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9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  <a:moveTo>
                      <a:pt x="63" y="16"/>
                    </a:moveTo>
                    <a:lnTo>
                      <a:pt x="73" y="7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78" y="2"/>
                    </a:lnTo>
                    <a:lnTo>
                      <a:pt x="79" y="2"/>
                    </a:lnTo>
                    <a:lnTo>
                      <a:pt x="81" y="2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4" y="29"/>
                    </a:lnTo>
                    <a:lnTo>
                      <a:pt x="55" y="27"/>
                    </a:lnTo>
                    <a:lnTo>
                      <a:pt x="57" y="24"/>
                    </a:lnTo>
                    <a:lnTo>
                      <a:pt x="59" y="23"/>
                    </a:lnTo>
                    <a:lnTo>
                      <a:pt x="60" y="19"/>
                    </a:lnTo>
                    <a:lnTo>
                      <a:pt x="63" y="16"/>
                    </a:lnTo>
                    <a:close/>
                  </a:path>
                </a:pathLst>
              </a:custGeom>
              <a:solidFill>
                <a:srgbClr val="fa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833000">
                <a:off x="6708960" y="6145920"/>
                <a:ext cx="82440" cy="2779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82"/>
                    </a:moveTo>
                    <a:lnTo>
                      <a:pt x="48" y="32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3" y="29"/>
                    </a:lnTo>
                    <a:lnTo>
                      <a:pt x="53" y="29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3" y="0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b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833000">
                <a:off x="6712560" y="6147720"/>
                <a:ext cx="80640" cy="27792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82"/>
                    </a:move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77" y="0"/>
                    </a:lnTo>
                    <a:lnTo>
                      <a:pt x="81" y="0"/>
                    </a:lnTo>
                    <a:lnTo>
                      <a:pt x="4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c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33000">
                <a:off x="6713280" y="6148800"/>
                <a:ext cx="82440" cy="2779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833000">
                <a:off x="6716160" y="6149880"/>
                <a:ext cx="80640" cy="27792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82"/>
                    </a:moveTo>
                    <a:lnTo>
                      <a:pt x="77" y="0"/>
                    </a:lnTo>
                    <a:lnTo>
                      <a:pt x="81" y="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833000">
                <a:off x="6717600" y="6151320"/>
                <a:ext cx="82440" cy="2779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5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3000">
                <a:off x="6719400" y="6152040"/>
                <a:ext cx="81720" cy="2779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77" y="0"/>
                    </a:lnTo>
                    <a:lnTo>
                      <a:pt x="82" y="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833000">
                <a:off x="6722280" y="6153480"/>
                <a:ext cx="80640" cy="27792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82"/>
                    </a:moveTo>
                    <a:lnTo>
                      <a:pt x="78" y="0"/>
                    </a:lnTo>
                    <a:lnTo>
                      <a:pt x="81" y="0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833000">
                <a:off x="6722640" y="6154200"/>
                <a:ext cx="82440" cy="2779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5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cfb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33000">
                <a:off x="6724800" y="6155280"/>
                <a:ext cx="81720" cy="2779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78" y="0"/>
                    </a:lnTo>
                    <a:lnTo>
                      <a:pt x="82" y="0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bf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833000">
                <a:off x="6726960" y="6156720"/>
                <a:ext cx="82440" cy="2779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5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9f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833000">
                <a:off x="6729120" y="6157800"/>
                <a:ext cx="81720" cy="2779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77" y="0"/>
                    </a:lnTo>
                    <a:lnTo>
                      <a:pt x="82" y="0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8f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833000">
                <a:off x="6731640" y="6158880"/>
                <a:ext cx="80640" cy="27792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82"/>
                    </a:moveTo>
                    <a:lnTo>
                      <a:pt x="78" y="0"/>
                    </a:lnTo>
                    <a:lnTo>
                      <a:pt x="81" y="0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7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833000">
                <a:off x="6731280" y="6159600"/>
                <a:ext cx="82440" cy="28188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4" y="83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6f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833000">
                <a:off x="6733080" y="6160320"/>
                <a:ext cx="82440" cy="28188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82"/>
                    </a:moveTo>
                    <a:lnTo>
                      <a:pt x="78" y="0"/>
                    </a:lnTo>
                    <a:lnTo>
                      <a:pt x="83" y="0"/>
                    </a:lnTo>
                    <a:lnTo>
                      <a:pt x="3" y="83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2" y="82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4f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833000">
                <a:off x="6733080" y="6161400"/>
                <a:ext cx="83520" cy="28872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0" y="83"/>
                    </a:moveTo>
                    <a:lnTo>
                      <a:pt x="79" y="0"/>
                    </a:lnTo>
                    <a:lnTo>
                      <a:pt x="84" y="0"/>
                    </a:lnTo>
                    <a:lnTo>
                      <a:pt x="3" y="85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3f2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833000">
                <a:off x="6732000" y="6161400"/>
                <a:ext cx="83520" cy="295560"/>
              </a:xfrm>
              <a:custGeom>
                <a:avLst/>
                <a:gdLst/>
                <a:ahLst/>
                <a:rect l="l" t="t" r="r" b="b"/>
                <a:pathLst>
                  <a:path w="84" h="87">
                    <a:moveTo>
                      <a:pt x="0" y="83"/>
                    </a:moveTo>
                    <a:lnTo>
                      <a:pt x="80" y="0"/>
                    </a:lnTo>
                    <a:lnTo>
                      <a:pt x="84" y="0"/>
                    </a:lnTo>
                    <a:lnTo>
                      <a:pt x="2" y="87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2f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833000">
                <a:off x="6733080" y="6162480"/>
                <a:ext cx="83520" cy="298800"/>
              </a:xfrm>
              <a:custGeom>
                <a:avLst/>
                <a:gdLst/>
                <a:ahLst/>
                <a:rect l="l" t="t" r="r" b="b"/>
                <a:pathLst>
                  <a:path w="84" h="88">
                    <a:moveTo>
                      <a:pt x="0" y="85"/>
                    </a:moveTo>
                    <a:lnTo>
                      <a:pt x="81" y="0"/>
                    </a:lnTo>
                    <a:lnTo>
                      <a:pt x="84" y="0"/>
                    </a:lnTo>
                    <a:lnTo>
                      <a:pt x="1" y="88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1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833000">
                <a:off x="6731280" y="6162840"/>
                <a:ext cx="86400" cy="30564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0" y="87"/>
                    </a:moveTo>
                    <a:lnTo>
                      <a:pt x="82" y="0"/>
                    </a:lnTo>
                    <a:lnTo>
                      <a:pt x="87" y="0"/>
                    </a:lnTo>
                    <a:lnTo>
                      <a:pt x="3" y="9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ef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833000">
                <a:off x="6731640" y="6163200"/>
                <a:ext cx="87480" cy="305640"/>
              </a:xfrm>
              <a:custGeom>
                <a:avLst/>
                <a:gdLst/>
                <a:ahLst/>
                <a:rect l="l" t="t" r="r" b="b"/>
                <a:pathLst>
                  <a:path w="88" h="90">
                    <a:moveTo>
                      <a:pt x="0" y="88"/>
                    </a:moveTo>
                    <a:lnTo>
                      <a:pt x="83" y="0"/>
                    </a:lnTo>
                    <a:lnTo>
                      <a:pt x="88" y="0"/>
                    </a:lnTo>
                    <a:lnTo>
                      <a:pt x="2" y="9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eee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833000">
                <a:off x="6733080" y="6164640"/>
                <a:ext cx="88560" cy="308520"/>
              </a:xfrm>
              <a:custGeom>
                <a:avLst/>
                <a:gdLst/>
                <a:ahLst/>
                <a:rect l="l" t="t" r="r" b="b"/>
                <a:pathLst>
                  <a:path w="89" h="91">
                    <a:moveTo>
                      <a:pt x="0" y="90"/>
                    </a:moveTo>
                    <a:lnTo>
                      <a:pt x="84" y="0"/>
                    </a:lnTo>
                    <a:lnTo>
                      <a:pt x="89" y="0"/>
                    </a:lnTo>
                    <a:lnTo>
                      <a:pt x="2" y="91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dec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833000">
                <a:off x="6730920" y="6164280"/>
                <a:ext cx="89640" cy="315720"/>
              </a:xfrm>
              <a:custGeom>
                <a:avLst/>
                <a:gdLst/>
                <a:ahLst/>
                <a:rect l="l" t="t" r="r" b="b"/>
                <a:pathLst>
                  <a:path w="90" h="93">
                    <a:moveTo>
                      <a:pt x="0" y="90"/>
                    </a:moveTo>
                    <a:lnTo>
                      <a:pt x="86" y="0"/>
                    </a:lnTo>
                    <a:lnTo>
                      <a:pt x="90" y="0"/>
                    </a:lnTo>
                    <a:lnTo>
                      <a:pt x="3" y="93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ceb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833000">
                <a:off x="6730920" y="6164280"/>
                <a:ext cx="89280" cy="322560"/>
              </a:xfrm>
              <a:custGeom>
                <a:avLst/>
                <a:gdLst/>
                <a:ahLst/>
                <a:rect l="l" t="t" r="r" b="b"/>
                <a:pathLst>
                  <a:path w="90" h="95">
                    <a:moveTo>
                      <a:pt x="0" y="91"/>
                    </a:moveTo>
                    <a:lnTo>
                      <a:pt x="87" y="0"/>
                    </a:lnTo>
                    <a:lnTo>
                      <a:pt x="90" y="0"/>
                    </a:lnTo>
                    <a:lnTo>
                      <a:pt x="1" y="95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a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833000">
                <a:off x="6731280" y="6165720"/>
                <a:ext cx="91440" cy="32256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0" y="93"/>
                    </a:moveTo>
                    <a:lnTo>
                      <a:pt x="87" y="0"/>
                    </a:lnTo>
                    <a:lnTo>
                      <a:pt x="92" y="0"/>
                    </a:lnTo>
                    <a:lnTo>
                      <a:pt x="2" y="95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e9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833000">
                <a:off x="6730560" y="6166080"/>
                <a:ext cx="93240" cy="325800"/>
              </a:xfrm>
              <a:custGeom>
                <a:avLst/>
                <a:gdLst/>
                <a:ahLst/>
                <a:rect l="l" t="t" r="r" b="b"/>
                <a:pathLst>
                  <a:path w="94" h="96">
                    <a:moveTo>
                      <a:pt x="0" y="95"/>
                    </a:moveTo>
                    <a:lnTo>
                      <a:pt x="89" y="0"/>
                    </a:lnTo>
                    <a:lnTo>
                      <a:pt x="94" y="0"/>
                    </a:lnTo>
                    <a:lnTo>
                      <a:pt x="3" y="96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8e7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833000">
                <a:off x="6730560" y="6166800"/>
                <a:ext cx="94680" cy="332640"/>
              </a:xfrm>
              <a:custGeom>
                <a:avLst/>
                <a:gdLst/>
                <a:ahLst/>
                <a:rect l="l" t="t" r="r" b="b"/>
                <a:pathLst>
                  <a:path w="95" h="98">
                    <a:moveTo>
                      <a:pt x="0" y="95"/>
                    </a:moveTo>
                    <a:lnTo>
                      <a:pt x="90" y="0"/>
                    </a:lnTo>
                    <a:lnTo>
                      <a:pt x="95" y="0"/>
                    </a:lnTo>
                    <a:lnTo>
                      <a:pt x="1" y="98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e7e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833000">
                <a:off x="6730200" y="6167160"/>
                <a:ext cx="95760" cy="335520"/>
              </a:xfrm>
              <a:custGeom>
                <a:avLst/>
                <a:gdLst/>
                <a:ahLst/>
                <a:rect l="l" t="t" r="r" b="b"/>
                <a:pathLst>
                  <a:path w="96" h="99">
                    <a:moveTo>
                      <a:pt x="0" y="96"/>
                    </a:moveTo>
                    <a:lnTo>
                      <a:pt x="91" y="0"/>
                    </a:lnTo>
                    <a:lnTo>
                      <a:pt x="96" y="0"/>
                    </a:lnTo>
                    <a:lnTo>
                      <a:pt x="2" y="99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e5e4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833000">
                <a:off x="6730200" y="6167520"/>
                <a:ext cx="96480" cy="3355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0" y="98"/>
                    </a:moveTo>
                    <a:lnTo>
                      <a:pt x="94" y="0"/>
                    </a:lnTo>
                    <a:lnTo>
                      <a:pt x="97" y="0"/>
                    </a:lnTo>
                    <a:lnTo>
                      <a:pt x="2" y="9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e4e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3000">
                <a:off x="6730200" y="6168240"/>
                <a:ext cx="97560" cy="342720"/>
              </a:xfrm>
              <a:custGeom>
                <a:avLst/>
                <a:gdLst/>
                <a:ahLst/>
                <a:rect l="l" t="t" r="r" b="b"/>
                <a:pathLst>
                  <a:path w="98" h="101">
                    <a:moveTo>
                      <a:pt x="0" y="99"/>
                    </a:moveTo>
                    <a:lnTo>
                      <a:pt x="94" y="0"/>
                    </a:lnTo>
                    <a:lnTo>
                      <a:pt x="98" y="0"/>
                    </a:lnTo>
                    <a:lnTo>
                      <a:pt x="1" y="101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e3e2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833000">
                <a:off x="6729120" y="6168600"/>
                <a:ext cx="99360" cy="34632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0" y="99"/>
                    </a:moveTo>
                    <a:lnTo>
                      <a:pt x="95" y="0"/>
                    </a:lnTo>
                    <a:lnTo>
                      <a:pt x="100" y="0"/>
                    </a:lnTo>
                    <a:lnTo>
                      <a:pt x="3" y="102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e2e1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33000">
                <a:off x="6728040" y="6168960"/>
                <a:ext cx="101520" cy="352440"/>
              </a:xfrm>
              <a:custGeom>
                <a:avLst/>
                <a:gdLst/>
                <a:ahLst/>
                <a:rect l="l" t="t" r="r" b="b"/>
                <a:pathLst>
                  <a:path w="102" h="104">
                    <a:moveTo>
                      <a:pt x="0" y="101"/>
                    </a:moveTo>
                    <a:lnTo>
                      <a:pt x="97" y="0"/>
                    </a:lnTo>
                    <a:lnTo>
                      <a:pt x="102" y="0"/>
                    </a:lnTo>
                    <a:lnTo>
                      <a:pt x="2" y="10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e0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33000">
                <a:off x="6728040" y="6169680"/>
                <a:ext cx="101520" cy="359640"/>
              </a:xfrm>
              <a:custGeom>
                <a:avLst/>
                <a:gdLst/>
                <a:ahLst/>
                <a:rect l="l" t="t" r="r" b="b"/>
                <a:pathLst>
                  <a:path w="102" h="106">
                    <a:moveTo>
                      <a:pt x="0" y="102"/>
                    </a:moveTo>
                    <a:lnTo>
                      <a:pt x="97" y="0"/>
                    </a:lnTo>
                    <a:lnTo>
                      <a:pt x="102" y="0"/>
                    </a:lnTo>
                    <a:lnTo>
                      <a:pt x="2" y="106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e0d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33000">
                <a:off x="6728040" y="6170040"/>
                <a:ext cx="102600" cy="359640"/>
              </a:xfrm>
              <a:custGeom>
                <a:avLst/>
                <a:gdLst/>
                <a:ahLst/>
                <a:rect l="l" t="t" r="r" b="b"/>
                <a:pathLst>
                  <a:path w="103" h="106">
                    <a:moveTo>
                      <a:pt x="0" y="104"/>
                    </a:moveTo>
                    <a:lnTo>
                      <a:pt x="100" y="0"/>
                    </a:lnTo>
                    <a:lnTo>
                      <a:pt x="103" y="0"/>
                    </a:lnTo>
                    <a:lnTo>
                      <a:pt x="3" y="106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f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33000">
                <a:off x="6729120" y="6171120"/>
                <a:ext cx="103680" cy="363240"/>
              </a:xfrm>
              <a:custGeom>
                <a:avLst/>
                <a:gdLst/>
                <a:ahLst/>
                <a:rect l="l" t="t" r="r" b="b"/>
                <a:pathLst>
                  <a:path w="104" h="107">
                    <a:moveTo>
                      <a:pt x="0" y="106"/>
                    </a:moveTo>
                    <a:lnTo>
                      <a:pt x="100" y="0"/>
                    </a:lnTo>
                    <a:lnTo>
                      <a:pt x="104" y="0"/>
                    </a:lnTo>
                    <a:lnTo>
                      <a:pt x="1" y="107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dedd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33000">
                <a:off x="6727680" y="6171120"/>
                <a:ext cx="104400" cy="37044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0" y="106"/>
                    </a:moveTo>
                    <a:lnTo>
                      <a:pt x="100" y="0"/>
                    </a:lnTo>
                    <a:lnTo>
                      <a:pt x="105" y="0"/>
                    </a:lnTo>
                    <a:lnTo>
                      <a:pt x="2" y="109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dcd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33000">
                <a:off x="6726600" y="6171840"/>
                <a:ext cx="107640" cy="3733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0" y="107"/>
                    </a:moveTo>
                    <a:lnTo>
                      <a:pt x="103" y="0"/>
                    </a:lnTo>
                    <a:lnTo>
                      <a:pt x="108" y="0"/>
                    </a:lnTo>
                    <a:lnTo>
                      <a:pt x="3" y="110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db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833000">
                <a:off x="6728400" y="6172920"/>
                <a:ext cx="107640" cy="3733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0" y="109"/>
                    </a:moveTo>
                    <a:lnTo>
                      <a:pt x="103" y="0"/>
                    </a:lnTo>
                    <a:lnTo>
                      <a:pt x="108" y="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da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33000">
                <a:off x="6729480" y="6173280"/>
                <a:ext cx="107280" cy="373320"/>
              </a:xfrm>
              <a:custGeom>
                <a:avLst/>
                <a:gdLst/>
                <a:ahLst/>
                <a:rect l="l" t="t" r="r" b="b"/>
                <a:pathLst>
                  <a:path w="108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08" y="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9d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3000">
                <a:off x="6731280" y="617508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7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3000">
                <a:off x="6732720" y="617544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4" y="0"/>
                    </a:lnTo>
                    <a:lnTo>
                      <a:pt x="109" y="0"/>
                    </a:lnTo>
                    <a:lnTo>
                      <a:pt x="4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6d6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833000">
                <a:off x="6733800" y="617652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7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5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833000">
                <a:off x="6736320" y="617796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4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833000">
                <a:off x="6738120" y="6178680"/>
                <a:ext cx="10836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09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3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33000">
                <a:off x="6740640" y="618048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d0d1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833000">
                <a:off x="6742080" y="618120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4" y="0"/>
                    </a:lnTo>
                    <a:lnTo>
                      <a:pt x="109" y="0"/>
                    </a:lnTo>
                    <a:lnTo>
                      <a:pt x="4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fd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833000">
                <a:off x="6743160" y="618192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7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ec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833000">
                <a:off x="6745680" y="6183360"/>
                <a:ext cx="10980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d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833000">
                <a:off x="6747480" y="618444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bc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833000">
                <a:off x="6748920" y="6185880"/>
                <a:ext cx="110520" cy="3733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0" y="110"/>
                    </a:moveTo>
                    <a:lnTo>
                      <a:pt x="106" y="0"/>
                    </a:lnTo>
                    <a:lnTo>
                      <a:pt x="111" y="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a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833000">
                <a:off x="6751440" y="618660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09" y="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9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833000">
                <a:off x="6752880" y="618768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7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8c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833000">
                <a:off x="6755760" y="618912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4" y="0"/>
                    </a:lnTo>
                    <a:lnTo>
                      <a:pt x="109" y="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6c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833000">
                <a:off x="6756840" y="618984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5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833000">
                <a:off x="6758640" y="6191280"/>
                <a:ext cx="110520" cy="3733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0" y="110"/>
                    </a:moveTo>
                    <a:lnTo>
                      <a:pt x="106" y="0"/>
                    </a:lnTo>
                    <a:lnTo>
                      <a:pt x="111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4c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833000">
                <a:off x="6761160" y="619236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09" y="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3c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833000">
                <a:off x="6762960" y="6193440"/>
                <a:ext cx="10836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6" y="0"/>
                    </a:lnTo>
                    <a:lnTo>
                      <a:pt x="109" y="0"/>
                    </a:lnTo>
                    <a:lnTo>
                      <a:pt x="4" y="110"/>
                    </a:lnTo>
                    <a:lnTo>
                      <a:pt x="4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1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833000">
                <a:off x="6765480" y="6194880"/>
                <a:ext cx="108720" cy="37332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0" y="110"/>
                    </a:moveTo>
                    <a:lnTo>
                      <a:pt x="104" y="0"/>
                    </a:lnTo>
                    <a:lnTo>
                      <a:pt x="109" y="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0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833000">
                <a:off x="6766200" y="6195600"/>
                <a:ext cx="109440" cy="373320"/>
              </a:xfrm>
              <a:custGeom>
                <a:avLst/>
                <a:gdLst/>
                <a:ahLst/>
                <a:rect l="l" t="t" r="r" b="b"/>
                <a:pathLst>
                  <a:path w="110" h="110">
                    <a:moveTo>
                      <a:pt x="0" y="110"/>
                    </a:moveTo>
                    <a:lnTo>
                      <a:pt x="105" y="0"/>
                    </a:lnTo>
                    <a:lnTo>
                      <a:pt x="110" y="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f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833000">
                <a:off x="6768000" y="6197040"/>
                <a:ext cx="110520" cy="373320"/>
              </a:xfrm>
              <a:custGeom>
                <a:avLst/>
                <a:gdLst/>
                <a:ahLst/>
                <a:rect l="l" t="t" r="r" b="b"/>
                <a:pathLst>
                  <a:path w="111" h="110">
                    <a:moveTo>
                      <a:pt x="0" y="110"/>
                    </a:moveTo>
                    <a:lnTo>
                      <a:pt x="106" y="0"/>
                    </a:lnTo>
                    <a:lnTo>
                      <a:pt x="111" y="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5" y="110"/>
                    </a:lnTo>
                    <a:lnTo>
                      <a:pt x="3" y="110"/>
                    </a:lnTo>
                    <a:lnTo>
                      <a:pt x="3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bd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 rot="1833000">
              <a:off x="6769800" y="619848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bc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833000">
              <a:off x="6771600" y="619920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6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a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833000">
              <a:off x="6774120" y="620064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9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833000">
              <a:off x="6775200" y="620136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8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833000">
              <a:off x="6777000" y="6202440"/>
              <a:ext cx="110520" cy="37404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110"/>
                  </a:moveTo>
                  <a:lnTo>
                    <a:pt x="106" y="0"/>
                  </a:lnTo>
                  <a:lnTo>
                    <a:pt x="111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833000">
              <a:off x="6779520" y="620388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833000">
              <a:off x="6781680" y="6204600"/>
              <a:ext cx="10836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6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833000">
              <a:off x="6783840" y="620604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3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833000">
              <a:off x="6784560" y="620712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1b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833000">
              <a:off x="6786360" y="6208200"/>
              <a:ext cx="110520" cy="37404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110"/>
                  </a:moveTo>
                  <a:lnTo>
                    <a:pt x="106" y="0"/>
                  </a:lnTo>
                  <a:lnTo>
                    <a:pt x="111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2b6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833000">
              <a:off x="6788880" y="620964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3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833000">
              <a:off x="6790680" y="621036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6" y="0"/>
                  </a:lnTo>
                  <a:lnTo>
                    <a:pt x="109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833000">
              <a:off x="6793200" y="621180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6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833000">
              <a:off x="6795000" y="621288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7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33000">
              <a:off x="6795720" y="621360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6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8b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833000">
              <a:off x="6798240" y="621504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9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33000">
              <a:off x="6800400" y="6215760"/>
              <a:ext cx="10836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bc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833000">
              <a:off x="6802560" y="621756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c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833000">
              <a:off x="6804720" y="6218280"/>
              <a:ext cx="10836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d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833000">
              <a:off x="6807240" y="621936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833000">
              <a:off x="6807600" y="622080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1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833000">
              <a:off x="6809400" y="622188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2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833000">
              <a:off x="6811920" y="6223320"/>
              <a:ext cx="10980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3c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833000">
              <a:off x="6813720" y="622368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4c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833000">
              <a:off x="6816600" y="6225120"/>
              <a:ext cx="10764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6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833000">
              <a:off x="6818040" y="622620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7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833000">
              <a:off x="6818760" y="622728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8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833000">
              <a:off x="6821640" y="622908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9c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833000">
              <a:off x="6823440" y="6229440"/>
              <a:ext cx="10836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bc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833000">
              <a:off x="6825960" y="623052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c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33000">
              <a:off x="6827760" y="6231960"/>
              <a:ext cx="10836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dc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833000">
              <a:off x="6830280" y="623304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ec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833000">
              <a:off x="6831000" y="6234480"/>
              <a:ext cx="10980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fd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833000">
              <a:off x="6832440" y="623520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2d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833000">
              <a:off x="6835680" y="623628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3d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33000">
              <a:off x="6836760" y="623736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5" y="110"/>
                  </a:lnTo>
                  <a:lnTo>
                    <a:pt x="5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4d4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33000">
              <a:off x="6840000" y="623880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5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833000">
              <a:off x="6841080" y="6240240"/>
              <a:ext cx="108720" cy="37404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110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3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7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833000">
              <a:off x="6842160" y="6240960"/>
              <a:ext cx="109440" cy="37404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0" y="110"/>
                  </a:moveTo>
                  <a:lnTo>
                    <a:pt x="105" y="0"/>
                  </a:lnTo>
                  <a:lnTo>
                    <a:pt x="110" y="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8d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833000">
              <a:off x="6845040" y="6241680"/>
              <a:ext cx="107280" cy="374040"/>
            </a:xfrm>
            <a:custGeom>
              <a:avLst/>
              <a:gdLst/>
              <a:ahLst/>
              <a:rect l="l" t="t" r="r" b="b"/>
              <a:pathLst>
                <a:path w="108" h="110">
                  <a:moveTo>
                    <a:pt x="0" y="110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dad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833000">
              <a:off x="6847560" y="6243480"/>
              <a:ext cx="108360" cy="370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109"/>
                  </a:moveTo>
                  <a:lnTo>
                    <a:pt x="105" y="0"/>
                  </a:lnTo>
                  <a:lnTo>
                    <a:pt x="109" y="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bdb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833000">
              <a:off x="6850080" y="624456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dd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833000">
              <a:off x="6851880" y="6246000"/>
              <a:ext cx="108720" cy="370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109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4" y="109"/>
                  </a:lnTo>
                  <a:lnTo>
                    <a:pt x="4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833000">
              <a:off x="6854400" y="624708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dfd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833000">
              <a:off x="6855120" y="624780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5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4" y="109"/>
                  </a:lnTo>
                  <a:lnTo>
                    <a:pt x="4" y="109"/>
                  </a:lnTo>
                  <a:lnTo>
                    <a:pt x="4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0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33000">
              <a:off x="6858720" y="6249240"/>
              <a:ext cx="106560" cy="370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0" y="109"/>
                  </a:moveTo>
                  <a:lnTo>
                    <a:pt x="103" y="0"/>
                  </a:lnTo>
                  <a:lnTo>
                    <a:pt x="107" y="0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1e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833000">
              <a:off x="6859440" y="625032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2e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833000">
              <a:off x="6861240" y="6251760"/>
              <a:ext cx="108720" cy="370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109"/>
                  </a:moveTo>
                  <a:lnTo>
                    <a:pt x="104" y="0"/>
                  </a:lnTo>
                  <a:lnTo>
                    <a:pt x="109" y="0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3e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833000">
              <a:off x="6864120" y="625284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4e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33000">
              <a:off x="6865560" y="6253560"/>
              <a:ext cx="106560" cy="370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0" y="109"/>
                  </a:moveTo>
                  <a:lnTo>
                    <a:pt x="104" y="0"/>
                  </a:lnTo>
                  <a:lnTo>
                    <a:pt x="107" y="0"/>
                  </a:lnTo>
                  <a:lnTo>
                    <a:pt x="4" y="109"/>
                  </a:lnTo>
                  <a:lnTo>
                    <a:pt x="4" y="109"/>
                  </a:lnTo>
                  <a:lnTo>
                    <a:pt x="4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6e5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833000">
              <a:off x="6868080" y="625536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4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1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7e6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833000">
              <a:off x="6868800" y="6255720"/>
              <a:ext cx="107280" cy="370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109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5" y="107"/>
                  </a:lnTo>
                  <a:lnTo>
                    <a:pt x="5" y="109"/>
                  </a:lnTo>
                  <a:lnTo>
                    <a:pt x="5" y="109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8e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833000">
              <a:off x="6871320" y="6256800"/>
              <a:ext cx="106560" cy="37080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0" y="109"/>
                  </a:moveTo>
                  <a:lnTo>
                    <a:pt x="104" y="0"/>
                  </a:lnTo>
                  <a:lnTo>
                    <a:pt x="107" y="0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9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833000">
              <a:off x="6874920" y="6258600"/>
              <a:ext cx="107280" cy="36396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0" y="107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6" y="107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bea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33000">
              <a:off x="6877440" y="6260040"/>
              <a:ext cx="106560" cy="36396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107"/>
                  </a:moveTo>
                  <a:lnTo>
                    <a:pt x="102" y="0"/>
                  </a:lnTo>
                  <a:lnTo>
                    <a:pt x="107" y="0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3" y="107"/>
                  </a:lnTo>
                  <a:lnTo>
                    <a:pt x="3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ceb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833000">
              <a:off x="6880320" y="6261480"/>
              <a:ext cx="106200" cy="36396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0" y="107"/>
                  </a:moveTo>
                  <a:lnTo>
                    <a:pt x="102" y="0"/>
                  </a:lnTo>
                  <a:lnTo>
                    <a:pt x="107" y="0"/>
                  </a:lnTo>
                  <a:lnTo>
                    <a:pt x="5" y="106"/>
                  </a:lnTo>
                  <a:lnTo>
                    <a:pt x="5" y="107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de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33000">
              <a:off x="6881760" y="6262560"/>
              <a:ext cx="105480" cy="36396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0" y="107"/>
                  </a:moveTo>
                  <a:lnTo>
                    <a:pt x="102" y="0"/>
                  </a:lnTo>
                  <a:lnTo>
                    <a:pt x="106" y="2"/>
                  </a:lnTo>
                  <a:lnTo>
                    <a:pt x="6" y="106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ee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833000">
              <a:off x="6885720" y="6264000"/>
              <a:ext cx="104400" cy="3600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102" y="0"/>
                  </a:lnTo>
                  <a:lnTo>
                    <a:pt x="105" y="2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f0ef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833000">
              <a:off x="6886440" y="6271920"/>
              <a:ext cx="104400" cy="35316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0" y="104"/>
                  </a:moveTo>
                  <a:lnTo>
                    <a:pt x="100" y="0"/>
                  </a:lnTo>
                  <a:lnTo>
                    <a:pt x="105" y="0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3" y="104"/>
                  </a:lnTo>
                  <a:lnTo>
                    <a:pt x="3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1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833000">
              <a:off x="6888240" y="6272640"/>
              <a:ext cx="104400" cy="35316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0" y="104"/>
                  </a:moveTo>
                  <a:lnTo>
                    <a:pt x="100" y="0"/>
                  </a:lnTo>
                  <a:lnTo>
                    <a:pt x="105" y="0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2f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833000">
              <a:off x="6892560" y="6274800"/>
              <a:ext cx="104400" cy="34632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0" y="102"/>
                  </a:moveTo>
                  <a:lnTo>
                    <a:pt x="100" y="0"/>
                  </a:lnTo>
                  <a:lnTo>
                    <a:pt x="105" y="0"/>
                  </a:lnTo>
                  <a:lnTo>
                    <a:pt x="6" y="100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3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833000">
              <a:off x="6895080" y="6275880"/>
              <a:ext cx="102600" cy="34632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0" y="102"/>
                  </a:moveTo>
                  <a:lnTo>
                    <a:pt x="99" y="0"/>
                  </a:lnTo>
                  <a:lnTo>
                    <a:pt x="103" y="0"/>
                  </a:lnTo>
                  <a:lnTo>
                    <a:pt x="7" y="100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3" y="100"/>
                  </a:lnTo>
                  <a:lnTo>
                    <a:pt x="3" y="100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5f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33000">
              <a:off x="6899400" y="6277680"/>
              <a:ext cx="101520" cy="33984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0" y="100"/>
                  </a:moveTo>
                  <a:lnTo>
                    <a:pt x="99" y="0"/>
                  </a:lnTo>
                  <a:lnTo>
                    <a:pt x="102" y="0"/>
                  </a:lnTo>
                  <a:lnTo>
                    <a:pt x="7" y="99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6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833000">
              <a:off x="6903000" y="6279120"/>
              <a:ext cx="100440" cy="33984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100"/>
                  </a:moveTo>
                  <a:lnTo>
                    <a:pt x="96" y="0"/>
                  </a:lnTo>
                  <a:lnTo>
                    <a:pt x="101" y="0"/>
                  </a:lnTo>
                  <a:lnTo>
                    <a:pt x="6" y="99"/>
                  </a:lnTo>
                  <a:lnTo>
                    <a:pt x="4" y="99"/>
                  </a:lnTo>
                  <a:lnTo>
                    <a:pt x="4" y="99"/>
                  </a:lnTo>
                  <a:lnTo>
                    <a:pt x="3" y="99"/>
                  </a:lnTo>
                  <a:lnTo>
                    <a:pt x="3" y="99"/>
                  </a:lnTo>
                  <a:lnTo>
                    <a:pt x="1" y="99"/>
                  </a:lnTo>
                  <a:lnTo>
                    <a:pt x="1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7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833000">
              <a:off x="6906240" y="6280560"/>
              <a:ext cx="99360" cy="3362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99"/>
                  </a:moveTo>
                  <a:lnTo>
                    <a:pt x="95" y="0"/>
                  </a:lnTo>
                  <a:lnTo>
                    <a:pt x="100" y="0"/>
                  </a:lnTo>
                  <a:lnTo>
                    <a:pt x="6" y="97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3" y="97"/>
                  </a:lnTo>
                  <a:lnTo>
                    <a:pt x="3" y="99"/>
                  </a:lnTo>
                  <a:lnTo>
                    <a:pt x="1" y="99"/>
                  </a:lnTo>
                  <a:lnTo>
                    <a:pt x="1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8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833000">
              <a:off x="6908760" y="6282360"/>
              <a:ext cx="99360" cy="33624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0" y="99"/>
                  </a:moveTo>
                  <a:lnTo>
                    <a:pt x="95" y="0"/>
                  </a:lnTo>
                  <a:lnTo>
                    <a:pt x="100" y="0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5" y="97"/>
                  </a:lnTo>
                  <a:lnTo>
                    <a:pt x="3" y="97"/>
                  </a:lnTo>
                  <a:lnTo>
                    <a:pt x="3" y="97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7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fa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833000">
              <a:off x="6913440" y="6283800"/>
              <a:ext cx="98280" cy="32904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0" y="97"/>
                  </a:moveTo>
                  <a:lnTo>
                    <a:pt x="94" y="0"/>
                  </a:lnTo>
                  <a:lnTo>
                    <a:pt x="99" y="0"/>
                  </a:lnTo>
                  <a:lnTo>
                    <a:pt x="6" y="94"/>
                  </a:lnTo>
                  <a:lnTo>
                    <a:pt x="6" y="96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3" y="96"/>
                  </a:lnTo>
                  <a:lnTo>
                    <a:pt x="2" y="97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b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833000">
              <a:off x="6917040" y="6285240"/>
              <a:ext cx="96480" cy="32616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0" y="96"/>
                  </a:moveTo>
                  <a:lnTo>
                    <a:pt x="94" y="0"/>
                  </a:lnTo>
                  <a:lnTo>
                    <a:pt x="97" y="0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3" y="94"/>
                  </a:lnTo>
                  <a:lnTo>
                    <a:pt x="3" y="96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c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833000">
              <a:off x="6921360" y="6287400"/>
              <a:ext cx="96480" cy="31932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94"/>
                  </a:moveTo>
                  <a:lnTo>
                    <a:pt x="93" y="0"/>
                  </a:lnTo>
                  <a:lnTo>
                    <a:pt x="97" y="0"/>
                  </a:lnTo>
                  <a:lnTo>
                    <a:pt x="8" y="91"/>
                  </a:lnTo>
                  <a:lnTo>
                    <a:pt x="7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4" y="94"/>
                  </a:lnTo>
                  <a:lnTo>
                    <a:pt x="2" y="94"/>
                  </a:lnTo>
                  <a:lnTo>
                    <a:pt x="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33000">
              <a:off x="6926400" y="6289200"/>
              <a:ext cx="93600" cy="31608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3"/>
                  </a:moveTo>
                  <a:lnTo>
                    <a:pt x="89" y="0"/>
                  </a:lnTo>
                  <a:lnTo>
                    <a:pt x="94" y="0"/>
                  </a:lnTo>
                  <a:lnTo>
                    <a:pt x="7" y="89"/>
                  </a:lnTo>
                  <a:lnTo>
                    <a:pt x="7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833000">
              <a:off x="6931080" y="6291360"/>
              <a:ext cx="93600" cy="30924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0" y="91"/>
                  </a:moveTo>
                  <a:lnTo>
                    <a:pt x="89" y="0"/>
                  </a:lnTo>
                  <a:lnTo>
                    <a:pt x="94" y="0"/>
                  </a:lnTo>
                  <a:lnTo>
                    <a:pt x="8" y="88"/>
                  </a:lnTo>
                  <a:lnTo>
                    <a:pt x="7" y="88"/>
                  </a:lnTo>
                  <a:lnTo>
                    <a:pt x="7" y="89"/>
                  </a:lnTo>
                  <a:lnTo>
                    <a:pt x="5" y="89"/>
                  </a:lnTo>
                  <a:lnTo>
                    <a:pt x="4" y="89"/>
                  </a:lnTo>
                  <a:lnTo>
                    <a:pt x="4" y="91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833000">
              <a:off x="6936480" y="6293520"/>
              <a:ext cx="91440" cy="302040"/>
            </a:xfrm>
            <a:custGeom>
              <a:avLst/>
              <a:gdLst/>
              <a:ahLst/>
              <a:rect l="l" t="t" r="r" b="b"/>
              <a:pathLst>
                <a:path w="92" h="89">
                  <a:moveTo>
                    <a:pt x="0" y="89"/>
                  </a:moveTo>
                  <a:lnTo>
                    <a:pt x="87" y="0"/>
                  </a:lnTo>
                  <a:lnTo>
                    <a:pt x="92" y="0"/>
                  </a:lnTo>
                  <a:lnTo>
                    <a:pt x="9" y="86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4" y="88"/>
                  </a:lnTo>
                  <a:lnTo>
                    <a:pt x="3" y="88"/>
                  </a:lnTo>
                  <a:lnTo>
                    <a:pt x="3" y="89"/>
                  </a:lnTo>
                  <a:lnTo>
                    <a:pt x="1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cf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833000">
              <a:off x="6940800" y="6294600"/>
              <a:ext cx="88560" cy="29916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0" y="88"/>
                  </a:moveTo>
                  <a:lnTo>
                    <a:pt x="86" y="0"/>
                  </a:lnTo>
                  <a:lnTo>
                    <a:pt x="89" y="0"/>
                  </a:lnTo>
                  <a:lnTo>
                    <a:pt x="8" y="83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5" y="85"/>
                  </a:lnTo>
                  <a:lnTo>
                    <a:pt x="5" y="86"/>
                  </a:lnTo>
                  <a:lnTo>
                    <a:pt x="4" y="86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bf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833000">
              <a:off x="6946920" y="6297120"/>
              <a:ext cx="86400" cy="29232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0" y="86"/>
                  </a:moveTo>
                  <a:lnTo>
                    <a:pt x="83" y="0"/>
                  </a:lnTo>
                  <a:lnTo>
                    <a:pt x="87" y="0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6" y="81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3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9f8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833000">
              <a:off x="6952320" y="6298920"/>
              <a:ext cx="85320" cy="28224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0" y="83"/>
                  </a:moveTo>
                  <a:lnTo>
                    <a:pt x="81" y="0"/>
                  </a:lnTo>
                  <a:lnTo>
                    <a:pt x="86" y="0"/>
                  </a:lnTo>
                  <a:lnTo>
                    <a:pt x="11" y="78"/>
                  </a:lnTo>
                  <a:lnTo>
                    <a:pt x="10" y="78"/>
                  </a:lnTo>
                  <a:lnTo>
                    <a:pt x="8" y="80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5" y="81"/>
                  </a:lnTo>
                  <a:lnTo>
                    <a:pt x="3" y="81"/>
                  </a:lnTo>
                  <a:lnTo>
                    <a:pt x="2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8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833000">
              <a:off x="6958440" y="6301440"/>
              <a:ext cx="83520" cy="27504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0" y="81"/>
                  </a:moveTo>
                  <a:lnTo>
                    <a:pt x="79" y="0"/>
                  </a:lnTo>
                  <a:lnTo>
                    <a:pt x="84" y="0"/>
                  </a:lnTo>
                  <a:lnTo>
                    <a:pt x="11" y="75"/>
                  </a:lnTo>
                  <a:lnTo>
                    <a:pt x="10" y="75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6" y="78"/>
                  </a:lnTo>
                  <a:lnTo>
                    <a:pt x="5" y="78"/>
                  </a:lnTo>
                  <a:lnTo>
                    <a:pt x="3" y="80"/>
                  </a:lnTo>
                  <a:lnTo>
                    <a:pt x="2" y="8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7f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33000">
              <a:off x="6966000" y="6304680"/>
              <a:ext cx="79560" cy="265320"/>
            </a:xfrm>
            <a:custGeom>
              <a:avLst/>
              <a:gdLst/>
              <a:ahLst/>
              <a:rect l="l" t="t" r="r" b="b"/>
              <a:pathLst>
                <a:path w="80" h="78">
                  <a:moveTo>
                    <a:pt x="0" y="78"/>
                  </a:moveTo>
                  <a:lnTo>
                    <a:pt x="75" y="0"/>
                  </a:lnTo>
                  <a:lnTo>
                    <a:pt x="80" y="0"/>
                  </a:lnTo>
                  <a:lnTo>
                    <a:pt x="11" y="70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7" y="73"/>
                  </a:lnTo>
                  <a:lnTo>
                    <a:pt x="5" y="73"/>
                  </a:lnTo>
                  <a:lnTo>
                    <a:pt x="4" y="75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6f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833000">
              <a:off x="6973560" y="6306840"/>
              <a:ext cx="75600" cy="2545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75"/>
                  </a:moveTo>
                  <a:lnTo>
                    <a:pt x="73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3"/>
                  </a:lnTo>
                  <a:lnTo>
                    <a:pt x="13" y="65"/>
                  </a:lnTo>
                  <a:lnTo>
                    <a:pt x="11" y="67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4f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833000">
              <a:off x="6983640" y="6309360"/>
              <a:ext cx="69840" cy="237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70"/>
                  </a:move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67" y="3"/>
                  </a:lnTo>
                  <a:lnTo>
                    <a:pt x="66" y="5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15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4"/>
                  </a:lnTo>
                  <a:lnTo>
                    <a:pt x="8" y="65"/>
                  </a:lnTo>
                  <a:lnTo>
                    <a:pt x="5" y="67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3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833000">
              <a:off x="6992280" y="6321240"/>
              <a:ext cx="59400" cy="21024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62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7" y="3"/>
                  </a:lnTo>
                  <a:lnTo>
                    <a:pt x="55" y="7"/>
                  </a:lnTo>
                  <a:lnTo>
                    <a:pt x="54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49" y="16"/>
                  </a:lnTo>
                  <a:lnTo>
                    <a:pt x="47" y="18"/>
                  </a:lnTo>
                  <a:lnTo>
                    <a:pt x="19" y="46"/>
                  </a:lnTo>
                  <a:lnTo>
                    <a:pt x="17" y="50"/>
                  </a:lnTo>
                  <a:lnTo>
                    <a:pt x="14" y="51"/>
                  </a:lnTo>
                  <a:lnTo>
                    <a:pt x="13" y="53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5" y="59"/>
                  </a:lnTo>
                  <a:lnTo>
                    <a:pt x="3" y="6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2f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833000">
              <a:off x="6998760" y="6345000"/>
              <a:ext cx="46440" cy="16632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49"/>
                  </a:moveTo>
                  <a:lnTo>
                    <a:pt x="47" y="0"/>
                  </a:lnTo>
                  <a:lnTo>
                    <a:pt x="43" y="6"/>
                  </a:lnTo>
                  <a:lnTo>
                    <a:pt x="38" y="12"/>
                  </a:lnTo>
                  <a:lnTo>
                    <a:pt x="33" y="19"/>
                  </a:lnTo>
                  <a:lnTo>
                    <a:pt x="27" y="25"/>
                  </a:lnTo>
                  <a:lnTo>
                    <a:pt x="20" y="31"/>
                  </a:lnTo>
                  <a:lnTo>
                    <a:pt x="14" y="38"/>
                  </a:lnTo>
                  <a:lnTo>
                    <a:pt x="8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1f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833000">
              <a:off x="7008840" y="6383160"/>
              <a:ext cx="27720" cy="9540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8"/>
                  </a:moveTo>
                  <a:lnTo>
                    <a:pt x="28" y="0"/>
                  </a:lnTo>
                  <a:lnTo>
                    <a:pt x="25" y="3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3" y="19"/>
                  </a:lnTo>
                  <a:lnTo>
                    <a:pt x="8" y="22"/>
                  </a:lnTo>
                  <a:lnTo>
                    <a:pt x="5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fe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833000">
              <a:off x="6855840" y="6264720"/>
              <a:ext cx="175320" cy="384840"/>
            </a:xfrm>
            <a:custGeom>
              <a:avLst/>
              <a:gdLst/>
              <a:ahLst/>
              <a:rect l="l" t="t" r="r" b="b"/>
              <a:pathLst>
                <a:path w="176" h="113">
                  <a:moveTo>
                    <a:pt x="0" y="113"/>
                  </a:moveTo>
                  <a:lnTo>
                    <a:pt x="0" y="113"/>
                  </a:lnTo>
                  <a:lnTo>
                    <a:pt x="13" y="113"/>
                  </a:lnTo>
                  <a:lnTo>
                    <a:pt x="27" y="110"/>
                  </a:lnTo>
                  <a:lnTo>
                    <a:pt x="40" y="107"/>
                  </a:lnTo>
                  <a:lnTo>
                    <a:pt x="54" y="103"/>
                  </a:lnTo>
                  <a:lnTo>
                    <a:pt x="67" y="97"/>
                  </a:lnTo>
                  <a:lnTo>
                    <a:pt x="80" y="92"/>
                  </a:lnTo>
                  <a:lnTo>
                    <a:pt x="92" y="84"/>
                  </a:lnTo>
                  <a:lnTo>
                    <a:pt x="103" y="78"/>
                  </a:lnTo>
                  <a:lnTo>
                    <a:pt x="126" y="60"/>
                  </a:lnTo>
                  <a:lnTo>
                    <a:pt x="145" y="43"/>
                  </a:lnTo>
                  <a:lnTo>
                    <a:pt x="162" y="24"/>
                  </a:lnTo>
                  <a:lnTo>
                    <a:pt x="176" y="5"/>
                  </a:lnTo>
                  <a:lnTo>
                    <a:pt x="170" y="0"/>
                  </a:lnTo>
                  <a:lnTo>
                    <a:pt x="157" y="19"/>
                  </a:lnTo>
                  <a:lnTo>
                    <a:pt x="140" y="38"/>
                  </a:lnTo>
                  <a:lnTo>
                    <a:pt x="121" y="56"/>
                  </a:lnTo>
                  <a:lnTo>
                    <a:pt x="99" y="72"/>
                  </a:lnTo>
                  <a:lnTo>
                    <a:pt x="88" y="80"/>
                  </a:lnTo>
                  <a:lnTo>
                    <a:pt x="77" y="86"/>
                  </a:lnTo>
                  <a:lnTo>
                    <a:pt x="64" y="91"/>
                  </a:lnTo>
                  <a:lnTo>
                    <a:pt x="51" y="97"/>
                  </a:lnTo>
                  <a:lnTo>
                    <a:pt x="38" y="100"/>
                  </a:lnTo>
                  <a:lnTo>
                    <a:pt x="26" y="103"/>
                  </a:lnTo>
                  <a:lnTo>
                    <a:pt x="13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33000">
              <a:off x="6627960" y="6518520"/>
              <a:ext cx="156600" cy="27720"/>
            </a:xfrm>
            <a:custGeom>
              <a:avLst/>
              <a:gdLst/>
              <a:ahLst/>
              <a:rect l="l" t="t" r="r" b="b"/>
              <a:pathLst>
                <a:path w="157" h="8">
                  <a:moveTo>
                    <a:pt x="0" y="8"/>
                  </a:moveTo>
                  <a:lnTo>
                    <a:pt x="3" y="8"/>
                  </a:lnTo>
                  <a:lnTo>
                    <a:pt x="8" y="8"/>
                  </a:lnTo>
                  <a:lnTo>
                    <a:pt x="21" y="8"/>
                  </a:lnTo>
                  <a:lnTo>
                    <a:pt x="38" y="8"/>
                  </a:lnTo>
                  <a:lnTo>
                    <a:pt x="61" y="8"/>
                  </a:lnTo>
                  <a:lnTo>
                    <a:pt x="86" y="8"/>
                  </a:lnTo>
                  <a:lnTo>
                    <a:pt x="111" y="8"/>
                  </a:lnTo>
                  <a:lnTo>
                    <a:pt x="135" y="8"/>
                  </a:lnTo>
                  <a:lnTo>
                    <a:pt x="157" y="6"/>
                  </a:lnTo>
                  <a:lnTo>
                    <a:pt x="157" y="0"/>
                  </a:lnTo>
                  <a:lnTo>
                    <a:pt x="135" y="0"/>
                  </a:lnTo>
                  <a:lnTo>
                    <a:pt x="111" y="1"/>
                  </a:lnTo>
                  <a:lnTo>
                    <a:pt x="86" y="1"/>
                  </a:lnTo>
                  <a:lnTo>
                    <a:pt x="61" y="1"/>
                  </a:lnTo>
                  <a:lnTo>
                    <a:pt x="38" y="1"/>
                  </a:lnTo>
                  <a:lnTo>
                    <a:pt x="21" y="1"/>
                  </a:lnTo>
                  <a:lnTo>
                    <a:pt x="8" y="1"/>
                  </a:lnTo>
                  <a:lnTo>
                    <a:pt x="3" y="1"/>
                  </a:lnTo>
                  <a:lnTo>
                    <a:pt x="7" y="3"/>
                  </a:lnTo>
                  <a:lnTo>
                    <a:pt x="0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833000">
              <a:off x="6639480" y="6388920"/>
              <a:ext cx="30600" cy="1195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4" y="8"/>
                  </a:moveTo>
                  <a:lnTo>
                    <a:pt x="0" y="6"/>
                  </a:lnTo>
                  <a:lnTo>
                    <a:pt x="24" y="35"/>
                  </a:lnTo>
                  <a:lnTo>
                    <a:pt x="31" y="30"/>
                  </a:lnTo>
                  <a:lnTo>
                    <a:pt x="7" y="1"/>
                  </a:lnTo>
                  <a:lnTo>
                    <a:pt x="4" y="0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833000">
              <a:off x="6594840" y="6356520"/>
              <a:ext cx="82440" cy="4068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2" y="4"/>
                  </a:moveTo>
                  <a:lnTo>
                    <a:pt x="5" y="8"/>
                  </a:lnTo>
                  <a:lnTo>
                    <a:pt x="14" y="8"/>
                  </a:lnTo>
                  <a:lnTo>
                    <a:pt x="26" y="10"/>
                  </a:lnTo>
                  <a:lnTo>
                    <a:pt x="38" y="10"/>
                  </a:lnTo>
                  <a:lnTo>
                    <a:pt x="52" y="10"/>
                  </a:lnTo>
                  <a:lnTo>
                    <a:pt x="64" y="10"/>
                  </a:lnTo>
                  <a:lnTo>
                    <a:pt x="73" y="10"/>
                  </a:lnTo>
                  <a:lnTo>
                    <a:pt x="79" y="12"/>
                  </a:lnTo>
                  <a:lnTo>
                    <a:pt x="83" y="12"/>
                  </a:lnTo>
                  <a:lnTo>
                    <a:pt x="83" y="4"/>
                  </a:lnTo>
                  <a:lnTo>
                    <a:pt x="81" y="4"/>
                  </a:lnTo>
                  <a:lnTo>
                    <a:pt x="73" y="4"/>
                  </a:lnTo>
                  <a:lnTo>
                    <a:pt x="64" y="4"/>
                  </a:lnTo>
                  <a:lnTo>
                    <a:pt x="52" y="4"/>
                  </a:lnTo>
                  <a:lnTo>
                    <a:pt x="40" y="4"/>
                  </a:lnTo>
                  <a:lnTo>
                    <a:pt x="26" y="2"/>
                  </a:lnTo>
                  <a:lnTo>
                    <a:pt x="14" y="2"/>
                  </a:lnTo>
                  <a:lnTo>
                    <a:pt x="5" y="0"/>
                  </a:lnTo>
                  <a:lnTo>
                    <a:pt x="8" y="5"/>
                  </a:lnTo>
                  <a:lnTo>
                    <a:pt x="2" y="4"/>
                  </a:lnTo>
                  <a:lnTo>
                    <a:pt x="0" y="7"/>
                  </a:lnTo>
                  <a:lnTo>
                    <a:pt x="5" y="8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833000">
              <a:off x="6625080" y="6276240"/>
              <a:ext cx="9000" cy="853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1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6" y="25"/>
                  </a:lnTo>
                  <a:lnTo>
                    <a:pt x="6" y="22"/>
                  </a:lnTo>
                  <a:lnTo>
                    <a:pt x="8" y="19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8" y="9"/>
                  </a:lnTo>
                  <a:lnTo>
                    <a:pt x="8" y="6"/>
                  </a:lnTo>
                  <a:lnTo>
                    <a:pt x="9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833000">
              <a:off x="6665400" y="6206400"/>
              <a:ext cx="10800" cy="806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5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8" y="6"/>
                  </a:lnTo>
                  <a:lnTo>
                    <a:pt x="8" y="3"/>
                  </a:lnTo>
                  <a:lnTo>
                    <a:pt x="5" y="8"/>
                  </a:lnTo>
                  <a:lnTo>
                    <a:pt x="5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833000">
              <a:off x="6679080" y="6229080"/>
              <a:ext cx="100800" cy="3384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95" y="2"/>
                  </a:moveTo>
                  <a:lnTo>
                    <a:pt x="98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59" y="0"/>
                  </a:lnTo>
                  <a:lnTo>
                    <a:pt x="43" y="2"/>
                  </a:lnTo>
                  <a:lnTo>
                    <a:pt x="27" y="2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3" y="8"/>
                  </a:lnTo>
                  <a:lnTo>
                    <a:pt x="59" y="8"/>
                  </a:lnTo>
                  <a:lnTo>
                    <a:pt x="74" y="8"/>
                  </a:lnTo>
                  <a:lnTo>
                    <a:pt x="86" y="8"/>
                  </a:lnTo>
                  <a:lnTo>
                    <a:pt x="95" y="6"/>
                  </a:lnTo>
                  <a:lnTo>
                    <a:pt x="98" y="6"/>
                  </a:lnTo>
                  <a:lnTo>
                    <a:pt x="101" y="5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1" y="5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833000">
              <a:off x="6797160" y="6159960"/>
              <a:ext cx="32760" cy="125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0"/>
                  </a:moveTo>
                  <a:lnTo>
                    <a:pt x="32" y="0"/>
                  </a:lnTo>
                  <a:lnTo>
                    <a:pt x="25" y="3"/>
                  </a:lnTo>
                  <a:lnTo>
                    <a:pt x="19" y="8"/>
                  </a:lnTo>
                  <a:lnTo>
                    <a:pt x="14" y="13"/>
                  </a:lnTo>
                  <a:lnTo>
                    <a:pt x="10" y="19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8" y="34"/>
                  </a:lnTo>
                  <a:lnTo>
                    <a:pt x="11" y="29"/>
                  </a:lnTo>
                  <a:lnTo>
                    <a:pt x="14" y="24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9" y="1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33000">
              <a:off x="6831720" y="6252480"/>
              <a:ext cx="303840" cy="26640"/>
            </a:xfrm>
            <a:custGeom>
              <a:avLst/>
              <a:gdLst/>
              <a:ahLst/>
              <a:rect l="l" t="t" r="r" b="b"/>
              <a:pathLst>
                <a:path w="305" h="8">
                  <a:moveTo>
                    <a:pt x="303" y="7"/>
                  </a:moveTo>
                  <a:lnTo>
                    <a:pt x="30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300" y="8"/>
                  </a:lnTo>
                  <a:lnTo>
                    <a:pt x="297" y="2"/>
                  </a:lnTo>
                  <a:lnTo>
                    <a:pt x="303" y="7"/>
                  </a:lnTo>
                  <a:lnTo>
                    <a:pt x="305" y="0"/>
                  </a:lnTo>
                  <a:lnTo>
                    <a:pt x="300" y="0"/>
                  </a:lnTo>
                  <a:lnTo>
                    <a:pt x="303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833000">
              <a:off x="4889520" y="5073840"/>
              <a:ext cx="54360" cy="397800"/>
            </a:xfrm>
            <a:custGeom>
              <a:avLst/>
              <a:gdLst/>
              <a:ahLst/>
              <a:rect l="l" t="t" r="r" b="b"/>
              <a:pathLst>
                <a:path w="55" h="117">
                  <a:moveTo>
                    <a:pt x="27" y="0"/>
                  </a:moveTo>
                  <a:lnTo>
                    <a:pt x="33" y="2"/>
                  </a:lnTo>
                  <a:lnTo>
                    <a:pt x="38" y="5"/>
                  </a:lnTo>
                  <a:lnTo>
                    <a:pt x="43" y="10"/>
                  </a:lnTo>
                  <a:lnTo>
                    <a:pt x="47" y="16"/>
                  </a:lnTo>
                  <a:lnTo>
                    <a:pt x="51" y="26"/>
                  </a:lnTo>
                  <a:lnTo>
                    <a:pt x="54" y="35"/>
                  </a:lnTo>
                  <a:lnTo>
                    <a:pt x="55" y="47"/>
                  </a:lnTo>
                  <a:lnTo>
                    <a:pt x="55" y="58"/>
                  </a:lnTo>
                  <a:lnTo>
                    <a:pt x="55" y="71"/>
                  </a:lnTo>
                  <a:lnTo>
                    <a:pt x="54" y="80"/>
                  </a:lnTo>
                  <a:lnTo>
                    <a:pt x="51" y="91"/>
                  </a:lnTo>
                  <a:lnTo>
                    <a:pt x="47" y="99"/>
                  </a:lnTo>
                  <a:lnTo>
                    <a:pt x="43" y="106"/>
                  </a:lnTo>
                  <a:lnTo>
                    <a:pt x="38" y="112"/>
                  </a:lnTo>
                  <a:lnTo>
                    <a:pt x="33" y="115"/>
                  </a:lnTo>
                  <a:lnTo>
                    <a:pt x="27" y="117"/>
                  </a:lnTo>
                  <a:lnTo>
                    <a:pt x="22" y="115"/>
                  </a:lnTo>
                  <a:lnTo>
                    <a:pt x="17" y="112"/>
                  </a:lnTo>
                  <a:lnTo>
                    <a:pt x="13" y="106"/>
                  </a:lnTo>
                  <a:lnTo>
                    <a:pt x="8" y="99"/>
                  </a:lnTo>
                  <a:lnTo>
                    <a:pt x="5" y="91"/>
                  </a:lnTo>
                  <a:lnTo>
                    <a:pt x="1" y="80"/>
                  </a:lnTo>
                  <a:lnTo>
                    <a:pt x="0" y="71"/>
                  </a:lnTo>
                  <a:lnTo>
                    <a:pt x="0" y="58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5" y="26"/>
                  </a:lnTo>
                  <a:lnTo>
                    <a:pt x="8" y="16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2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b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600200" y="457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ccidentes cortopunzant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4600" y="341280"/>
            <a:ext cx="5562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FUENTE Y AF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002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ciente del cual provienen los fluidos biológicos que entran en contacto accidentalmente con el afec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573280" cy="2332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711960" y="3200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AF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1752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4267080"/>
            <a:ext cx="47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Eras Bk BT"/>
              </a:rPr>
              <a:t>Personal de salud, encargado de toma de muestras, encargado de aseo o recolección de basura que sufre el accident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562720" y="3657600"/>
            <a:ext cx="1663560" cy="2819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705720" y="4267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FEC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209960" y="18176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3124080"/>
            <a:ext cx="411480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sona o animal infectado que alberga un agente infeccioso y no presenta síntomas clínicos; constituye una fuente potencial de infección para el h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19720" y="1828800"/>
            <a:ext cx="42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ECAUCIONES UNIVER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28800" y="236232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124080"/>
            <a:ext cx="3809880" cy="22885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das destinadas a proteger al personal académico-no académico y alumnado de contraer la infección  a partir de los pacientes</a:t>
            </a:r>
            <a:r>
              <a:rPr b="0" lang="es-ES_tradnl" sz="2400" spc="-1" strike="noStrike">
                <a:solidFill>
                  <a:srgbClr val="000000"/>
                </a:solidFill>
                <a:latin typeface="Eras Bk B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2209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124080" y="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143080" cy="1666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77600" y="335268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2880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259092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didas que se mencionarán, deben cumplirse siempre que se manipule sangre u otro fluido corporal de los considerados de </a:t>
            </a:r>
            <a:r>
              <a:rPr b="1" i="1" lang="es-ES_tradnl" sz="2400" spc="-1" strike="noStrike">
                <a:solidFill>
                  <a:srgbClr val="ff3300"/>
                </a:solidFill>
                <a:latin typeface="Times New Roman"/>
              </a:rPr>
              <a:t>alto riesgo</a:t>
            </a:r>
            <a:r>
              <a:rPr b="1" i="1" lang="es-ES_tradnl" sz="2400" spc="-1" strike="noStrike">
                <a:solidFill>
                  <a:srgbClr val="ff3300"/>
                </a:solidFill>
                <a:latin typeface="Eras B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5867280" y="4191120"/>
            <a:ext cx="1698840" cy="208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ala%20de%20aseo%20con%20vidrio%20grupiento%202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743200" cy="2381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28600" y="1676520"/>
            <a:ext cx="55627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errames pequeños de sangre u otro fluido corporal de alto riesgo en las superficies, deben ser limpiados de inmediato con una solución en base a clo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 la basura contaminada con sangre o fluidos corporales de alto riesgo debe, de preferencia,  incinerarse o eliminarse en bolsa o envase imperme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oja con la mano vidrios rotos que puedan estar contaminados, use palas, o un cepillo recog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infecte rápidamente la zona que fue contaminada con material potencialmente infecc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523880" cy="21333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47920" y="304920"/>
            <a:ext cx="670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RECAUCIONES UNIVER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9:36Z</dcterms:created>
  <dc:creator>Elizabeth Quintanilla</dc:creator>
  <dc:description/>
  <dc:language>en-US</dc:language>
  <cp:lastModifiedBy>Ivo</cp:lastModifiedBy>
  <dcterms:modified xsi:type="dcterms:W3CDTF">2009-08-27T13:58:01Z</dcterms:modified>
  <cp:revision>16</cp:revision>
  <dc:subject>Manejo Cortopunzantes</dc:subject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3082</vt:lpwstr>
  </property>
</Properties>
</file>