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7CC1C-0854-4DCF-B7CA-C83E55AF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BCCF-F707-4FEB-913F-1F228B2B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88FFF-1C34-4F09-ACE5-0038F9F8B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EAF17-5FC4-464A-B8EF-179E8CDC1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91FF-33E2-45F5-98AA-D85EFCC03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54CF-4CF8-47DC-B984-B363EF3E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6FEE-C1D7-427E-BED3-B9F41D797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F467-A1BA-48F5-BABA-D5503204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EC211-83B1-4A50-A7D8-61C539F1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B5F8-F4A2-40AF-B84E-2AB7824D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39FE-7CAC-4207-B56B-C2FFDDCC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BF6C-C4EE-42DA-B44E-2FC64DDA4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F01F-E78C-4815-A938-9886B318E9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ea typeface="Times New Roman"/>
              </a:rPr>
              <a:t>PRECAUCIONES ESTANDAR</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PUESTOS DE TRABAJOS MAS EXPUESTOS EN EL MEDIO HOSPITALARIO</a:t>
            </a:r>
            <a:r>
              <a:rPr b="1" lang="es-CL" sz="4400" spc="-1" strike="noStrike">
                <a:solidFill>
                  <a:srgbClr val="000000"/>
                </a:solidFill>
                <a:latin typeface="Arial"/>
                <a:ea typeface="Arial"/>
              </a:rPr>
              <a:t>.</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2800" spc="-1" strike="noStrike">
                <a:solidFill>
                  <a:srgbClr val="000000"/>
                </a:solidFill>
                <a:latin typeface="Arial"/>
                <a:ea typeface="Arial"/>
              </a:rPr>
              <a:t>Unidad de Diális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Ciru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Anatomía Patológic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Laborato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Banco de Sang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Odontolo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Times New Roman"/>
              </a:rPr>
              <a:t>Servicio de Urg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ESTAMENTOS CON MAYOR INCIDENCIA DE EXPOSICIONES LAB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Enfermer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Técnicos Paraméd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MEDIDAS Y PREVENCION</a:t>
            </a: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Inmunización anti HB</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Lavados de manos</a:t>
            </a:r>
            <a:r>
              <a:rPr b="1" lang="es-CL" sz="3200" spc="-1" strike="noStrike">
                <a:solidFill>
                  <a:srgbClr val="000000"/>
                </a:solidFill>
                <a:latin typeface="Arial"/>
                <a:ea typeface="Arial"/>
              </a:rPr>
              <a:t>	</a:t>
            </a:r>
            <a:r>
              <a:rPr b="1" lang="es-CL" sz="3200" spc="-1" strike="noStrike">
                <a:solidFill>
                  <a:srgbClr val="000000"/>
                </a:solidFill>
                <a:latin typeface="Arial"/>
                <a:ea typeface="Arial"/>
              </a:rPr>
              <a:t>:</a:t>
            </a:r>
            <a:r>
              <a:rPr b="1"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Antes  y   </a:t>
            </a:r>
            <a:r>
              <a:rPr b="0" lang="es-CL" sz="2800" spc="-1" strike="noStrike">
                <a:solidFill>
                  <a:srgbClr val="000000"/>
                </a:solidFill>
                <a:latin typeface="Arial"/>
                <a:ea typeface="Arial"/>
              </a:rPr>
              <a:t>Después   de   la   atención   clínica  de   cualquier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ciente.</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Después de retirarse los guantes de procedimientos o estéri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5334120" y="4038480"/>
            <a:ext cx="38098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Uso de Guant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n usar guantes de látex cuando se realicen procedimientos de atención clínica, en los cuales se prevea contacto de sangre  o algún fluido de alto riesgo sobre la piel de las manos, de cualquier usuari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guantes" descr=""/>
          <p:cNvPicPr/>
          <p:nvPr/>
        </p:nvPicPr>
        <p:blipFill>
          <a:blip r:embed="rId1"/>
          <a:stretch/>
        </p:blipFill>
        <p:spPr>
          <a:xfrm>
            <a:off x="685800" y="762120"/>
            <a:ext cx="7848720" cy="55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Pechera Impermeable</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   usar   en  procedimientos donde exista riesgo de</a:t>
            </a:r>
            <a:r>
              <a:rPr b="0" lang="es-MX" sz="3200" spc="-1" strike="noStrike">
                <a:solidFill>
                  <a:srgbClr val="000000"/>
                </a:solidFill>
                <a:latin typeface="Times New Roman"/>
                <a:ea typeface="Times New Roman"/>
              </a:rPr>
              <a:t> </a:t>
            </a:r>
            <a:r>
              <a:rPr b="0" lang="es-CL" sz="3200" spc="-1" strike="noStrike">
                <a:solidFill>
                  <a:srgbClr val="000000"/>
                </a:solidFill>
                <a:latin typeface="Arial"/>
                <a:ea typeface="Arial"/>
              </a:rPr>
              <a:t>derrames, salpicaduras  de  sangre  o  fluidos de alto riesg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Urología, Cirugía Endoscópica, Obstetricia, Líquido amniót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380880" y="857160"/>
            <a:ext cx="8305920" cy="523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0-#ppt_w/2"/>
                                          </p:val>
                                        </p:tav>
                                        <p:tav tm="100000">
                                          <p:val>
                                            <p:strVal val="#ppt_x"/>
                                          </p:val>
                                        </p:tav>
                                      </p:tavLst>
                                    </p:anim>
                                    <p:anim calcmode="lin" valueType="num">
                                      <p:cBhvr additive="base">
                                        <p:cTn id="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0">
                                            <p:txEl>
                                              <p:pRg st="0" end="0"/>
                                            </p:txEl>
                                          </p:spTgt>
                                        </p:tgtEl>
                                        <p:attrNameLst>
                                          <p:attrName>style.visibility</p:attrName>
                                        </p:attrNameLst>
                                      </p:cBhvr>
                                      <p:to>
                                        <p:strVal val="visible"/>
                                      </p:to>
                                    </p:set>
                                    <p:anim calcmode="lin" valueType="num">
                                      <p:cBhvr additive="base">
                                        <p:cTn id="1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0">
                                            <p:txEl>
                                              <p:pRg st="1" end="1"/>
                                            </p:txEl>
                                          </p:spTgt>
                                        </p:tgtEl>
                                        <p:attrNameLst>
                                          <p:attrName>style.visibility</p:attrName>
                                        </p:attrNameLst>
                                      </p:cBhvr>
                                      <p:to>
                                        <p:strVal val="visible"/>
                                      </p:to>
                                    </p:set>
                                    <p:anim calcmode="lin" valueType="num">
                                      <p:cBhvr additive="base">
                                        <p:cTn id="1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0-#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Mascarillas y Anteoj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 usarse en procedimientos en los cuales se producen salpicaduras  de   sangre  y  fluidos de alto riesgo. Procedimientos Odontológicos, Cirugía Traumatológic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lentes" descr=""/>
          <p:cNvPicPr/>
          <p:nvPr/>
        </p:nvPicPr>
        <p:blipFill>
          <a:blip r:embed="rId1"/>
          <a:stretch/>
        </p:blipFill>
        <p:spPr>
          <a:xfrm>
            <a:off x="4800600" y="4495680"/>
            <a:ext cx="3809880" cy="1924200"/>
          </a:xfrm>
          <a:prstGeom prst="rect">
            <a:avLst/>
          </a:prstGeom>
          <a:ln w="0">
            <a:noFill/>
          </a:ln>
        </p:spPr>
      </p:pic>
      <p:pic>
        <p:nvPicPr>
          <p:cNvPr id="75" name="N95%202" descr=""/>
          <p:cNvPicPr/>
          <p:nvPr/>
        </p:nvPicPr>
        <p:blipFill>
          <a:blip r:embed="rId2"/>
          <a:stretch/>
        </p:blipFill>
        <p:spPr>
          <a:xfrm>
            <a:off x="609480" y="4572000"/>
            <a:ext cx="335304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Cajas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n utilizarse cajas de seguridad o dispositivos resistentes para eliminar todo el material corto-punzante como; agujas, Trocares, conductores de Bránulas, manipulación  y dermátomo, bisturí, etc.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base">
                                        <p:cTn id="33" dur="500" fill="hold"/>
                                        <p:tgtEl>
                                          <p:spTgt spid="76"/>
                                        </p:tgtEl>
                                        <p:attrNameLst>
                                          <p:attrName>ppt_x</p:attrName>
                                        </p:attrNameLst>
                                      </p:cBhvr>
                                      <p:tavLst>
                                        <p:tav tm="0">
                                          <p:val>
                                            <p:strVal val="0-#ppt_w/2"/>
                                          </p:val>
                                        </p:tav>
                                        <p:tav tm="100000">
                                          <p:val>
                                            <p:strVal val="#ppt_x"/>
                                          </p:val>
                                        </p:tav>
                                      </p:tavLst>
                                    </p:anim>
                                    <p:anim calcmode="lin" valueType="num">
                                      <p:cBhvr additive="base">
                                        <p:cTn id="3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7">
                                            <p:txEl>
                                              <p:pRg st="0" end="0"/>
                                            </p:txEl>
                                          </p:spTgt>
                                        </p:tgtEl>
                                        <p:attrNameLst>
                                          <p:attrName>style.visibility</p:attrName>
                                        </p:attrNameLst>
                                      </p:cBhvr>
                                      <p:to>
                                        <p:strVal val="visible"/>
                                      </p:to>
                                    </p:set>
                                    <p:anim calcmode="lin" valueType="num">
                                      <p:cBhvr additive="base">
                                        <p:cTn id="3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0-#ppt_w/2"/>
                                          </p:val>
                                        </p:tav>
                                        <p:tav tm="100000">
                                          <p:val>
                                            <p:strVal val="#ppt_x"/>
                                          </p:val>
                                        </p:tav>
                                      </p:tavLst>
                                    </p:anim>
                                    <p:anim calcmode="lin" valueType="num">
                                      <p:cBhvr additive="base">
                                        <p:cTn id="4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Times New Roman"/>
              </a:rPr>
              <a:t>OBJETIVO DEL USO DE LA CAJA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79246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evenir la exposición laboral del personal que manipula material corto-punzante con fluidos de alto riesg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material corto-punzante debe ser eliminado inmediatamente después de haber realizado el procedimient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s Agujas no se deben doblar mi quebrar con las man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Bisturí debe desmontarse con una pinza o usar bisturí desechab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jar caer el material corto-punzante al dispensador, introducir las agujas en la ranura </a:t>
            </a:r>
            <a:r>
              <a:rPr b="1" i="1" lang="es-CL" sz="2000" spc="-1" strike="noStrike">
                <a:solidFill>
                  <a:srgbClr val="000000"/>
                </a:solidFill>
                <a:latin typeface="Arial"/>
                <a:ea typeface="Arial"/>
              </a:rPr>
              <a:t>escalonada del dispensador </a:t>
            </a:r>
            <a:r>
              <a:rPr b="0" lang="es-CL" sz="2000" spc="-1" strike="noStrike">
                <a:solidFill>
                  <a:srgbClr val="000000"/>
                </a:solidFill>
                <a:latin typeface="Arial"/>
                <a:ea typeface="Arial"/>
              </a:rPr>
              <a:t>desplazándola lateralmente hasta que se desprend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ea typeface="Arial"/>
              </a:rPr>
              <a:t>No recapsular las aguj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lene la Caja de Seguridad hasta la línea de llenad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o presionar las paredes de la caj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lle la caja con la cubierta y adhesiv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iminar la caja a la basura común</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Y TRANSPORTE DE MUESTRAS DE EXAMEN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Considere potencialmente infeccioso todos los exámenes o muestras de laboratorio.</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Use receptáculos o tubos resistentes con tapa de goma o rosc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Transporte de tubos de exámenes al interior de </a:t>
            </a:r>
            <a:r>
              <a:rPr b="0" lang="es-MX" sz="2800" spc="-1" strike="noStrike">
                <a:solidFill>
                  <a:srgbClr val="000000"/>
                </a:solidFill>
                <a:latin typeface="Arial"/>
                <a:ea typeface="Times New Roman"/>
              </a:rPr>
              <a:t>cajas</a:t>
            </a:r>
            <a:r>
              <a:rPr b="0" lang="es-ES_tradnl" sz="2800" spc="-1" strike="noStrike">
                <a:solidFill>
                  <a:srgbClr val="000000"/>
                </a:solidFill>
                <a:latin typeface="Arial"/>
                <a:ea typeface="Times New Roman"/>
              </a:rPr>
              <a:t> de plástico, éstas deben lavarse con detergente y aplicar desinfectante al final de la jornada.</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DE INSTRUMENTAL QUIRÚRG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Todo instrumental quirúrgico, debe dejarse bajo el chorro de agua, para eliminar la materia orgánica (fibrina, pus, sangre, etc.). De este modo se logra bajar la carga microbiana mediante arrastre mecánic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uego el operador debe lavar con agua y detergente el instrumental, protegido con guantes, pechera, impermeable y mascarilla. Una vez terminado el proceso de lavado  se realiza su esterilización</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DEFINICION</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Conjunto de medidas destinadas a minimizar el riesgo de transmisión de infecciones entre el personal y pacientes o viceversa por patógenos que se transmiten por contacto de sangre y fluidos de alto riesgo.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jempl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B</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C</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Virus de Inmunodeficiencia Humana y otro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609480"/>
            <a:ext cx="6782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AS </a:t>
            </a:r>
            <a:r>
              <a:rPr b="0" lang="es-CL" sz="2800" spc="-1" strike="noStrike">
                <a:solidFill>
                  <a:srgbClr val="000000"/>
                </a:solidFill>
                <a:latin typeface="Arial"/>
                <a:ea typeface="Arial"/>
              </a:rPr>
              <a:t> </a:t>
            </a:r>
            <a:br>
              <a:rPr sz="2800"/>
            </a:br>
            <a:r>
              <a:rPr b="1" lang="es-CL" sz="2800" spc="-1" strike="noStrike">
                <a:solidFill>
                  <a:srgbClr val="000000"/>
                </a:solidFill>
                <a:latin typeface="Arial"/>
                <a:ea typeface="Arial"/>
              </a:rPr>
              <a:t>PRECAUCIONES UNIVERSALES Y EL AMBIENTE</a:t>
            </a:r>
            <a:br>
              <a:rPr sz="3200"/>
            </a:br>
            <a:endParaRPr b="0" lang="en-US" sz="28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Descontaminación de derrames o superfici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r>
              <a:rPr b="0" lang="es-CL" sz="3200" spc="-1" strike="noStrike">
                <a:solidFill>
                  <a:srgbClr val="000000"/>
                </a:solidFill>
                <a:latin typeface="Arial"/>
                <a:ea typeface="Arial"/>
              </a:rPr>
              <a:t>Los derrames de sangre u otro fluido corporal en superficies como mesones o pisos deben ser impregnados con solución de Cloro al 0,5%. Esta manipulación debe ser realizada con gua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DESECHOS DE RESIDUOS HOSPITALARI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ea typeface="Arial"/>
              </a:rPr>
              <a:t>DEFINICION</a:t>
            </a: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Residuos que eliminan los hospitales que están relacionados con la atención de pacientes y desechos clínicos, incluyen tanto la basura común como desechos de tipo biológico, radiactivos, químico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Desechos Infecciosos : Desechos clínicos con micro organismos que potencialmente puedan transmitir infecciones</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SHEA –</a:t>
            </a: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hay evidencias científicas de infecciones en la comunidad provocada por los desechos Hospitalari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se ha demostrado transmisión de infecciones en trabajadores de las empresas de aseo.</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sgresiones a las precauciones estándar mas frecuentes en pabellones quirúrgicos</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anteojos o antiparras en cirugías donde se prevea derrame o salpicaduras de FA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erir bisturí directamente desde la mano de la arsenalera a mano del cirujan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rte o punción de algún miembro del equipo quirúrgico durante el acto operatorio. (transferencia de microorganismos del equipo al paci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pecheras impermeables frente a derrames o salpicaduras de F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piezas anatómicas o biopsias en envases no impermeables o debidamente sell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muestras o exámenes en envases de vidrio en manos o bolsillos del persona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iminación de material cortopunzante a la basura común y no en cajas de segur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uso de botas impermeables en cirugías de gran derrame que pudiese caer sobre el calzado del equipo quirúrgic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vado o manipulación de material cortopunzante con guantes de látex.</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notificar cuando ocurre un accidente cortopunz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038480" y="6019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Lucida Handwriting"/>
              </a:rPr>
              <a:t>Muchas Grac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OBJETIVO</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onocer y aplicar  medidas que permitan prevenir la exposición parenteral con sangre y fluidos de alto riesgo desde y hacia los pacientes, usando mecanismos de barrer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DEFINIC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Corporales son todas las secreciones o líquidos  biológicos, fisiológicos o patológicos que se producen en el organism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BARRERAS PROTECTORA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Barreras mecánicas destinadas a disminuir el riesgo de contacto de la piel o mucosas del personal de salud, con sangre o fluidos corporales de cualquier paciente independientemente de la calidad de infectado o n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a:t>
            </a:r>
            <a:r>
              <a:rPr b="0" i="1" lang="es-CL" sz="2800" spc="-1" strike="noStrike">
                <a:solidFill>
                  <a:srgbClr val="000000"/>
                </a:solidFill>
                <a:latin typeface="Arial"/>
                <a:ea typeface="Arial"/>
              </a:rPr>
              <a:t>POR QUE UTILIZAR LAS PRECAUCIONES UNIVERSALES?</a:t>
            </a:r>
            <a:br>
              <a:rPr sz="2800"/>
            </a:b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El personal de salud en los procedimientos de atención clínica están expuestas a riesgos de contraer enfermedades incurables transmitidas por FCAR mediante exposiciones labor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CLASIFICACION DE 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FLUIDOS DE ALTO RIESG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ang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m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creciones Vagin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eche Matern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de cavidades cerrada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Cefalorraquíde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Pleura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Sinovial</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Y todos los otros fluidos que tengan sangre visible</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RIESGO DE LOS TRABAJADORES DE LA SALUD PARA VHB</a:t>
            </a:r>
            <a:br>
              <a:rPr sz="24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Tres a cuatro veces mayor que la población general el VHB es un indicador de otras enfermedades transmitidas  por sangre y fluidos corpora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914400"/>
            <a:ext cx="6781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FUENTES DE INFECCION</a:t>
            </a:r>
            <a:br>
              <a:rPr sz="28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PACIENTES AGUDOS:</a:t>
            </a:r>
            <a:r>
              <a:rPr b="0" lang="es-CL" sz="3200" spc="-1" strike="noStrike">
                <a:solidFill>
                  <a:srgbClr val="000000"/>
                </a:solidFill>
                <a:latin typeface="Arial"/>
                <a:ea typeface="Arial"/>
              </a:rPr>
              <a:t> Contagiosos durante las últimas semanas del período de incubación y después de la aparición de la Icteric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Biológicos Contaminantes; sangre, secreciones vaginales, saliva, orina, semen. Existe transmisión por inoculación percutánea y transmisión sexual, vertic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22:30:19Z</dcterms:created>
  <dc:creator>Paula</dc:creator>
  <dc:description/>
  <dc:language>en-US</dc:language>
  <cp:lastModifiedBy>Ivo</cp:lastModifiedBy>
  <dcterms:modified xsi:type="dcterms:W3CDTF">2005-08-02T13:15:31Z</dcterms:modified>
  <cp:revision>5</cp:revision>
  <dc:subject/>
  <dc:title>PRECAUCIONES UNIVERSALES CON SANGRE  Y FLUIDOS CORPORALES </dc:title>
</cp:coreProperties>
</file>