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B15-6B40-4349-93ED-F031A85D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581-8A4B-4087-9CCF-1F06D6DC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D06-8A81-4A83-AC02-087B03C6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F11-8E85-4C81-8331-7423FEBF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5AD-BE6B-4E0C-A4AC-8EF403EB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3D4-10AA-4081-BE9B-74EBB16D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C5E-6A3D-4111-B581-B3E04004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971-6705-46DA-B3B8-869278E2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747-1AC4-472E-87A7-7D862B2C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A3A-D8DC-4223-BCB4-7B307C33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85D-73F0-435F-836D-2AA7565C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BEE-92DE-4B91-B694-3ED970C1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C225-E1E6-4CDB-B17A-2AD74B816DC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DEMIOLOGÍA DE I.I.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llian Villablanca 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F.B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AMBIENTE TIENE RELEVANCIA EN LA ASOCIACIÓN CON LAS II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O CUANDO TIENE CONTACTO CON LAS PUERTAS DE ENT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MEDIDAS DE PREVENCIÓN Y CONTROL SON ESPECIFICAS PARA CADA I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O EXISTEN 2 MEDIDAS UNIVER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DO DE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TEC.A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IA DE LOS FACTORES DE                              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ÉSPED  MUY IMPOR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ODIFI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. HOSPITALARIA    MUY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MODIF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ENTE                    POCO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MODIF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IIH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ÁN FUERTEMENTE ASOCI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 DE PA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S DE A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ÚLTIPLES FACTORES CONCOMI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BIL ASOCIACIÓN A ASPECTOS AMBI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GILANCIA  DE LAS II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OCIADA A PROCEDIMIENTOS INV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CIONES RESPIRATORIAS INFERIORES ASOCIADA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ILACIÓN MEC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BACIÓN ENDOTRAQU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DAS COMPROB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 ASÉPTICA ,CIRCUITO CERRADO,ASP DE SECRECIONES SOLO EN CASO NECES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R CONDENSADO DE CORRU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ción 30 –45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EMIA ASOC A CATÉT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DAS COMPROB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 ASÉPTICA.AP ESTÉRIL EN SITIO DE INSER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NIPULAR SITIO DE PU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ITO CERRADO REEMPLAZO DE EQUIPOS DE PERFUSIÓN CADA 72-96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NPT C/D 24H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UNCIONAR MATRACES  NI EQUIPOS DE PERF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ATERIAL TEFL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IÓN DE PRIMERA 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JAR QUE ANTISÉPTICO DE PIEL BAJE CARGA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ENCIÓN DE LLAVES DE 3 PASOS EN CIRCUIT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SAR AGUJAS METÁLICAS PARA PUNCIONES DE LARGA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O DE VENAS DE LAS EXTREMIDADES SUPERIORES O CUERO CABELLUDO EN LOS NI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POR RAZONES DE EMERGENCIA SE PUNCI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AS DE LA PIERNAS CAMBIAR TAN P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ACIENTE SE ESTABILIC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METRITIS PUERP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CIÓN DE NUMERO DE TACTOS VAG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BIOPROFILAXIS EN CESÁREAS DE U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SÁREA ELECTIVA DISMINUCIÓN D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 ASÉ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ÉCNICA QUIRÚRGICA DEPU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CIÓN DE TIEMPO DE ROTURA DE MEMBR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CIÓN DE TRAUMA DE TEJ BLA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EJO DE FACTORES DE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 ASOC A CATÉTER UR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TAR EL CATETE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NUCIÓN DE TIEMPO DE CATETE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 ASÉPTICA EN LA INSTA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ENCIÓN DE CIRCUITO CER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ENER DREN DE BOLSA RECOLEC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JACIÓN DE CATÉ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ALTERNATIVOS PRESERV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CIÓN DE HERIDA OPER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MINUCIÓN DE ESTADÍA PRE OPER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TAMIENTO DE LA OBE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TAMIENTO DE FOCOS DIS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MINACIÓN DE RAS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MINUCIÓN DE TIEMPO OPERA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 QUIRÚRGICA DEPU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 A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BIOPROFI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O DE MASCARILLA DE ALTA EFIC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INFECCIONES INTRAHOSPITALARIAS I.I.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 un indicador de calidad de la atención en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orientan a los procesos clí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nformación de la calidad en la realización de los procedimientos que ejecutan los profesionales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rasgresiones a la técnica aséptica por el equipo quirúrgico en el periodo operator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rasgresiones mayores en el periodo pre operato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nos de cualquier miembro del equipo quirúrgico con lesiones que requieran cober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fermedades infecciosas cutáneas y respiratorias de cualquier miembro del equipo (amigdalitis, rinitis, dermatit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es: Aseo de pabellón, colchonetas y lámparas con desinfectantes no aprobados por el comit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greso al campo quirúrgico a menos de un metro sin mascarilla y ropa de circulación sucia o húme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cambio de mascarillas entre intervenciones quirúrgicas (incluye al personal de anestes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Lavado y preparación del campo quirúrgico may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dida de la esterilidad por contacto de cualquier elemento que será usado en la inter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mersión de elementos sometidos a desinfección de alto nivel por un tiempo inferior a 20 min. al contacto con el desinfectante (D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enor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l lavado de manos del equip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de uñas postizas, anillos, barniz de uñ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obillado de la piel de manos y antebr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bellonera deposita elementos estériles sobre mesa de arsenalera con la técnica de “dejar ca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strumentista y mesa de arsenal preparado por mas de 30 min. antes del inicio de la interven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eriodo Intraoperatorio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. may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Guante roto o superficie cutánea descubier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mbios de posición de los miembros del equipo sin cuidar áreas estériles de las vestimentas. (ejemplo: ofrendar espalda a mesa de arse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cambiar guantes y compresas después de cerrar órganos huecos o manejo de colecciones sép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ntener compresas próximas al campo quirúrgico empapadas en sangre o fluido corporal sin camb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del mismo bisturí usado en territorios habitualmente colonizados para uso en territorios estér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de cánulas de aspiración en succión de órganos huecos o colecciones sépticas y luego en territorios estér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cubrir todo el campo quirúrgico durante el uso de la maquina de rayos. Devolver el cobertor a mesa de arse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liminar instrumental u otros elementos conta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. Men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jar caer polvo de los guantes sobre instrumental o camp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doración excesiva del equip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versación excesiva del equip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aspirar de inmediato contenidos de órganos huecos in situ ya derramados. (Hallazgo Operatorio, no implica mala técnica quirúrg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banas del campo operatorio empapadas y no cubiertas con nuevas secas oportun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ost Operatori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. May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jar barreras anatómicas con soluciones de continuidad o traspasadas por cuerpos extraños. Drenajes, pun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. menor: permitir que drenajes aspiratívos queden con circulación de aire no filtrado hacia el interior del paciente en territorios que deben permanecer estér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HER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LIM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L.CONTA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CONTA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SU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INGU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DE M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VIDEOLAPA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LAPAROTO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COLON PREPA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TONITIS ESTERCORAC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. las I.I.H son procesos infecciosos generales o localizados que se desarrollan en los pacientes  durante su hospitalización o la concurrencia a él, se consideran intrahospitalarias todos los procesos infecciosos que se desarrollen hasta 60 días posterior al alta,  exceptuando agentes con periodo de incubación cono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IIH SON MULTIFACTO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ROFESIONALES DE LA SALUD PARTICIPAN ACTIVAMENTE EN SU DESARROLL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INDICADOR POTENTE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ÚA LOS PROCESOS DE A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RESPONSABILIDAD ÉTICA Y LE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tardec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 problema de salud pu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 la morbilidad  10% de los egresos desarrolla una I.I.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 la mortalidad 3% de los egresos fallece con una IIH ya sea asociada o atribu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 los costos  aumenta el promedio de días de estada entre  5 y 10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ere de recursos adi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mento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tervenciones quirúr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antibióticos de 2-3 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o de insu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o y mayor desgaste de recurs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ES DE RIESG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ÉS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ENCIÓN HOSPITALA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ENTE FÍ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és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ades extremas de la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        ANCI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O           ITU     ENDOMET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OLOGÍA D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DO INMUNI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NUTRICIÓN  OBE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ENCIÓN HOSPIT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EJO DE  TEC A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PRECAUCIONE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EDIDAS PROFILÁ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ENTE FÍS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UA HOSPITALARIA HEMODIÁ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BIOS DE AIRE EN ÁREAS CRI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OS Y SUPERFICIES CONTAMINADAS VRS.ADV,T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23:41:49Z</dcterms:created>
  <dc:creator>Servicio al Cliente</dc:creator>
  <dc:description/>
  <dc:language>en-US</dc:language>
  <cp:lastModifiedBy>Ivo</cp:lastModifiedBy>
  <dcterms:modified xsi:type="dcterms:W3CDTF">2005-08-02T13:16:38Z</dcterms:modified>
  <cp:revision>12</cp:revision>
  <dc:subject/>
  <dc:title>EPIDEMIOLOGIA DE I.I.H.</dc:title>
</cp:coreProperties>
</file>