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596-94EA-4C18-8C4C-27EA513B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D85-68B1-4658-9E64-4EDAA634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78D-DCF1-4BF7-B747-8DBD757B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A2B-FDC4-4445-932E-DFF02BA8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6F8-B539-4AAE-BC68-1FBD8C87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825-B269-4412-A1DC-D354ABD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A11-E673-4829-B0B8-F71D65DC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EAF-8451-456E-BC0C-5BB4C531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496-7B2D-4FB4-8BA2-29F204F8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7A1-8691-4FCC-BF5E-11DC0E4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4DC-27FA-4454-9F21-ED2A63E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B11-D557-4F85-A3F1-B15E78C3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F3D8-DE56-4CCB-8A0A-B5C6408F54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ÍA DE I.I.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lian Villablanca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F.B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AMBIENTE TIENE RELEVANCIA EN LA ASOCIACIÓN CON LAS II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O CUANDO TIENE CONTACTO CON LAS PUERTAS DE ENT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MEDIDAS DE PREVENCIÓN Y CONTROL SON ESPECIFICAS PARA CADA I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O EXISTEN 2 MEDIDAS UNIVER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TEC.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 LOS FACTORES DE                              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ÉSPED  MUY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OD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. HOSPITALARIA    MUY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MODIF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                   POCO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MODIF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IIH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FUERTEMENTE ASOCI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S DE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ÚLTIPLES FACTORES CONCOMI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BIL ASOCIACIÓN A ASPECTO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GILANCIA  DE LAS II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OCIADA A PROCEDIMIENTOS INV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CIONES RESPIRATORIAS INFERIORES ASOCIAD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ILACIÓN ME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BACIÓN ENDOTRAQU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COMPROB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 ASÉPTICA ,CIRCUITO CERRADO,ASP DE SECRECIONES SOLO EN CASO NECES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CONDENSADO DE CORRU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ón 30 –45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EMIA ASOC A CATÉ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DAS COM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 ASÉPTICA.AP ESTÉRIL EN SITIO DE INSER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NIPULAR SITIO DE P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ITO CERRADO REEMPLAZO DE EQUIPOS DE PERFUSIÓN CADA 72-96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NPT C/D 24H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UNCIONAR MATRACES  NI EQUIPOS DE PER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TERIAL TEFL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IÓN DE PRIMERA 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JAR QUE ANTISÉPTICO DE PIEL BAJE CARGA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 DE LLAVES DE 3 PASOS EN CIRCUIT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AGUJAS METÁLICAS PARA PUNCIONES DE LARGA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 VENAS DE LAS EXTREMIDADES SUPERIORES O CUERO CABELLUDO EN LOS 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POR RAZONES DE EMERGENCIA SE PUN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AS DE LA PIERNAS CAMBIAR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CIENTE SE ESTABILIC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METRITIS PUERP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CIÓN DE NUMERO DE TACTOS VAG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PROFILAXIS EN CESÁREAS DE U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ÁREA ELECTIVA DISMINUCIÓN D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 ASÉ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ÉCNICA QUIRÚRGICA DEPU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CIÓN DE TIEMPO DE ROTURA DE MEMBR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CIÓN DE TRAUMA DE TEJ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EJO DE FACTORES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ASOC A CATÉTER UR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TAR EL CATETE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CIÓN DE TIEMPO DE CATETE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 ASÉPTICA EN LA INSTA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CIÓN DE CIRCUITO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ER DREN DE BOLSA RECOLEC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ACIÓN DE CATÉ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LTERNATIVOS PRESERV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CIÓN DE HERIDA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DE ESTADÍA PRE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 DE LA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 DE FOCOS DI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CIÓN DE RAS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DE TIEMPO OPE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 QUIRÚRGICA DEPU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 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PROFI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MASCARILLA DE ALTA EFIC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NFECCIONES INTRAHOSPITALARIAS I.I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un indicador de calidad de la atención en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orientan a los procesos clí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nformación de la calidad en la realización de los procedimientos que ejecutan los profesionales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rasgresiones a la técnica aséptica por el equipo quirúrgico en el periodo operato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rasgresiones mayores en el periodo pre operato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nos de cualquier miembro del equipo quirúrgico con lesiones que requieran cober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fermedades infecciosas cutáneas y respiratorias de cualquier miembro del equipo (amigdalitis, rinitis, dermatit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es: Aseo de pabellón, colchonetas y lámparas con desinfectantes no aprobados por el comi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al campo quirúrgico a menos de un metro sin mascarilla y ropa de circulación sucia o húme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cambio de mascarillas entre intervenciones quirúrgicas (incluye al personal de anestes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vado y preparación del campo quirúrgico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dida de la esterilidad por contacto de cualquier elemento que será usado en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mersión de elementos sometidos a desinfección de alto nivel por un tiempo inferior a 20 min. al contacto con el desinfectante (D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nor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l lavado de manos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 uñas postizas, anillos, barniz de uñ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obillado de la piel de manos y 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bellonera deposita elementos estériles sobre mesa de arsenalera con la técnica de “dejar ca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strumentista y mesa de arsenal preparado por mas de 30 min. antes del inicio de la interven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eriodo Intraoperatori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.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uante roto o superficie cutánea descubi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mbios de posición de los miembros del equipo sin cuidar áreas estériles de las vestimentas. (ejemplo: ofrendar espalda a mesa de arse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cambiar guantes y compresas después de cerrar órganos huecos o manejo de colecciones sép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ntener compresas próximas al campo quirúrgico empapadas en sangre o fluido corporal sin camb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l mismo bisturí usado en territorios habitualmente colonizados para uso en territorios estér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 cánulas de aspiración en succión de órganos huecos o colecciones sépticas y luego en territorios estér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cubrir todo el campo quirúrgico durante el uso de la maquina de rayos. Devolver el cobertor a mesa de arse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liminar instrumental u otros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. Me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jar caer polvo de los guantes sobre instrumental o cam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doración excesiva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rsación excesiva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aspirar de inmediato contenidos de órganos huecos in situ ya derramados. (Hallazgo Operatorio, no implica mala técnica quirúrg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banas del campo operatorio empapadas y no cubiertas con nuevas secas oportun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st Operatori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.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jar barreras anatómicas con soluciones de continuidad o traspasadas por cuerpos extraños. Drenajes, pun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. menor: permitir que drenajes aspiratívos queden con circulación de aire no filtrado hacia el interior del paciente en territorios que deben permanecer estér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HER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LIM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L.CONTA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CONTA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SU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INGU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DE M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VIDEOLAP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LAPAROTO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COLON PREPA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TONITIS ESTERCORAC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 las I.I.H son procesos infecciosos generales o localizados que se desarrollan en los pacientes  durante su hospitalización o la concurrencia a él, se consideran intrahospitalarias todos los procesos infecciosos que se desarrollen hasta 60 días posterior al alta,  exceptuando agentes con periodo de incubación cono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IH SON MULTIFACTO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ROFESIONALES DE LA SALUD PARTICIPAN ACTIVAMENTE EN SU DESARROL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INDICADOR POTENTE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ÚA LOS PROCESOS DE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RESPONSABILIDAD ÉTICA Y 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tardec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problema de salud pu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a morbilidad  10% de los egresos desarrolla una I.I.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a mortalidad 3% de los egresos fallece con una IIH ya sea asociada o atribu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os costos  aumenta el promedio de días de estada entre  5 y 10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de recursos ad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mento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tervenciones quirúr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bióticos de 2-3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o de 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o y mayor desgaste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ÉS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NCIÓN HOSPITAL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és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ades extremas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        ANC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O           ITU     ENDOMET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LOGÍA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INMUNI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NUTRICIÓN 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ENCIÓN HOSPIT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EJO DE  TEC 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PRECA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DIDAS PROFIL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ENTE FÍ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HOSPITALARIA HEMODI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IOS DE AIRE EN ÁREAS CRI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OS Y SUPERFICIES CONTAMINADAS VRS.ADV,T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23:41:49Z</dcterms:created>
  <dc:creator>Servicio al Cliente</dc:creator>
  <dc:description/>
  <dc:language>en-US</dc:language>
  <cp:lastModifiedBy>Ivo</cp:lastModifiedBy>
  <dcterms:modified xsi:type="dcterms:W3CDTF">2005-08-02T13:16:38Z</dcterms:modified>
  <cp:revision>12</cp:revision>
  <dc:subject/>
  <dc:title>EPIDEMIOLOGIA DE I.I.H.</dc:title>
</cp:coreProperties>
</file>