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D5F-6995-4617-B320-25A1D056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20F-0BC5-4EA2-8941-25F6BCA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E64-0074-4455-9EF2-FFF38CF7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1B0-DF65-456A-BE78-98720A9F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1FE-ED9C-42D3-A581-B23CD4FD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2E0-438A-413C-A935-8DA16D94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220-243F-4559-B44A-FA888BE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85E-E34B-4B14-A3CD-08C5225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A63-0E85-4186-BE47-2CB764F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8A5-8DC8-4E1A-A08F-0A11873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575-1B81-4086-904C-53DCEB6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6A3-FDEC-4464-B9E3-6B618020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9E9-C3A9-46F8-975D-7F8C460D66B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NICA ASE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to de procedimientos destinados a minimizar el riesgo de contaminación microb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il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eliminación de toda forma de vida microbiana se logra por métodos químicos,físicos o gase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racionalizar los procedimientos de esterilización según su invasividad SPAULDIG clasifico los artí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OS- SEMI CRITICOS –NO CRI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mentos que acceden a cavidades normalmente estériles del organismo,esto representa el mayor riesgo de infección si se encuentran contami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IEMPRE DEBE SER EST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TRUMENTAL QUIRUR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ESORIOS DEL AP.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SEMI 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tículos que entran en contacto con piel no intacta o con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ucosas son en general resistentes a las esporas ,bacterias comunes pero susceptibles a las formas vegetativas de las bacterias  vir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 tuberculosis estos artículos deben estar libres de formas vegetativas idealmente estériles sino es posibl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ben ser desinfectados de alto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No cr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quellos que toman contacto con piel inta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iel sana es una barrera efectiva de protección contra las infecci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s artículos solo requieren de limpi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S DE ESTERILIZ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HUM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SICOS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 PAS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EOSOS 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MICOS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LDEH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SMA  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OR HUMEDO: VAPOR SATURADO A PRESION(AUTOCLAVE) ES METODO MAS USADO,EFECTIVO Y DE MENOR COSTO CONSISTE EN ELEVAR LA TEMPERATURA RAPIDO   EN PERIODOS CORTOS  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TOX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JA RESIDUOS EN EL MATERIAL NI EL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ICROORG SON ELIMINADEA POR DESNATURALIZACIÓN DE LAS PROTE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co: actúa por coagulación de las proteínas de los microorg. su efectividad depende difu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dad de calor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les de perdida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 fácil uso pero no se cuenta con evaluaciones objetivas su uso debe limitarse solo a materiales que no resisten el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eites ,vasel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 de etile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 químico de alto poder esterilizante se presenta liquido se volatiliza como compuesto gaseoso actúa produciendo alquilación de la pared celular del micro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 esteriliza a baja temperatura, buena penetración a artículos que tienen lú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capacidad de impregnación requiere sistema de aireación que disminuya 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iesgo de exposición del personal que lo manip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de formaldehí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sistema se usa para esterilizar materiales que no resisten altas temperaturas actúa a 50-60°C en presencia de vapor saturado se hace pasar formalina a distintas concentracion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n vapori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ceso dura entre 3y5 hrs. es altamente to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esterilización cuando no se cuenta con equipos e instalaciones  esta PROHIB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E PEROXIDO DE H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RODUCE USANDO PH como precursor por emisión de radiofrecuencia en un ambiente al vacío y temperatura que no excede los 50°C terminado el proceso los radicales se unen para formar vapor de agua oxigeno y otros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se usa para materiales termo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 alto costo no sirve para materiales como celulosa algodón lino,dificulta su ingreso A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seguro para 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GU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SCA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DELA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SEPTICOS  MANEJO DE MATERIAL ESTE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n dosis pre determinadas de rayos  gama o cobalto de alta complejidad requiere condiciones de seguridad e instalaciones especiales se utiliza para plásticos,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vinilos,tefl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aterial que ha sido sometido a esterilización con radiaciones no debe ser reesterilizado por otro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s de esteri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FI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QUI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BIOLO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es fí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incorporados a los equipos como termómetros manómetros de presión sensores de carga válvulas y sistemas de registro de parámetros,no son suficientes como indicadore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e estado d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 la ca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ia de materia orgánica en los art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quí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 químicas que cambian de color de color si se cumple un elemento dado del proceso de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e papel,cintas adhesivas tubos de vid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dores químicos integrados reaccio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cumple mas de un parámetro exigido para la esteri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lave monitoréa  presión ,temperatura ,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 Bowie Dick mide el vacío de la cámara es esencial para la esterilización de todos los equipos que requieren  difusión de gas o vapor es una hoja que se pone al interior de cada paquete esterilizado se somete a134 y138°c por 3,5 minutos si el vapor penetra rápido y no hay bolsas de aire al interior de la cámara se obtendrá un viraje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biológ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mejor método de control de los procesos de esterilización está diseñado con esporas de microorg. resistentes a la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por saturado –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oras de Bacilus  stearothemophi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 –esporas de Bacillus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O          -             variedad Ní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 alt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son rápidos 3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antizan que el proceso se cumplió a cabalidad en todas su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sustancias químicas destinadas a inhibir, destruir, y disminuir los microorganismos en tejidos o p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orios lugar donde los microorg. están vivos se multipl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dos  pacientes y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nimados equipos ,soluciones,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iedades de un antiséptico i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o espectro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á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acumul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tox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inactivacion con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raz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EPTICOS DE USO HOSPITALAR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es: actúa por desnaturalización de las proteínas excelente actividad contra  f vegetativas de bacterias Gram(+) y (-) buena acción contra bacilo tuberculoso,hongos,virus,vrs,HB,VIH.su aplicación en piel es muy segura no hay reportes de efectos adversos solo sequedad de la piel su acción va de los 15seg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ivo para lavado de manos y desinfección de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tílico.isopropílico prop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ciones van60 y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do emo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rhexid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úa por daño a la membrana celular precipitación del citoplasma de amplio espectro mejor para G(+) no tiene efecto sobre bacilo TBC débil para hongos,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 toxicidad solo si se instila al o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ción se inicia a los 15seg y tiene un efecto residual de hasta 6 hrs. su actividad no se afecta por materia orgánica 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ye su acción con aguas 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RA NORMAL O 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microbiológica estable de la piel están firmemente adheridos a la piel E.coagulasa negativa,Corynebacterium spp,Micr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,en general se comportan como oportu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pirroli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idona yodada  comp. de yodo soluble en agua de efecto residual por su liberación gradual activo frente a G (+) (-) actúa por oxidación de la m.celular su actividad se prolonga  2y3 hrs.  concentración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diluirse o mezclarse con otras sustancias ya que pierde su capacidad de  liberación gra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tividad disminuye en presencia de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recomendable para irrigar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ara aplicación a grandes quemados ya que yodo se absorbe provocando daño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CLOSAN.deriv fenólico produce daño de la pared celular de los microorg. amplio espectro se absorbe por la piel  recomendado para lavado clínic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o de 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ño y desinfección de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 a cirugías o imp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ciones  arrastre mecánico solo cuando la herida esta 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ón de catéteres aplicar antiséptico en sitio de inserción de fleboc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fección de alto ni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AN elimina todos los microorg excepto las esporas este procedimiento se usa exclusivamente para material semi critico termo sensible por Ej. endoscopios cistoscopios laparosco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se realiza con glutaraldehido, peroxido de hidrogeno, ac peracético,orthophthaldeh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raldehido sol acuosa es ácida un PH 2,5 para que actúe como desinfectante de alto nivel debe activarse y alcalinizar hasta un Ph de 7,5-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corrosivo para gomas plásticos el proceso se realiza bajo inmersión por 20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a  limpieza rigurosa con detergente especialmente al interior de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suero fisiológico posterior a la inm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toxico e irritante de muc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 TRANSI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organismos adquiridos en el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mente sin multiplica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ácilmente removibles se adhieren a la piel al contacto con personas y equipos en el ambiente hospitalario S.aureus,bacilos no fermentadores,pseudomonas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tiran de la piel por arrastre mecá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y ja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LAVADO DE 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RURG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CLINICO DE M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los procedimientos y ocasiones a re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spués de tocar  a los enfe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 manejar material esté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de manipular flu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ONALIDAD 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CION DE LA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os libres de acces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gas leva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brazo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onarse las manos por 30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lechos ungeales,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abundant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ón tocador o antisép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r con toalla dese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ar llave sin contamin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vado quirúrg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jabón antiséptico de efect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jar l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tar ambas manos y antebrazos hasta el c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 lechos ungeales sin usar escob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4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,secar con compresa esté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 invasivos,a paciente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PROCEDIMI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NFECCION Y ESTERI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pieza:remoción de la materia orgánica en superficies ambientes y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o por arrastre mecánico con agua y  deter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nfección es la destrucción de las formas vegetativas de los microorganismos en objetos inanimados se usan ag químicos agua a sobre 7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endo de la capacidad de destrucción del desinfectante de definen 3 niv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o med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20:53:30Z</dcterms:created>
  <dc:creator>Servicio al Cliente</dc:creator>
  <dc:description/>
  <dc:language>en-US</dc:language>
  <cp:lastModifiedBy>Ivo</cp:lastModifiedBy>
  <dcterms:modified xsi:type="dcterms:W3CDTF">2009-08-10T13:34:53Z</dcterms:modified>
  <cp:revision>13</cp:revision>
  <dc:subject/>
  <dc:title>TECNICA ASEPTICA</dc:title>
</cp:coreProperties>
</file>