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BA2-B612-4CF5-B5CC-CF37E96D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20A-C807-4045-980A-A903367D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D3C-0A49-4C32-9370-0FECF65A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3B0-5626-41DE-8ECE-AB3D5DCD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ACB-57D9-4C19-8015-70227A3B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C7F-9B69-42D3-BB35-FBCD1861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7D2-F9C5-4EB5-B223-8590D13C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2EC-05F6-4530-86DC-1476E866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D3A-97A7-4506-9EB7-D04156A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F8B-3785-48B1-BD76-D5E1E03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211-7DDA-491D-98A0-4B39349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F5F-95C1-4CD0-B2BD-AD90CC6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67FA-6AA3-4C44-8521-3F520E8ACE3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NICA ASE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to de procedimientos destinados a minimizar el riesgo de contaminación microb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eril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la eliminación de toda forma de vida microbiana se logra por métodos químicos,físicos o gaseo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racionalizar los procedimientos de esterilización según su invasividad SPAULDIG clasifico los artí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OS- SEMI CRITICOS –NO CRI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ementos que acceden a cavidades normalmente estériles del organismo,esto representa el mayor riesgo de infección si se encuentran contami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 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IEMPRE DEBE SER ESTE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TRUMENTAL QUIRUR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CESORIOS DEL AP.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SEMI 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tículos que entran en contacto con piel no intacta o con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mucosas son en general resistentes a las esporas ,bacterias comunes pero susceptibles a las formas vegetativas de las bacterias  vir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 tuberculosis estos artículos deben estar libres de formas vegetativas idealmente estériles sino es posibl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ben ser desinfectados de alto n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No cr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quellos que toman contacto con piel inta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iel sana es una barrera efectiva de protección contra las infeccion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s artículos solo requieren de limpi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TODOS DE ESTERILIZ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HUM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SICOS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OC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. PAS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EOSOS 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MICOS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LDEH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SMA  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OR HUMEDO: VAPOR SATURADO A PRESION(AUTOCLAVE) ES METODO MAS USADO,EFECTIVO Y DE MENOR COSTO CONSISTE EN ELEVAR LA TEMPERATURA RAPIDO   EN PERIODOS CORTOS  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TOX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JA RESIDUOS EN EL MATERIAL NI EL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ICROORG SON ELIMINADEA POR DESNATURALIZACIÓN DE LAS PROTE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co: actúa por coagulación de las proteínas de los microorg. su efectividad depende difu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tidad de calor dispon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eles de perdida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 fácil uso pero no se cuenta con evaluaciones objetivas su uso debe limitarse solo a materiales que no resisten el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eites ,vasel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 de etilen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g químico de alto poder esterilizante se presenta liquido se volatiliza como compuesto gaseoso actúa produciendo alquilación de la pared celular del microo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ja esteriliza a baja temperatura, buena penetración a artículos que tienen lúm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see capacidad de impregnación requiere sistema de aireación que disminuya 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iesgo de exposición del personal que lo manip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 de formaldehí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sistema se usa para esterilizar materiales que no resisten altas temperaturas actúa a 50-60°C en presencia de vapor saturado se hace pasar formalina a distintas concentraciones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di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n vaporizad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ceso dura entre 3y5 hrs. es altamente tox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esterilización cuando no se cuenta con equipos e instalaciones  esta PROHIB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SMA DE PEROXIDO DE H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RODUCE USANDO PH como precursor por emisión de radiofrecuencia en un ambiente al vacío y temperatura que no excede los 50°C terminado el proceso los radicales se unen para formar vapor de agua oxigeno y otros 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se usa para materiales termo sen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 alto costo no sirve para materiales como celulosa algodón lino,dificulta su ingreso A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seguro para 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GU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ASCA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DELA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NTISEPTICOS  MANEJO DE MATERIAL ESTE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n dosis pre determinadas de rayos  gama o cobalto de alta complejidad requiere condiciones de seguridad e instalaciones especiales se utiliza para plásticos,go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vinilos,tefl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material que ha sido sometido a esterilización con radiaciones no debe ser reesterilizado por otro mét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es de esteri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ES FI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QUI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BIOLO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es fí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incorporados a los equipos como termómetros manómetros de presión sensores de carga válvulas y sistemas de registro de parámetros,no son suficientes como indicadore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 de estado del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 la ca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ia de materia orgánica en los art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quí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 químicas que cambian de color de color si se cumple un elemento dado del proceso de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de papel,cintas adhesivas tubos de vid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dores químicos integrados reaccio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cumple mas de un parámetro exigido para la esteri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lave monitoréa  presión ,temperatura , vac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de Bowie Dick mide el vacío de la cámara es esencial para la esterilización de todos los equipos que requieren  difusión de gas o vapor es una hoja que se pone al interior de cada paquete esterilizado se somete a134 y138°c por 3,5 minutos si el vapor penetra rápido y no hay bolsas de aire al interior de la cámara se obtendrá un viraje uni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biológic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l mejor método de control de los procesos de esterilización está diseñado con esporas de microorg. resistentes a la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por saturado –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oras de Bacilus  stearothemophi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 –esporas de Bacillus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O          -             variedad Ní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 alto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esultados son rápidos 3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rantizan que el proceso se cumplió a cabalidad en todas su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sustancias químicas destinadas a inhibir, destruir, y disminuir los microorganismos en tejidos o pi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orios lugar donde los microorg. están vivos se multipl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dos  pacientes y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nimados equipos ,soluciones,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iedades de un antiséptico i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o espectro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áp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acumul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tox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inactivacion con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razo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EPTICOS DE USO HOSPITALARI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es: actúa por desnaturalización de las proteínas excelente actividad contra  f vegetativas de bacterias Gram(+) y (-) buena acción contra bacilo tuberculoso,hongos,virus,vrs,HB,VIH.su aplicación en piel es muy segura no hay reportes de efectos adversos solo sequedad de la piel su acción va de los 15seg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ectivo para lavado de manos y desinfección de 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tílico.isopropílico propí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ciones van60 y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do emo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rhexid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úa por daño a la membrana celular precipitación del citoplasma de amplio espectro mejor para G(+) no tiene efecto sobre bacilo TBC débil para hongos,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a toxicidad solo si se instila al o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ción se inicia a los 15seg y tiene un efecto residual de hasta 6 hrs. su actividad no se afecta por materia orgánica 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ye su acción con aguas 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RA NORMAL O RESID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lación microbiológica estable de la piel están firmemente adheridos a la piel E.coagulasa negativa,Corynebacterium spp,Micr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p,en general se comportan como oportun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vinylpirroli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idona yodada  comp. de yodo soluble en agua de efecto residual por su liberación gradual activo frente a G (+) (-) actúa por oxidación de la m.celular su actividad se prolonga  2y3 hrs.  concentración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be diluirse o mezclarse con otras sustancias ya que pierde su capacidad de  liberación gra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tividad disminuye en presencia de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recomendable para irrigar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ara aplicación a grandes quemados ya que yodo se absorbe provocando daño r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CLOSAN.deriv fenólico produce daño de la pared celular de los microorg. amplio espectro se absorbe por la piel  recomendado para lavado clínic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o de 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ño y desinfección de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 a cirugías o impl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ciones  arrastre mecánico solo cuando la herida esta 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ón de catéteres aplicar antiséptico en sitio de inserción de fleboc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fección de alto ni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AN elimina todos los microorg excepto las esporas este procedimiento se usa exclusivamente para material semi critico termo sensible por Ej. endoscopios cistoscopios laparoscop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se realiza con glutaraldehido, peroxido de hidrogeno, ac peracético,orthophthaldeh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araldehido sol acuosa es ácida un PH 2,5 para que actúe como desinfectante de alto nivel debe activarse y alcalinizar hasta un Ph de 7,5-8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corrosivo para gomas plásticos el proceso se realiza bajo inmersión por 20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a  limpieza rigurosa con detergente especialmente al interior de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suero fisiológico posterior a la inm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toxico e irritante de muco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RA TRANSITO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organismos adquiridos en el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ualmente sin multiplica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ácilmente removibles se adhieren a la piel al contacto con personas y equipos en el ambiente hospitalario S.aureus,bacilos no fermentadores,pseudomonas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tiran de la piel por arrastre mecán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a y jab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LAVADO DE M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RURGU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CLINICO DE MA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los procedimientos y ocasiones a reali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spués de tocar  a los enfer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 manejar material esté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ués de manipular flui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CIONALIDAD P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TACION DE LA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IMIEN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os libres de acces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gas levan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brazo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onarse las manos por 30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lechos ungeales,antebr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abundante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ón tocador o antisép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r con toalla dese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ar llave sin contamin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vado quirúrgic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 jabón antiséptico de efect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jar las 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tar ambas manos y antebrazos hasta el c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 lechos ungeales sin usar escob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4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,secar con compresa esté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 invasivos,a pacientes suscep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PROCEDIMIEN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NFECCION Y ESTERILIZ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pieza:remoción de la materia orgánica en superficies ambientes y obje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o por arrastre mecánico con agua y  deter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nfección es la destrucción de las formas vegetativas de los microorganismos en objetos inanimados se usan ag químicos agua a sobre 7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endo de la capacidad de destrucción del desinfectante de definen 3 niv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o med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20:53:30Z</dcterms:created>
  <dc:creator>Servicio al Cliente</dc:creator>
  <dc:description/>
  <dc:language>en-US</dc:language>
  <cp:lastModifiedBy>Ivo</cp:lastModifiedBy>
  <dcterms:modified xsi:type="dcterms:W3CDTF">2009-08-10T13:34:53Z</dcterms:modified>
  <cp:revision>13</cp:revision>
  <dc:subject/>
  <dc:title>TECNICA ASEPTICA</dc:title>
</cp:coreProperties>
</file>