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049-B6C4-4991-A89C-E1EFDDDA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E57-42FE-43F5-A899-93611C38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80A-F0A5-4D29-B190-791D64E2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B29F-8F87-473C-9591-690C9D5F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DA5-1503-42FA-851F-A0683289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F06-CD32-4E1B-A0EC-3B75F7F9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523-1248-475D-8DB6-C8B9DB13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A450-9AA5-441A-A368-207C7220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B2E-0D6E-46CC-A03F-58E6BA1B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284-34FD-441E-B896-B8B03D28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75B-03B8-49E4-8395-E8505821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986-F881-4147-AEB7-CF2F16E4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4C1C-168A-4CF9-AD67-1639BC2115E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NICA ASEP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to de procedimientos destinados a minimizar el riesgo de contaminación microb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eriliz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la eliminación de toda forma de vida microbiana se logra por métodos químicos,físicos o gaseo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racionalizar los procedimientos de esterilización según su invasividad SPAULDIG clasifico los artíc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OS- SEMI CRITICOS –NO CRIT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CRI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ementos que acceden a cavidades normalmente estériles del organismo,esto representa el mayor riesgo de infección si se encuentran contami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 U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SIEMPRE DEBE SER ESTE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TRUMENTAL QUIRUR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CESORIOS DEL AP.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SEMI CRI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tículos que entran en contacto con piel no intacta o con mu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mucosas son en general resistentes a las esporas ,bacterias comunes pero susceptibles a las formas vegetativas de las bacterias  virus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 tuberculosis estos artículos deben estar libres de formas vegetativas idealmente estériles sino es posibl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ben ser desinfectados de alto n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. No cr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quellos que toman contacto con piel inta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iel sana es una barrera efectiva de protección contra las infeccion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s artículos solo requieren de limpi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ÉTODOS DE ESTERILIZ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HUME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SICOS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OC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S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. PAS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EOSOS 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MICOS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LDEH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LASMA  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DIACIONES IONIZ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OR HUMEDO: VAPOR SATURADO A PRESION(AUTOCLAVE) ES METODO MAS USADO,EFECTIVO Y DE MENOR COSTO CONSISTE EN ELEVAR LA TEMPERATURA RAPIDO   EN PERIODOS CORTOS  2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TOX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JA RESIDUOS EN EL MATERIAL NI EL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ICROORG SON ELIMINADEA POR DESNATURALIZACIÓN DE LAS PROTE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co: actúa por coagulación de las proteínas de los microorg. su efectividad depende difu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tidad de calor dispon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eles de perdida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 fácil uso pero no se cuenta con evaluaciones objetivas su uso debe limitarse solo a materiales que no resisten el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 para aceites ,vasel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 de etilen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g químico de alto poder esterilizante se presenta liquido se volatiliza como compuesto gaseoso actúa produciendo alquilación de la pared celular del microo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taja esteriliza a baja temperatura, buena penetración a artículos que tienen lúm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see capacidad de impregnación requiere sistema de aireación que disminuya 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riesgo de exposición del personal que lo manip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 de formaldehí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e sistema se usa para esterilizar materiales que no resisten altas temperaturas actúa a 50-60°C en presencia de vapor saturado se hace pasar formalina a distintas concentraciones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diant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un vaporizad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proceso dura entre 3y5 hrs. es altamente tox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 esterilización cuando no se cuenta con equipos e instalaciones  esta PROHIB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SMA DE PEROXIDO DE HIDRO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RODUCE USANDO PH como precursor por emisión de radiofrecuencia en un ambiente al vacío y temperatura que no excede los 50°C terminado el proceso los radicales se unen para formar vapor de agua oxigeno y otros 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se usa para materiales termo sen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de alto costo no sirve para materiales como celulosa algodón lino,dificulta su ingreso A los lúm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seguro para 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GU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ASCARI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DELA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ANTISEPTICOS  MANEJO DE MATERIAL ESTER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aciones ioniz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usan dosis pre determinadas de rayos  gama o cobalto de alta complejidad requiere condiciones de seguridad e instalaciones especiales se utiliza para plásticos,go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vinilos,tefl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material que ha sido sometido a esterilización con radiaciones no debe ser reesterilizado por otro méto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es de esteri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ES FIS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QUI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DORES BIOLO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es fí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incorporados a los equipos como termómetros manómetros de presión sensores de carga válvulas y sistemas de registro de parámetros,no son suficientes como indicadore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 de estado del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 la car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cia de materia orgánica en los art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dores quí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 químicas que cambian de color de color si se cumple un elemento dado del proceso de ester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de papel,cintas adhesivas tubos de vid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dores químicos integrados reaccio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e cumple mas de un parámetro exigido para la esteriliz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clave monitoréa  presión ,temperatura , vac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de Bowie Dick mide el vacío de la cámara es esencial para la esterilización de todos los equipos que requieren  difusión de gas o vapor es una hoja que se pone al interior de cada paquete esterilizado se somete a134 y138°c por 3,5 minutos si el vapor penetra rápido y no hay bolsas de aire al interior de la cámara se obtendrá un viraje uni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dores biológic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el mejor método de control de los procesos de esterilización está diseñado con esporas de microorg. resistentes a la esteri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por saturado –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oras de Bacilus  stearothemophi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lor seco –esporas de Bacillus subti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O          -             variedad Ní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 alto co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resultados son rápidos 3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rantizan que el proceso se cumplió a cabalidad en todas su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ép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sustancias químicas destinadas a inhibir, destruir, y disminuir los microorganismos en tejidos o pi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orios lugar donde los microorg. están vivos se multipl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dos  pacientes y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animados equipos ,soluciones,amb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iedades de un antiséptico id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o espectro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ráp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acumul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ja tox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ja inactivacion con materia org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razo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ISEPTICOS DE USO HOSPITALARI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es: actúa por desnaturalización de las proteínas excelente actividad contra  f vegetativas de bacterias Gram(+) y (-) buena acción contra bacilo tuberculoso,hongos,virus,vrs,HB,VIH.su aplicación en piel es muy segura no hay reportes de efectos adversos solo sequedad de la piel su acción va de los 15seg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ectivo para lavado de manos y desinfección de p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etílico.isopropílico propí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ciones van60 y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rporado emo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rhexid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úa por daño a la membrana celular precipitación del citoplasma de amplio espectro mejor para G(+) no tiene efecto sobre bacilo TBC débil para hongos,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a toxicidad solo si se instila al o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cción se inicia a los 15seg y tiene un efecto residual de hasta 6 hrs. su actividad no se afecta por materia orgánica 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ye su acción con aguas 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RA NORMAL O RESID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lación microbiológica estable de la piel están firmemente adheridos a la piel E.coagulasa negativa,Corynebacterium spp,Micrococ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p,en general se comportan como oportun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vinylpirrolido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idona yodada  comp. de yodo soluble en agua de efecto residual por su liberación gradual activo frente a G (+) (-) actúa por oxidación de la m.celular su actividad se prolonga  2y3 hrs.  concentración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ebe diluirse o mezclarse con otras sustancias ya que pierde su capacidad de  liberación gra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actividad disminuye en presencia de materia org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recomendable para irrigar muco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ara aplicación a grandes quemados ya que yodo se absorbe provocando daño re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CLOSAN.deriv fenólico produce daño de la pared celular de los microorg. amplio espectro se absorbe por la piel  recomendado para lavado clínico de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o de antisép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ño y desinfección de 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 a cirugías o impl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ciones  arrastre mecánico solo cuando la herida esta sé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ación de catéteres aplicar antiséptico en sitio de inserción de fleboc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fección de alto ni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AN elimina todos los microorg excepto las esporas este procedimiento se usa exclusivamente para material semi critico termo sensible por Ej. endoscopios cistoscopios laparoscop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se realiza con glutaraldehido, peroxido de hidrogeno, ac peracético,orthophthaldeh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araldehido sol acuosa es ácida un PH 2,5 para que actúe como desinfectante de alto nivel debe activarse y alcalinizar hasta un Ph de 7,5-8,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 corrosivo para gomas plásticos el proceso se realiza bajo inmersión por 20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a  limpieza rigurosa con detergente especialmente al interior de los lúm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con suero fisiológico posterior a la inm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toxico e irritante de muco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RA TRANSITOR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organismos adquiridos en el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tualmente sin multiplica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ácilmente removibles se adhieren a la piel al contacto con personas y equipos en el ambiente hospitalario S.aureus,bacilos no fermentadores,pseudomonas s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tiran de la piel por arrastre mecán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ua y jab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LAVADO DE M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RURGU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571680"/>
            <a:ext cx="77724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DO CLINICO DE MA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r los procedimientos y ocasiones a reali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s después de tocar  a los enfer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s de manejar material esté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pués de manipular flui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CIONALIDAD P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ITACION DE LA P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IMIEN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os libres de acceso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gas levan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brazo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r dispensador de jab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bonarse las manos por 30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ir espacios interdigitales,lechos ungeales,antebraz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con abundante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bón tocador o antisép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ar con toalla dese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rar llave sin contamin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391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vado quirúrgic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 jabón antiséptico de efecto resi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jar las 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ar dispensador de jab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tar ambas manos y antebrazos hasta el c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ir espacios interdigitales, lechos ungeales sin usar escobi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4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uagar ,secar con compresa esté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 invasivos,a pacientes suscep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PROCEDIMIEN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NFECCION Y ESTERILIZ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pieza:remoción de la materia orgánica en superficies ambientes y obje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eo por arrastre mecánico con agua y  deter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nfección es la destrucción de las formas vegetativas de los microorganismos en objetos inanimados se usan ag químicos agua a sobre 7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endo de la capacidad de destrucción del desinfectante de definen 3 niv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o med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9T20:53:30Z</dcterms:created>
  <dc:creator>Servicio al Cliente</dc:creator>
  <dc:description/>
  <dc:language>en-US</dc:language>
  <cp:lastModifiedBy>Ivo</cp:lastModifiedBy>
  <dcterms:modified xsi:type="dcterms:W3CDTF">2009-08-10T13:34:53Z</dcterms:modified>
  <cp:revision>13</cp:revision>
  <dc:subject/>
  <dc:title>TECNICA ASEPTICA</dc:title>
</cp:coreProperties>
</file>