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7EBB-A6BC-4A11-AC18-392F687B8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658E-3009-4D7F-A4A0-A6BFB1CCC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0867-BA6F-4C96-8FF5-DFEB06063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BD61-F43C-4031-BAF8-00C05F0DC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A1ED-6A88-4AEA-A445-58EF46704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01FF-B1A4-44D5-93A1-702558184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2620-EF5C-4419-ABAD-50B585A42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05C7-D258-4ED8-A9B2-F8463E87F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7E38-60D3-46BF-8FBA-5C1E3D23F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6E66-DFD2-4CD4-84E7-3FC4C2F2F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A045-ACD8-4D3A-BD99-EF0D29F53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5487-DEBA-4B5E-B25C-9162F6EA8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3ECDD-0624-4824-9E67-9164CCF2CCE7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CNICA ASEPT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junto de procedimientos destinados a minimizar el riesgo de contaminación microbia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erilizació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 la eliminación de toda forma de vida microbiana se logra por métodos químicos,físicos o gaseos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 racionalizar los procedimientos de esterilización según su invasividad SPAULDIG clasifico los artícul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ITICOS- SEMI CRITICOS –NO CRITIC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ff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.CRIT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lementos que acceden a cavidades normalmente estériles del organismo,esto representa el mayor riesgo de infección si se encuentran contamin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U US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SIEMPRE DEBE SER ESTER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INSTRUMENTAL QUIRURG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CCESORIOS DEL AP.VASCU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OND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.SEMI CRIT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rtículos que entran en contacto con piel no intacta o con mucos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as mucosas son en general resistentes a las esporas ,bacterias comunes pero susceptibles a las formas vegetativas de las bacterias  virus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m tuberculosis estos artículos deben estar libres de formas vegetativas idealmente estériles sino es posible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deben ser desinfectados de alto nive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99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. No crít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quellos que toman contacto con piel intac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piel sana es una barrera efectiva de protección contra las infecciones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os artículos solo requieren de limpie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99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ÉTODOS DE ESTERILIZAC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ALOR HUME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FISICOS   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UTOCLA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ALOR SE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H. PASTE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GASEOSOS E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QUIMICOS  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FORMALDEHI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LASMA   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c P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ADIACIONES IONIZA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-7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OR HUMEDO: VAPOR SATURADO A PRESION(AUTOCLAVE) ES METODO MAS USADO,EFECTIVO Y DE MENOR COSTO CONSISTE EN ELEVAR LA TEMPERATURA RAPIDO   EN PERIODOS CORTOS  2H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ES TOXIC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DEJA RESIDUOS EN EL MATERIAL NI EL AMBI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S MICROORG SON ELIMINADEA POR DESNATURALIZACIÓN DE LAS PROTEIN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75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2120" y="838080"/>
            <a:ext cx="77724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or seco: actúa por coagulación de las proteínas de los microorg. su efectividad depende difusión del cal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tidad de calor dispon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iveles de perdida de cal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 de fácil uso pero no se cuenta con evaluaciones objetivas su uso debe limitarse solo a materiales que no resisten el vap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 usa para aceites ,vaseli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xido de etileno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g químico de alto poder esterilizante se presenta liquido se volatiliza como compuesto gaseoso actúa produciendo alquilación de la pared celular del microor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Ventaja esteriliza a baja temperatura, buena penetración a artículos que tienen lúme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osee capacidad de impregnación requiere sistema de aireación que disminuya e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riesgo de exposición del personal que lo manipul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as de formaldehído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te sistema se usa para esterilizar materiales que no resisten altas temperaturas actúa a 50-60°C en presencia de vapor saturado se hace pasar formalina a distintas concentraciones 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mediante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un vaporizado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l proceso dura entre 3y5 hrs. es altamente tox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ta esterilización cuando no se cuenta con equipos e instalaciones  esta PROHIBI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SMA DE PEROXIDO DE HIDROGEN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PRODUCE USANDO PH como precursor por emisión de radiofrecuencia en un ambiente al vacío y temperatura que no excede los 50°C terminado el proceso los radicales se unen para formar vapor de agua oxigeno y otros compone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o se usa para materiales termo sensi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 de alto costo no sirve para materiales como celulosa algodón lino,dificulta su ingreso A los lúme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 seguro para el pers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412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DIMIEN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VADO DE MAN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O DE GUA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O DE MASCARIL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O DE DELAN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O DE ANTISEPTICOS  MANEJO DE MATERIAL ESTERI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diaciones ionizante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 usan dosis pre determinadas de rayos  gama o cobalto de alta complejidad requiere condiciones de seguridad e instalaciones especiales se utiliza para plásticos,gom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livinilos,tefl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 material que ha sido sometido a esterilización con radiaciones no debe ser reesterilizado por otro méto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roles de esteriliz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ITORES FIS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ICADORES QUIM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ICADORES BIOLOG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nitores fís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mentos incorporados a los equipos como termómetros manómetros de presión sensores de carga válvulas y sistemas de registro de parámetros,no son suficientes como indicadores de ca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pende de estado del equi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maño de la carg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sencia de materia orgánica en los artícul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icadores quím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st químicas que cambian de color de color si se cumple un elemento dado del proceso de esteriliz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n de papel,cintas adhesivas tubos de vid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icadores químicos integrados reaccion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ando se cumple mas de un parámetro exigido para la esterilizació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oclave monitoréa  presión ,temperatura , vací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rol de equip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st de Bowie Dick mide el vacío de la cámara es esencial para la esterilización de todos los equipos que requieren  difusión de gas o vapor es una hoja que se pone al interior de cada paquete esterilizado se somete a134 y138°c por 3,5 minutos si el vapor penetra rápido y no hay bolsas de aire al interior de la cámara se obtendrá un viraje unifor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icadores biológico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 el mejor método de control de los procesos de esterilización está diseñado con esporas de microorg. resistentes a la esteriliz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apor saturado –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poras de Bacilus  stearothemophil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alor seco –esporas de Bacillus subtil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TO          -             variedad Ní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 de alto cos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os resultados son rápidos 3h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Garantizan que el proceso se cumplió a cabalidad en todas sus etap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tisépt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o de sustancias químicas destinadas a inhibir, destruir, y disminuir los microorganismos en tejidos o pie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ervorios lugar donde los microorg. están vivos se multiplic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imados  pacientes y pers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animados equipos ,soluciones,ambien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piedades de un antiséptico ide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mplio espectro de ac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ión rápi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ión residu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fecto acumulati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ja toxic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ja inactivacion con materia orgán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o razon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TISEPTICOS DE USO HOSPITALARIO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coholes: actúa por desnaturalización de las proteínas excelente actividad contra  f vegetativas de bacterias Gram(+) y (-) buena acción contra bacilo tuberculoso,hongos,virus,vrs,HB,VIH.su aplicación en piel es muy segura no hay reportes de efectos adversos solo sequedad de la piel su acción va de los 15seg de apl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ectivo para lavado de manos y desinfección de pi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etílico.isopropílico propíl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entraciones van60 y9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orporado emolient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orhexidina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úa por daño a la membrana celular precipitación del citoplasma de amplio espectro mejor para G(+) no tiene efecto sobre bacilo TBC débil para hongos,viru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ja toxicidad solo si se instila al oí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 acción se inicia a los 15seg y tiene un efecto residual de hasta 6 hrs. su actividad no se afecta por materia orgánica o F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minuye su acción con aguas dur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ORA NORMAL O RESID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blación microbiológica estable de la piel están firmemente adheridos a la piel E.coagulasa negativa,Corynebacterium spp,Micrococc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p,en general se comportan como oportunis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lyvinylpirrolidona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vidona yodada  comp. de yodo soluble en agua de efecto residual por su liberación gradual activo frente a G (+) (-) actúa por oxidación de la m.celular su actividad se prolonga  2y3 hrs.  concentración 1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debe diluirse o mezclarse con otras sustancias ya que pierde su capacidad de  liberación grad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 actividad disminuye en presencia de materia orgán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es recomendable para irrigar mucos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 para aplicación a grandes quemados ya que yodo se absorbe provocando daño re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ICLOSAN.deriv fenólico produce daño de la pared celular de los microorg. amplio espectro se absorbe por la piel  recomendado para lavado clínico de man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o de antisépt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ño y desinfección de pi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vio a cirugías o impla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raciones  arrastre mecánico solo cuando la herida esta sépt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alación de catéteres aplicar antiséptico en sitio de inserción de fleboclis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sinfección de alto niv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DAN elimina todos los microorg excepto las esporas este procedimiento se usa exclusivamente para material semi critico termo sensible por Ej. endoscopios cistoscopios laparoscop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N se realiza con glutaraldehido, peroxido de hidrogeno, ac peracético,orthophthaldehi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utaraldehido sol acuosa es ácida un PH 2,5 para que actúe como desinfectante de alto nivel debe activarse y alcalinizar hasta un Ph de 7,5-8,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es corrosivo para gomas plásticos el proceso se realiza bajo inmersión por 20 m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via  limpieza rigurosa con detergente especialmente al interior de los lúme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juagar con suero fisiológico posterior a la inmers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 toxico e irritante de mucos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LORA TRANSITORIA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croorganismos adquiridos en el ambi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bitualmente sin multiplicars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ácilmente removibles se adhieren a la piel al contacto con personas y equipos en el ambiente hospitalario S.aureus,bacilos no fermentadores,pseudomonas sp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 retiran de la piel por arrastre mecánic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gua y jab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POS DE LAVADO DE MAN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MEST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N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IRURGU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571680"/>
            <a:ext cx="77724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VADO CLINICO DE MAN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r los procedimientos y ocasiones a realiz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tes después de tocar  a los enfer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tes de manejar material estér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pués de manipular fluid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CIONALIDAD PO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UMPLIM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RRITACION DE LA PI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CEDIMIENTO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os libres de accesori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gas levanta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tebrazos descubier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lsar dispensador de jab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bonarse las manos por 30segun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luir espacios interdigitales,lechos ungeales,antebraz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juagar con abundante agu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bón tocador o antisépt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ar con toalla desech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rrar llave sin contaminar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391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vado quirúrgico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ar jabón antiséptico de efecto resid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jar las ma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lsar dispensador de jab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tar ambas manos y antebrazos hasta el co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luir espacios interdigitales, lechos ungeales sin usar escobill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ración 4 minu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juagar ,secar con compresa estér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ed invasivos,a pacientes susceptib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POS DE PROCEDIMIENTO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INFECCION Y ESTERILIZA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mpieza:remoción de la materia orgánica en superficies ambientes y objet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eo por arrastre mecánico con agua y  deterge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infección es la destrucción de las formas vegetativas de los microorganismos en objetos inanimados se usan ag químicos agua a sobre 75°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pendiendo de la capacidad de destrucción del desinfectante de definen 3 nive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jo medio al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9T20:53:30Z</dcterms:created>
  <dc:creator>Servicio al Cliente</dc:creator>
  <dc:description/>
  <dc:language>en-US</dc:language>
  <cp:lastModifiedBy>Ivo</cp:lastModifiedBy>
  <dcterms:modified xsi:type="dcterms:W3CDTF">2009-08-10T13:34:53Z</dcterms:modified>
  <cp:revision>13</cp:revision>
  <dc:subject/>
  <dc:title>TECNICA ASEPTICA</dc:title>
</cp:coreProperties>
</file>