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084-DE89-44E0-BA76-9766D3BC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BC9-86B0-4A5F-9C08-156F297D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FBA1-CF7D-43AB-A113-6D0FE761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99BA-B4B4-491D-97CA-3817C14D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4512-B666-4C25-853F-C0D648FB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B8B2-6DF2-42AB-9118-8CF614B4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37B4-E2AB-4DAC-A538-A8DF19C8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4BE7-3F84-484B-BF70-CD1916C0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0E6E-86F8-4A6E-93ED-7D33BA47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0D9B-971E-408E-99B7-50FA664A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AD35-0629-4BE4-9146-46455AC4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0C6D-261F-4B8A-B042-D9680325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259F-AE16-4EC7-8938-EAF96DA6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B874-D923-478E-91AA-E2D59EAE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8975-C29D-4D8D-9A9E-8578E4D6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0028-1559-4683-AAFB-CCF768C1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C85E-D3EC-453D-A16D-59D8B5AB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A291-8B91-43A7-9B05-FFE5D07B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021C-767E-4B71-ADE8-CE4243BB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182-9E7F-413B-9772-A7966BC2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E46-8C0C-4349-94E7-4DBFD363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3A1-19FF-4633-BB0B-E556D06A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B12A-73B5-4BE3-AEA0-69948ECB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9BAA-A1C4-44AE-974E-E84DEA56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AC06-A70D-45CA-8788-D00A2AE535B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C7FB-B6F2-4407-A2E7-AFB5A4AE474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PREVENCION DE INFECCION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PORTAD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Animal o persona infectada, que alberga un microorganismo sin presentar síntomas clínicos de ello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TÉCNICA ASÉPTIC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Conjunto de medidas que se toman para disminuir el riesgo de contaminación microbiana durante los procedimientos de atención al pacien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PROCEDIMIENTOS QUE INCLUYE LA T.A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Lavado de Man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Uso de Barreras Mecánicas (guantes, mascarillas, delantal, antiparra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Delimitación de Áre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Uso de Antisépticos y Desinfecta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Uso de Material e Instrumental Estér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Desinfección de Alto Ni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FACTORES DE RIESGO EN LAS INFECCION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L PAC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.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cia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snutr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b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nfermos Cró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43400" y="1905120"/>
            <a:ext cx="541008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T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lor Inten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tadías prolongadas en el Hospit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tadía pre operatoria prolonga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asurado pre o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uración de la ciru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écnica Quirúrg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CADENA DE TRANSMIS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590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SERVO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ÍA TRANSM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HUÉSPED SUSCEPT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2362320"/>
            <a:ext cx="685800" cy="990360"/>
          </a:xfrm>
          <a:prstGeom prst="downArrow">
            <a:avLst>
              <a:gd name="adj1" fmla="val 50000"/>
              <a:gd name="adj2" fmla="val 3610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4114800"/>
            <a:ext cx="685800" cy="990720"/>
          </a:xfrm>
          <a:prstGeom prst="downArrow">
            <a:avLst>
              <a:gd name="adj1" fmla="val 50000"/>
              <a:gd name="adj2" fmla="val 3611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RESERVORI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NIM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ANIM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FEC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LON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ORT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QUIP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UPERF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1844640"/>
            <a:ext cx="1511280" cy="107964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4191120"/>
            <a:ext cx="1511280" cy="1079280"/>
          </a:xfrm>
          <a:prstGeom prst="rightArrow">
            <a:avLst>
              <a:gd name="adj1" fmla="val 50000"/>
              <a:gd name="adj2" fmla="val 3500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VÍA DE TRANSMIS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IM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ANIM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É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GOTI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NTA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UENTE COMÚ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CT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844640"/>
            <a:ext cx="1511280" cy="107964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4191120"/>
            <a:ext cx="1511280" cy="1079280"/>
          </a:xfrm>
          <a:prstGeom prst="rightArrow">
            <a:avLst>
              <a:gd name="adj1" fmla="val 50000"/>
              <a:gd name="adj2" fmla="val 3500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HUESPED SUSCEPTIB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NFERMEDAD DE 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MUNOSUPRE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TADO NUTRI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1484280"/>
            <a:ext cx="2232000" cy="151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PREVENCIÓN Y CONTRO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219640" y="3141720"/>
            <a:ext cx="36003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LAS II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Aumentan la morbimortali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Aumentan los costos del paciente hospitaliza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95% esta asociada a procedimientos invasiv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Se encuentran en todos los establecimie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347760"/>
            <a:ext cx="762624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CONSIDERACIONES GENERAL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PÓCRATES (460-377) utiliza agua hervida y vi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RA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ORO (1478-1823)  importancia del contacto directo en la transmisión de las inf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MMELWEISS(1818-1865)confirma lo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ISTER (1827-1912) ac.carbónico como antisép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ON BERGMANN, principio y práctica de la técnica asépt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eec94"/>
                </a:solidFill>
                <a:latin typeface="Times New Roman"/>
              </a:rPr>
              <a:t>Programa Nacional de Infecciones Intra Hospitalaria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ff"/>
                </a:solidFill>
                <a:latin typeface="Times New Roman"/>
              </a:rPr>
              <a:t>1981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eec94"/>
                </a:solidFill>
                <a:latin typeface="Times New Roman"/>
              </a:rPr>
              <a:t>IIH NOTIFICADAS</a:t>
            </a:r>
            <a:br>
              <a:rPr sz="5400"/>
            </a:br>
            <a:r>
              <a:rPr b="1" lang="es-MX" sz="5400" spc="-1" strike="noStrike">
                <a:solidFill>
                  <a:srgbClr val="feec94"/>
                </a:solidFill>
                <a:latin typeface="Times New Roman"/>
              </a:rPr>
              <a:t>43.000 anual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IIH REA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Times New Roman"/>
              </a:rPr>
              <a:t>100.0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eec94"/>
                </a:solidFill>
                <a:latin typeface="Times New Roman"/>
              </a:rPr>
              <a:t>GRÁFICO PORCENTUA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2517840"/>
          <a:ext cx="403848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7840"/>
                    <a:ext cx="40384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900000" y="1700280"/>
          <a:ext cx="7056720" cy="482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700280"/>
                    <a:ext cx="70567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OBJETIVO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Reducir los brotes epidémicos de IIH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Reducir las IIH asociadas a procedimientos invasiv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Mejorar la calidad de la informació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Prevenir infecciones en el equipo de salud (Precauciones Universale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Disminuir cos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TARE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Vigilancia Epidemiológica *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Formación del Comité de II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Estrategias de Prevención y Control de II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Acreditación de Hospit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Asesorias en Control de IIH a nivel nacional e internaciona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COMITÉ DE II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MÉDICO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(Epidemiólogo): JEFE DEL EQUI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ENFERMERA: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IGILANCIA EPIDEM.,CAPACITACIÓN, SUPERV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MICROBIÓLOG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35640" y="1916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VIGILANCIA EPIDEMIOLÓGIC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ocer la morbimortalidad de las infecciones y las tendencias en el tiemp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ocer los factores de riesg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tectar brotes epidémicos en forma precóz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portar información para establecer medidas de control y preven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valuar el impacto de las acciones de prevención y control realizad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PREVEN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SPONSABILIDAD DE TODO EL HOSP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ERSONAL EN CONOCIMIENTO DE NO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UMPLIMIENTO Y SUPERVISIÓN DE ES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ORMAS  ORIENTADAS A CADA SERV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PREVENIR INFECCIONES D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ORRENTE SANGUÍN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ÍA URIN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ERIDA OPERATO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SPIRATORIAS BAJ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NDOMET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eec94"/>
                </a:solidFill>
                <a:latin typeface="Times New Roman"/>
              </a:rPr>
              <a:t>LAVADO DE MANOS</a:t>
            </a:r>
            <a:br>
              <a:rPr sz="4800"/>
            </a:br>
            <a:r>
              <a:rPr b="1" lang="es-MX" sz="4800" spc="-1" strike="noStrike">
                <a:solidFill>
                  <a:srgbClr val="feec94"/>
                </a:solidFill>
                <a:latin typeface="Times New Roman"/>
              </a:rPr>
              <a:t>CUMPLIMIENTO DE TÉCNICA ASÉPTICA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POR TODOS LOS INTEGRANTES DEL EQUIPODE SALU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</a:rPr>
              <a:t>SIN EXCEP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LOS GERME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5791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R.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LONIZADO 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LORA ENDÓG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BARRERA CON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EPAS PATÓGE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191120"/>
            <a:ext cx="647640" cy="725400"/>
          </a:xfrm>
          <a:prstGeom prst="downArrow">
            <a:avLst>
              <a:gd name="adj1" fmla="val 50000"/>
              <a:gd name="adj2" fmla="val 2800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2286000"/>
            <a:ext cx="609480" cy="762120"/>
          </a:xfrm>
          <a:prstGeom prst="upArrow">
            <a:avLst>
              <a:gd name="adj1" fmla="val 50000"/>
              <a:gd name="adj2" fmla="val 3126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LAVADO DE MANOS CLÍNIC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 debe realizar siempre antes y después de atender a un pac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Uñas cort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nos libres de joy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razos desnu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umedecer las man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plicar jabón corriente o antisép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1828800"/>
            <a:ext cx="304812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Frotar ambas manos hasta el antebrazo, especialmente zona interdigit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njuagar con agua corr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car con toalla de pap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errar la llave con la misma toalla de pap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Times New Roman"/>
              </a:rPr>
              <a:t>LAVADO DE MANOS QUIRÚRGIC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981080"/>
            <a:ext cx="3581280" cy="43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 debe realizar antes de cualquier procedimiento invas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locarse mascaril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nos libres de joy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brir llave del agu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brir escobilla y mantenerla en la m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umeder las man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plicar antisép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1981080"/>
            <a:ext cx="3962160" cy="43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Frotar ambas manos, incluidos los antebrazos hasta el codo, pliegues interdigitales durante tres minu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scobillar solamente las uñ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Desechar escobil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njuagar con agua corr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errar la llave con el pié o el co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car con compresa estéri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MEDIDAS COMPROBADAS EN LA PREVENCION DE IIH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Aquellas donde la investigación científica y epidemiológica han demostrado su impacto en reducir infeccion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RELACIONADAS CON EL PACIENT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isminución en la estadía en el medio hospitalar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isminución Pre operato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ratamientos de focos dístales, obesidad y nutric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Niveles sanguíneos efectivos de antimicrobian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RELACIONADAS CON EL AMBIENT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Aire filtrado, recambio de aire (15 veces por hor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Quirófano con puertas cerrad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Evitar turbulencias dentro de pabell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Uso de ropa adecuad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Aseos recurren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RELACIONADAS CON LA ATENCIÓ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vado de manos clínico antes y después de atender a un paci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vado quirúrgico de manos con antiséptico previo a cualquier procedimiento invas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eparación de la piel del paciente antes de un procedimiento invas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isminución del tiempo quirúrg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liminación del rasur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RELACONADAS CON LA ATENCIÓ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écnica quirúrgica cuidado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so de campos y barreras estéri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so de mascarillas de alta eficie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renajes abocados por contravertura, circuitos cerrados y el menor tiempo po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MEDIDAS NO EFECTIVAS EN LA PREVENCIÓN DE IIH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96020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so de cubre calz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ocedimientos especiales para cirugías contaminad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so de escobillas para el lavado quirúrgico de ma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ascarillas para circular por pasillos de pabell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lfombras con desinfecta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erritos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7712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MECANISMOS DE DEFENS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I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LUJO DE LA SECRE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OVIMIENTO DE LOS CILIOS BRONQU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OTEÍNAS PLASMÁ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NTICUERPOS ESPECÍFICOS (IgG-Ig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INFECCIÓ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Entrada y desarrollo de un agente infeccioso al organism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FUENTES DE PATÓGENO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FLORA ENDÓGEN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opia del pac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olonización Hospital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ocos Distá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FLORA EXÓGEN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anos del Pers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nstrum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INFECCIÓN NOSOCOMIA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Infección adquirida en un Hospital, durante la permanencia o simple concurrencia al establecimiento, aunque la sintomatología se manifieste después del egres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INFECCIÓN CRÓNIC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Aquella que dura más de tres meses. Los agentes causantes son bacterianos, micóticos o parasitari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INMUN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Estado de resistencia frente a un microorganism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o</cp:lastModifiedBy>
  <cp:lastPrinted>2004-06-22T21:26:38Z</cp:lastPrinted>
  <dcterms:modified xsi:type="dcterms:W3CDTF">2009-08-10T13:41:16Z</dcterms:modified>
  <cp:revision>21</cp:revision>
  <dc:subject/>
  <dc:title>PowerPoint Presentation</dc:title>
</cp:coreProperties>
</file>