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7E07-A5D5-43D6-9ABE-153541C2D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5C8E-05F4-4C00-87DC-6E05B52E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7B7F-5CF0-410C-B2AD-7736A87BE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E482-0642-4714-94F0-4C6BC4731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EE79-CE84-4AD0-9FAB-621F56E6E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2B5F-C506-4A35-A105-152EA104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5F86-F195-4297-B0D0-88CC81BA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DC0C-09FD-4054-88E1-612C2DD0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3918-5163-4EA1-9352-8D1932F9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049C-B9D8-40D7-AA65-747D5452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C110-22AF-418D-901F-44649AF8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29A8-C321-4020-94DA-67D203C7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DD19-59C3-44CD-8FCC-2A4ADEE8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6283-46D7-430A-839A-B02A2C28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9D70-51DC-450B-ABB8-83495EB2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FEB0-01C3-46D0-A693-C3635451E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D596-913D-427E-B375-F68F06A73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4CE3-19FF-4A20-9BF9-E7C62A2C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FD87-A087-46BF-948A-359D4302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EA83-801E-45EE-8C3A-FBC38C0B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E20F-2098-4B84-9D8E-72530487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B489-BFCF-49DF-9E9F-0637DBF4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8EB2-5272-49A4-9543-1D30AA4C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089B-98A4-4D24-A449-B6F7AEF4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23EF-5052-4D64-B347-0B362A082267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7844-0187-489F-BEB7-A131C0A1A25B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eec94"/>
                </a:solidFill>
                <a:latin typeface="Times New Roman"/>
              </a:rPr>
              <a:t>PREVENCION DE INFECCIONE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PORTADO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Animal o persona infectada, que alberga un microorganismo sin presentar síntomas clínicos de ello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TÉCNICA ASÉPTIC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Conjunto de medidas que se toman para disminuir el riesgo de contaminación microbiana durante los procedimientos de atención al pacien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eec94"/>
                </a:solidFill>
                <a:latin typeface="Times New Roman"/>
              </a:rPr>
              <a:t>PROCEDIMIENTOS QUE INCLUYE LA T.A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Lavado de Man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Uso de Barreras Mecánicas (guantes, mascarillas, delantal, antiparra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Delimitación de Áre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Uso de Antisépticos y Desinfecta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Uso de Material e Instrumental Estéri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Desinfección de Alto Ni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eec94"/>
                </a:solidFill>
                <a:latin typeface="Times New Roman"/>
              </a:rPr>
              <a:t>FACTORES DE RIESGO EN LAS INFECCIONE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L PAC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.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ncia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snutri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be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nfermos Crón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43400" y="1905120"/>
            <a:ext cx="541008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T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alor Inten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stadías prolongadas en el Hospit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stadía pre operatoria prolonga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asurado pre o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uración de la ciru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écnica Quirúrg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CADENA DE TRANSMIS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907640" y="1628640"/>
            <a:ext cx="590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RESERVO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VÍA TRANSMIS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HUÉSPED SUSCEPT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2362320"/>
            <a:ext cx="685800" cy="990360"/>
          </a:xfrm>
          <a:prstGeom prst="downArrow">
            <a:avLst>
              <a:gd name="adj1" fmla="val 50000"/>
              <a:gd name="adj2" fmla="val 3610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52680" y="4114800"/>
            <a:ext cx="685800" cy="990720"/>
          </a:xfrm>
          <a:prstGeom prst="downArrow">
            <a:avLst>
              <a:gd name="adj1" fmla="val 50000"/>
              <a:gd name="adj2" fmla="val 3611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RESERVORI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NIM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INANIM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NFEC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LONI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ORTA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QUIP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UPERFI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16360" y="1844640"/>
            <a:ext cx="1511280" cy="107964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95480" y="4191120"/>
            <a:ext cx="1511280" cy="1079280"/>
          </a:xfrm>
          <a:prstGeom prst="rightArrow">
            <a:avLst>
              <a:gd name="adj1" fmla="val 50000"/>
              <a:gd name="adj2" fmla="val 3500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VÍA DE TRANSMIS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NIM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NANIM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ÉR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GOTI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TAC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UENTE COMÚ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CT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16360" y="1844640"/>
            <a:ext cx="1511280" cy="107964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95480" y="4191120"/>
            <a:ext cx="1511280" cy="1079280"/>
          </a:xfrm>
          <a:prstGeom prst="rightArrow">
            <a:avLst>
              <a:gd name="adj1" fmla="val 50000"/>
              <a:gd name="adj2" fmla="val 3500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HUESPED SUSCEPTIB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NFERMEDAD DE B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INMUNOSUPRES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STADO NUTRI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03640" y="1484280"/>
            <a:ext cx="2232000" cy="151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PREVENCIÓN Y CONTROL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219640" y="3141720"/>
            <a:ext cx="360036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LAS IIH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Aumentan la morbimortalida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Aumentan los costos del paciente hospitaliza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95% esta asociada a procedimientos invasiv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Se encuentran en todos los establecimien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2560" y="347760"/>
            <a:ext cx="762624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eec94"/>
                </a:solidFill>
                <a:latin typeface="Times New Roman"/>
              </a:rPr>
              <a:t>CONSIDERACIONES GENERALE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HIPÓCRATES (460-377) utiliza agua hervida y vin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RA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ORO (1478-1823)  importancia del contacto directo en la transmisión de las infec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EMMELWEISS(1818-1865)confirma lo ante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ISTER (1827-1912) ac.carbónico como antisépt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ON BERGMANN, principio y práctica de la técnica asépt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eec94"/>
                </a:solidFill>
                <a:latin typeface="Times New Roman"/>
              </a:rPr>
              <a:t>Programa Nacional de Infecciones Intra Hospitalarias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ffffff"/>
                </a:solidFill>
                <a:latin typeface="Times New Roman"/>
              </a:rPr>
              <a:t>1981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eec94"/>
                </a:solidFill>
                <a:latin typeface="Times New Roman"/>
              </a:rPr>
              <a:t>IIH NOTIFICADAS</a:t>
            </a:r>
            <a:br>
              <a:rPr sz="5400"/>
            </a:br>
            <a:r>
              <a:rPr b="1" lang="es-MX" sz="5400" spc="-1" strike="noStrike">
                <a:solidFill>
                  <a:srgbClr val="feec94"/>
                </a:solidFill>
                <a:latin typeface="Times New Roman"/>
              </a:rPr>
              <a:t>43.000 anual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IIH REA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100.0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eec94"/>
                </a:solidFill>
                <a:latin typeface="Times New Roman"/>
              </a:rPr>
              <a:t>GRÁFICO PORCENTUAL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7200" y="2517840"/>
          <a:ext cx="4038480" cy="26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17840"/>
                    <a:ext cx="403848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900000" y="1700280"/>
          <a:ext cx="7056720" cy="482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1700280"/>
                    <a:ext cx="705672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OBJETIVO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Reducir los brotes epidémicos de IIH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Reducir las IIH asociadas a procedimientos invasivo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Mejorar la calidad de la informació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Prevenir infecciones en el equipo de salud (Precauciones Universale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Disminuir cost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TARE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Vigilancia Epidemiológica *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Formación del Comité de II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Estrategias de Prevención y Control de II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Acreditación de Hospita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Asesorias en Control de IIH a nivel nacional e internacional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COMITÉ DE IIH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MÉDICO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(Epidemiólogo): JEFE DEL EQUIP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ENFERMERA: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VIGILANCIA EPIDEM.,CAPACITACIÓN, SUPERVIS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MICROBIÓLOG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35640" y="1916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eec94"/>
                </a:solidFill>
                <a:latin typeface="Times New Roman"/>
              </a:rPr>
              <a:t>VIGILANCIA EPIDEMIOLÓGICA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nocer la morbimortalidad de las infecciones y las tendencias en el tiemp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nocer los factores de riesg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etectar brotes epidémicos en forma precóz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portar información para establecer medidas de control y preven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valuar el impacto de las acciones de prevención y control realizad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PREVEN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ESPONSABILIDAD DE TODO EL HOSPI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ERSONAL EN CONOCIMIENTO DE NOR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UMPLIMIENTO Y SUPERVISIÓN DE ES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NORMAS  ORIENTADAS A CADA SERVIC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PREVENIR INFECCIONES DE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ORRENTE SANGUÍNE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ÍA URIN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HERIDA OPERATO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ESPIRATORIAS BAJ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NDOMET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eec94"/>
                </a:solidFill>
                <a:latin typeface="Times New Roman"/>
              </a:rPr>
              <a:t>LAVADO DE MANOS</a:t>
            </a:r>
            <a:br>
              <a:rPr sz="4800"/>
            </a:br>
            <a:r>
              <a:rPr b="1" lang="es-MX" sz="4800" spc="-1" strike="noStrike">
                <a:solidFill>
                  <a:srgbClr val="feec94"/>
                </a:solidFill>
                <a:latin typeface="Times New Roman"/>
              </a:rPr>
              <a:t>CUMPLIMIENTO DE TÉCNICA ASÉPTICA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320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POR TODOS LOS INTEGRANTES DEL EQUIPODE SALU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Times New Roman"/>
              </a:rPr>
              <a:t>SIN EXCEPCI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LOS GERMEN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5791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R.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LONIZADO P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FLORA ENDÓGE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BARRERA CONT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EPAS PATÓGEN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4191120"/>
            <a:ext cx="647640" cy="725400"/>
          </a:xfrm>
          <a:prstGeom prst="downArrow">
            <a:avLst>
              <a:gd name="adj1" fmla="val 50000"/>
              <a:gd name="adj2" fmla="val 2800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91120" y="2286000"/>
            <a:ext cx="609480" cy="762120"/>
          </a:xfrm>
          <a:prstGeom prst="upArrow">
            <a:avLst>
              <a:gd name="adj1" fmla="val 50000"/>
              <a:gd name="adj2" fmla="val 3126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LAVADO DE MANOS CLÍNIC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e debe realizar siempre antes y después de atender a un paci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Uñas cort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anos libres de joy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razos desnu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Humedecer las man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Aplicar jabón corriente o antisépt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1828800"/>
            <a:ext cx="3048120" cy="45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Frotar ambas manos hasta el antebrazo, especialmente zona interdigit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njuagar con agua corri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ecar con toalla de pap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errar la llave con la misma toalla de pap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Times New Roman"/>
              </a:rPr>
              <a:t>LAVADO DE MANOS QUIRÚRGIC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1981080"/>
            <a:ext cx="3581280" cy="43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e debe realizar antes de cualquier procedimiento invasiv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olocarse mascarill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anos libres de joy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Abrir llave del agu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Abrir escobilla y mantenerla en la ma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Humeder las man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Aplicar antisépt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1981080"/>
            <a:ext cx="3962160" cy="43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Frotar ambas manos, incluidos los antebrazos hasta el codo, pliegues interdigitales durante tres minu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scobillar solamente las uñ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Desechar escobill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njuagar con agua corri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errar la llave con el pié o el co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ecar con compresa estéri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eec94"/>
                </a:solidFill>
                <a:latin typeface="Times New Roman"/>
              </a:rPr>
              <a:t>MEDIDAS COMPROBADAS EN LA PREVENCION DE IIH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Aquellas donde la investigación científica y epidemiológica han demostrado su impacto en reducir infeccion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eec94"/>
                </a:solidFill>
                <a:latin typeface="Times New Roman"/>
              </a:rPr>
              <a:t>RELACIONADAS CON EL PACIENT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isminución en la estadía en el medio hospitalari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isminución Pre operator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Tratamientos de focos dístales, obesidad y nutricion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Niveles sanguíneos efectivos de antimicrobian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eec94"/>
                </a:solidFill>
                <a:latin typeface="Times New Roman"/>
              </a:rPr>
              <a:t>RELACIONADAS CON EL AMBIENT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Aire filtrado, recambio de aire (15 veces por hora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Quirófano con puertas cerrada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Evitar turbulencias dentro de pabelló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Uso de ropa adecuad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Aseos recurrent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eec94"/>
                </a:solidFill>
                <a:latin typeface="Times New Roman"/>
              </a:rPr>
              <a:t>RELACIONADAS CON LA ATENCIÓ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avado de manos clínico antes y después de atender a un paci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avado quirúrgico de manos con antiséptico previo a cualquier procedimiento invasiv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reparación de la piel del paciente antes de un procedimiento invasiv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isminución del tiempo quirúrg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liminación del rasur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eec94"/>
                </a:solidFill>
                <a:latin typeface="Times New Roman"/>
              </a:rPr>
              <a:t>RELACONADAS CON LA ATENCIÓ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7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Técnica quirúrgica cuidado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Uso de campos y barreras estéri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Uso de mascarillas de alta eficienc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renajes abocados por contravertura, circuitos cerrados y el menor tiempo po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eec94"/>
                </a:solidFill>
                <a:latin typeface="Times New Roman"/>
              </a:rPr>
              <a:t>MEDIDAS NO EFECTIVAS EN LA PREVENCIÓN DE IIH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96020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Uso de cubre calz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rocedimientos especiales para cirugías contaminad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Uso de escobillas para el lavado quirúrgico de man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ascarillas para circular por pasillos de pabell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lfombras con desinfectan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erritos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47712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MECANISMOS DE DEFENS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I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FLUJO DE LA SECRE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OVIMIENTO DE LOS CILIOS BRONQU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ROTEÍNAS PLASMÁT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NTICUERPOS ESPECÍFICOS (IgG-Ig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eec94"/>
                </a:solidFill>
                <a:latin typeface="Times New Roman"/>
              </a:rPr>
              <a:t>INFECCIÓ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Entrada y desarrollo de un agente infeccioso al organism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FUENTES DE PATÓGENO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FLORA ENDÓGENA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ropia del paci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lonización Hospital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ocos Distá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FLORA EXÓGENA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Manos del Pers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mb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nstrumen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INFECCIÓN NOSOCOMIAL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22960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Infección adquirida en un Hospital, durante la permanencia o simple concurrencia al establecimiento, aunque la sintomatología se manifieste después del egreso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INFECCIÓN CRÓNIC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Aquella que dura más de tres meses. Los agentes causantes son bacterianos, micóticos o parasitario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INMUNIDA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Estado de resistencia frente a un microorganismo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vo</cp:lastModifiedBy>
  <cp:lastPrinted>2004-06-22T21:26:38Z</cp:lastPrinted>
  <dcterms:modified xsi:type="dcterms:W3CDTF">2009-08-10T13:41:16Z</dcterms:modified>
  <cp:revision>21</cp:revision>
  <dc:subject/>
  <dc:title>PowerPoint Presentation</dc:title>
</cp:coreProperties>
</file>