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DC5-85D2-4F66-9575-AE8762A0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E19-A8C1-4F67-A935-EB32B1F7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05E-4B04-4E8E-90B0-FA6B1814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247-6E45-4B60-B85C-10CEC84B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907-D284-40B4-BB13-B44B79CF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4CC9-1269-48DF-B669-BBCB4A55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5B3D-1E32-4DDF-9E83-73642967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28EB-9091-4A4F-BE45-34C8ADB3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362B-4D92-4D6B-BEF5-D235CF43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DCB2-5EBE-491C-B10E-81A5365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6233-1953-462F-B116-82C3705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F83-38A6-4F63-ABCB-A3F1CA2B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D692-E66A-41CF-90E4-0C5C6F09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55A5-76E6-45B7-9BC3-682E701D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C263-95E0-48B8-8685-7B414CE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C4DB-B4AA-42E6-A65F-1101FB78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7ACC-E1C1-4FA5-82CC-A1105F99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CB4-F406-4932-AB22-938C2B43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678-41D2-4D26-B9CD-F6644DC9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C6F-2AC2-4226-953F-33243361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B85-1AB2-4C78-A206-5A7D53B2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605-FF61-4E05-835C-EBFFD37C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4CE-AE62-4405-BA9D-B45C4EC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E5B-825E-4BBA-88FE-49D4C383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B6B8-BC76-450D-B3F9-91258E62FD5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6BBF-468E-4E9F-8BB0-FAA93BBA78B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PREVENCION DE INFEC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ORTA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Animal o persona infectada, que alberga un microorganismo sin presentar síntomas clínicos de ell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TÉCNICA ASÉPT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Conjunto de medidas que se toman para disminuir el riesgo de contaminación microbiana durante los procedimientos de atención al pacien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PROCEDIMIENTOS QUE INCLUYE LA T.A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avado de Man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Barreras Mecánicas (guantes, mascarillas, delantal, antiparra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elimitación de Ár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Antisépticos y Desinfect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Material e Instrumental Estér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esinfección de Alto Ni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FACTORES DE RIESGO EN LAS INFEC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PA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.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ci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nutr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fermos Cró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lor Inten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días prolongadas en el Hospi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día pre operatoria prolong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asurado pre 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uración de la ciru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écnica Quirúr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CADENA DE TRANSMI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590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SERVO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ÍA TRANSM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UÉSPED SUSCEPT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362320"/>
            <a:ext cx="685800" cy="990360"/>
          </a:xfrm>
          <a:prstGeom prst="downArrow">
            <a:avLst>
              <a:gd name="adj1" fmla="val 50000"/>
              <a:gd name="adj2" fmla="val 3610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1148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SERVOR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IM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ANIM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FEC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LON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ORT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QU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UPERF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1844640"/>
            <a:ext cx="1511280" cy="107964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191120"/>
            <a:ext cx="1511280" cy="1079280"/>
          </a:xfrm>
          <a:prstGeom prst="rightArrow">
            <a:avLst>
              <a:gd name="adj1" fmla="val 50000"/>
              <a:gd name="adj2" fmla="val 350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VÍA DE TRANSMI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IM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ANIM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É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OT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A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ENTE COMÚ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1511280" cy="107964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4191120"/>
            <a:ext cx="1511280" cy="1079280"/>
          </a:xfrm>
          <a:prstGeom prst="rightArrow">
            <a:avLst>
              <a:gd name="adj1" fmla="val 50000"/>
              <a:gd name="adj2" fmla="val 350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HUESPED SUSCEPTIB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FERMEDAD DE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MUNOSUPRE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ADO NUTRI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484280"/>
            <a:ext cx="2232000" cy="151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REVENCIÓN Y CONTRO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600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LAS II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mentan la morbimortal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mentan los costos del paciente hospitaliz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95% esta asociada a procedimientos invasi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Se encuentran en todos los establecimi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347760"/>
            <a:ext cx="76262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CONSIDERACIONES GENERAL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ÓCRATES (460-377) utiliza agua hervida y vi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RA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RO (1478-1823)  importancia del contacto directo en la transmisión de las inf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MMELWEISS(1818-1865)confirma l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STER (1827-1912) ac.carbónico como antisép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ON BERGMANN, principio y práctica de la técnica asép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eec94"/>
                </a:solidFill>
                <a:latin typeface="Times New Roman"/>
              </a:rPr>
              <a:t>Programa Nacional de Infecciones Intra Hospitalaria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1981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IIH NOTIFICADAS</a:t>
            </a:r>
            <a:br>
              <a:rPr sz="5400"/>
            </a:b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43.000 anual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IIH REA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00.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GRÁFICO PORCENTU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2517840"/>
          <a:ext cx="40384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784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900000" y="1700280"/>
          <a:ext cx="7056720" cy="48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700280"/>
                    <a:ext cx="7056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OBJETIV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Reducir los brotes epidémicos de II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Reducir las IIH asociadas a procedimientos invasiv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Mejorar la calidad de la informació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Prevenir infecciones en el equipo de salud (Precauciones Universa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Disminuir cos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TARE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Vigilancia Epidemiológica *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Formación del Comité de II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strategias de Prevención y Control de II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creditación de Hospit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sesorias en Control de IIH a nivel nacional e internacion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COMITÉ DE II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MÉDICO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(Epidemiólogo): JEFE DEL EQU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NFERMERA: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IGILANCIA EPIDEM.,CAPACITACIÓN, SUPERV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MICROBIÓLO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1916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VIGILANCIA EPIDEMIOLÓG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ocer la morbimortalidad de las infecciones y las tendencias en el ti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ocer los factores de ries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tectar brotes epidémicos en forma precó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portar información para establecer medidas de control y preven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valuar el impacto de las acciones de prevención y control realiz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REVE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ONSABILIDAD DE TODO EL HOS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SONAL EN CONOCIMIENTO DE NO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MPLIMIENTO Y SUPERVISIÓN DE ES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RMAS  ORIENTADAS A CADA 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REVENIR INFECCIONES D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RRENTE SANGUÍN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ÍA UR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ERIDA OPERAT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IRATORIAS BAJ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DOMET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eec94"/>
                </a:solidFill>
                <a:latin typeface="Times New Roman"/>
              </a:rPr>
              <a:t>LAVADO DE MANOS</a:t>
            </a:r>
            <a:br>
              <a:rPr sz="4800"/>
            </a:br>
            <a:r>
              <a:rPr b="1" lang="es-MX" sz="4800" spc="-1" strike="noStrike">
                <a:solidFill>
                  <a:srgbClr val="feec94"/>
                </a:solidFill>
                <a:latin typeface="Times New Roman"/>
              </a:rPr>
              <a:t>CUMPLIMIENTO DE TÉCNICA ASÉPTIC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POR TODOS LOS INTEGRANTES DEL EQUIPODE SALU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SIN EXCEP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LOS GERM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579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R.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LONIZADO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LORA ENDÓG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ARRERA CON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EPAS PATÓGE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191120"/>
            <a:ext cx="647640" cy="725400"/>
          </a:xfrm>
          <a:prstGeom prst="downArrow">
            <a:avLst>
              <a:gd name="adj1" fmla="val 50000"/>
              <a:gd name="adj2" fmla="val 2800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228600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LAVADO DE MANOS CLÍN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realizar siempre antes y después de atender a un pac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Uñas cor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nos libres de joy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razos desnu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ecer las ma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plicar jabón corriente o antisép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828800"/>
            <a:ext cx="304812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Frotar ambas manos hasta el antebrazo, especialmente zona interdigi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juagar con agua corr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car con toalla de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errar la llave con la misma toalla de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LAVADO DE MANOS QUIRÚRG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358128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realizar antes de cualquier procedimiento invas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ocarse mascari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nos libres de joy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brir llave del agu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brir escobilla y mantenerla en la 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er las ma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plicar antisép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981080"/>
            <a:ext cx="396216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Frotar ambas manos, incluidos los antebrazos hasta el codo, pliegues interdigitales durante tres min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cobillar solamente las uñ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echar escobi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juagar con agua corr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errar la llave con el pié o el c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car con compresa estér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MEDIDAS COMPROBADAS EN LA PREVENCION DE IIH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quellas donde la investigación científica y epidemiológica han demostrado su impacto en reducir infeccion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IONADAS CON EL PACIENT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sminución en la estadía en el medio hospitala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sminución Pre operato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ratamientos de focos dístales, obesidad y nutri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iveles sanguíneos efectivos de antimicrobia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IONADAS CON EL AMBIENT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ire filtrado, recambio de aire (15 veces por hor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Quirófano con puertas cerr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Evitar turbulencias dentro de pabell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ropa adecua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seos recurren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IONADAS CON LA ATENCIÓ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vado de manos clínico antes y después de atender a un paci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vado quirúrgico de manos con antiséptico previo a cualquier procedimiento invas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paración de la piel del paciente antes de un procedimiento invas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sminución del tiempo quirúrg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iminación del rasu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ONADAS CON LA ATENCIÓ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écnica quirúrgica cuidad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campos y barreras estér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mascarillas de alta efici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renajes abocados por contravertura, circuitos cerrados y el menor tiempo po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MEDIDAS NO EFECTIVAS EN LA PREVENCIÓN DE IIH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9602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cubre calz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dimientos especiales para cirugías contamin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escobillas para el lavado quirúrgico de ma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scarillas para circular por pasillos de pabell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fombras con desinfecta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erritos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MECANISMOS DE DEFEN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I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LUJO DE LA SECRE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OVIMIENTO DE LOS CILIOS BRONQU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TEÍNAS PLASMÁ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TICUERPOS ESPECÍFICOS (IgG-Ig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INFECCIÓ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ntrada y desarrollo de un agente infeccioso al organis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ENTES DE PATÓGEN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FLORA ENDÓGEN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pia del pac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lonización Hospital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ocos Distá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FLORA EXÓGEN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nos del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INFECCIÓN NOSOCOMI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Infección adquirida en un Hospital, durante la permanencia o simple concurrencia al establecimiento, aunque la sintomatología se manifieste después del egres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INFECCIÓN CRÓN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quella que dura más de tres meses. Los agentes causantes son bacterianos, micóticos o parasitari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INMUN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Estado de resistencia frente a un microorganism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o</cp:lastModifiedBy>
  <cp:lastPrinted>2004-06-22T21:26:38Z</cp:lastPrinted>
  <dcterms:modified xsi:type="dcterms:W3CDTF">2009-08-10T13:41:16Z</dcterms:modified>
  <cp:revision>21</cp:revision>
  <dc:subject/>
  <dc:title>PowerPoint Presentation</dc:title>
</cp:coreProperties>
</file>