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552-5462-42B6-AA41-18D6565A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0D6-450D-4EE8-B328-122F7099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22C1-4B8A-4812-B78E-1B5CB559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319-5C91-41C7-AC1D-30C48901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7144-712D-40D5-93EF-4044D6C8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36D1-162E-479E-B0C9-3CDE99C3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C43F-154C-4F12-A213-656CC277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AE69-A178-4950-9625-3293941C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078F-5148-4A3F-8C6C-98CEC80A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D69B-5029-4365-A400-087B8B8E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1A0C-A32C-41D7-8A71-2970FB73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94F-B012-45D3-84F1-7E0E3B04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7D6B-8142-4101-9840-8F41DAB3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870D-0CDA-4743-A1E1-EBD48D2B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C044-09C5-4EC7-B2B6-D9923905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D156-58C6-4896-88F8-FE9AE2B5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9885-3B2E-4158-9D0A-68D4A4CE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9A6-8AA5-4FD4-91DC-62E30913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D7A-29EA-4614-92B6-47B2F177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E07-8604-4123-9354-61266FA5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130-0C04-4146-8815-6AE65A86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54C2-CA05-4609-8CAC-4537A7D2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4CD-214D-495B-AAF4-839F17A8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AAAA-02B0-427E-8D3E-7BB8DF38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DD3B-C4B3-4C45-AE8F-2FECED94C6AA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651E-75A8-4F3D-9700-B83E2016A96D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276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Asepsia, antisepsia y Esteri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609480"/>
          <a:ext cx="21333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21333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ahoma"/>
              </a:rPr>
              <a:t>Programa Nacional de Infecciones Intra Hospitalaria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Tahoma"/>
              </a:rPr>
              <a:t>1981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ahoma"/>
              </a:rPr>
              <a:t>OBJE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6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Reducir los brotes epidémicos de II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Reducir las IIH asociadas a procedimientos invasiv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Mejorar la calidad de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Prevenir infecciones en el equipo de salud (Precauciones Universal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Disminuir cos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Tahoma"/>
              </a:rPr>
              <a:t>Asepsia: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 son todas las maniobras y/o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   procedimientos  que debemos utilizar para evitar que los gérmenes se encuentren  en el ambiente, instrumental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               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- Asepsia méd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- Asepsia quirúr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Tahoma"/>
              </a:rPr>
              <a:t>Antisepsia:</a:t>
            </a:r>
            <a:r>
              <a:rPr b="1" lang="es-CL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es el conjunto de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       procedimientos destinados a combatir microorganismos de tejidos viv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e4a8"/>
              </a:buClr>
              <a:buSzPct val="50000"/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Limpie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e4a8"/>
              </a:buClr>
              <a:buSzPct val="50000"/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Desinfección- Descontamin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e4a8"/>
              </a:buClr>
              <a:buSzPct val="50000"/>
              <a:buFont typeface="Tahom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Esteril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Desinf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2800" spc="-1" strike="noStrike">
                <a:solidFill>
                  <a:srgbClr val="0033cc"/>
                </a:solidFill>
                <a:latin typeface="Tahoma"/>
              </a:rPr>
              <a:t>La desinfección en la práctica clínica 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33cc"/>
                </a:solidFill>
                <a:latin typeface="Tahoma"/>
              </a:rPr>
              <a:t>la primera herramienta en la lucha contra la transmisión de infecciones</a:t>
            </a: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es-CL" sz="2800" spc="-1" strike="noStrike">
                <a:solidFill>
                  <a:srgbClr val="0033cc"/>
                </a:solidFill>
                <a:latin typeface="Tahoma"/>
              </a:rPr>
              <a:t>La limpieza previa  debe ser realizada de tal forma que garantice el resultado del proces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Desinfecta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ahoma"/>
              </a:rPr>
              <a:t>Se definen a los </a:t>
            </a: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antisépticos</a:t>
            </a:r>
            <a:r>
              <a:rPr b="0" lang="es-CL" sz="3200" spc="-1" strike="noStrike">
                <a:solidFill>
                  <a:srgbClr val="0033cc"/>
                </a:solidFill>
                <a:latin typeface="Tahoma"/>
              </a:rPr>
              <a:t> como aquellos productos químicos que destruyen o inhiben el crecimiento de microorganismos sobre la piel o el tejido, frente a los </a:t>
            </a: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desinfectantes</a:t>
            </a:r>
            <a:r>
              <a:rPr b="0" lang="es-CL" sz="3200" spc="-1" strike="noStrike">
                <a:solidFill>
                  <a:srgbClr val="0033cc"/>
                </a:solidFill>
                <a:latin typeface="Tahoma"/>
              </a:rPr>
              <a:t> que son los utilizados sobre objetos inanimados o superficies</a:t>
            </a: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Desinfecta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Los principales mecanismos de acción de los antisépticos y de los desinfectantes s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la desnaturalización de proteí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alteraciones de la membrana celular (permeabilidad, alteraciones enzimática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ahoma"/>
              </a:rPr>
              <a:t>la oxidación celula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ahoma"/>
              </a:rPr>
              <a:t>ESTERILIZAC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259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Proceso que lleva a la destrucción de toda forma de vida microbiana, incluyendo las espo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Objetivo:  Prevenir  Infe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552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ahoma"/>
              </a:rPr>
              <a:t>METODOS DE ESTERILIZAC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33cc"/>
                </a:solidFill>
                <a:uFillTx/>
                <a:latin typeface="Tahoma"/>
              </a:rPr>
              <a:t>FIS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- CALOR HUME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- CALOR SE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33cc"/>
                </a:solidFill>
                <a:uFillTx/>
                <a:latin typeface="Tahoma"/>
              </a:rPr>
              <a:t>QUIM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- GAS OXIDO DE ETILE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- VAPOR DE FORMALDEH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0033cc"/>
                </a:solidFill>
                <a:latin typeface="Tahoma"/>
              </a:rPr>
              <a:t>- ACIDO PERACETICO LIQU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2544840"/>
            <a:ext cx="381456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Tahoma"/>
              </a:rPr>
              <a:t>TÉCNICA ASÉPTICA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27280" y="944640"/>
            <a:ext cx="4716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cc"/>
                </a:solidFill>
                <a:latin typeface="Tahoma"/>
              </a:rPr>
              <a:t>CONJUNTO DE MEDIDAS QUE SE TOMAN PARA DISMINUIR EL RIESGO DE</a:t>
            </a:r>
            <a:r>
              <a:rPr b="0" lang="es-MX" sz="32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0033cc"/>
                </a:solidFill>
                <a:latin typeface="Tahoma"/>
              </a:rPr>
              <a:t>CONTAMINACIÓN DURANTE LOS PROCEDIMIENTOS DE ATENCIÓN AL PA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EQUIPO DE SALUD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ÓPTIMA  ATEN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ADECUADA Y  PRONTA  RECUPERACION DEL PAC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2214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2214720"/>
            <a:ext cx="720720" cy="1214280"/>
          </a:xfrm>
          <a:custGeom>
            <a:avLst/>
            <a:gdLst>
              <a:gd name="textAreaLeft" fmla="*/ 96480 w 720720"/>
              <a:gd name="textAreaRight" fmla="*/ 624240 w 7207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0680" y="3809880"/>
            <a:ext cx="114300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Tahoma"/>
              </a:rPr>
              <a:t>PROCEDIMIENTOS QUE INCLUYE LA T.A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Lavado de M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Uso de Barreras Mecánicas (guantes, mascarillas, delantal, antiparr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Delimitación de Á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Uso de Antisépticos y Desinfect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Uso de Material e Instrumental Estér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Tahoma"/>
              </a:rPr>
              <a:t>Respetar las Técnicas de Aisl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Valorar la Integridad de la Pi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ahoma"/>
              </a:rPr>
              <a:t>LAVADO DE MANOS CLÍN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Se debe realizar siempre antes y después de atender a un pac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Uñas cor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Manos libres de joy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Brazos desnu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Humedecer las ma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Aplicar jabón corriente o antisép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1828800"/>
            <a:ext cx="3048120" cy="52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Frotar ambas manos hasta el antebrazo, especialmente zona interdig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Enjuagar con agua corr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Secar con toalla de pap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</a:rPr>
              <a:t>Cerrar la llave con la misma toalla de pap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ahoma"/>
              </a:rPr>
              <a:t>LAVADO DE MANOS QUIRÚRG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981080"/>
            <a:ext cx="3581280" cy="43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e debe realizar antes de cualquier procedimiento invas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olocarse mascar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Manos libres de joy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brir llave del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brir escobilla y mantenerla en la 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Humeder las 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plicar antisép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1981080"/>
            <a:ext cx="3962160" cy="53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Frotar ambas manos, incluidos los antebrazos hasta el codo, pliegues interdigitales durante tres min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scobillar solamente las uñ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echar escob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njuagar con agua corr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errar la llave con el pié o el c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ecar con compresa estér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Tahoma"/>
              </a:rPr>
              <a:t>LAVADO DE MANOS</a:t>
            </a:r>
            <a:br>
              <a:rPr sz="4000"/>
            </a:br>
            <a:r>
              <a:rPr b="1" lang="es-MX" sz="4000" spc="-1" strike="noStrike">
                <a:solidFill>
                  <a:srgbClr val="ff3300"/>
                </a:solidFill>
                <a:latin typeface="Tahoma"/>
              </a:rPr>
              <a:t>CUMPLIMIENTO DE TÉCNICA ASÉPTI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cc"/>
                </a:solidFill>
                <a:latin typeface="Tahoma"/>
              </a:rPr>
              <a:t>POR TODOS LOS INTEGRANTES DEL EQUIPO DE SALU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6600"/>
                </a:solidFill>
                <a:latin typeface="Tahoma"/>
              </a:rPr>
              <a:t>SIN EXCEPCIO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Otras definicione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501640"/>
            <a:ext cx="77724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Tahoma"/>
              </a:rPr>
              <a:t>Patógenos: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microorganismos capaces de producir enferme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00"/>
                </a:solidFill>
                <a:latin typeface="Tahoma"/>
              </a:rPr>
              <a:t>No patógenos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microorganismos que no producen enfermedad bajo condiciones normales del huésped y del ambien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Otras defini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502000"/>
            <a:ext cx="77724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ahoma"/>
              </a:rPr>
              <a:t>Esporas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bacterias encapsuladas para 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protegerse de un medio adverso. Son de estructura redondas u ovaladas muy resistentes y díficil de destru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ahoma"/>
              </a:rPr>
              <a:t>Ésteril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es un término absoluto que 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significa libre de todo microrganismo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3300"/>
                </a:solidFill>
                <a:latin typeface="Tahoma"/>
              </a:rPr>
              <a:t>INF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cc"/>
                </a:solidFill>
                <a:latin typeface="Tahoma"/>
              </a:rPr>
              <a:t>Entrada y desarrollo de un agente infeccioso al organism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ahoma"/>
              </a:rPr>
              <a:t>INFECCION INTRAHOSPITALA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          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Infección adquirida en un hospital   durante la permanencia en el establecimiento aúnque la sintomatología se manifieste despues del egre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ahoma"/>
              </a:rPr>
              <a:t>Cadena de Inf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                  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PROTE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PACIENTE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EQUIPO DE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  SALU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3429000"/>
            <a:ext cx="1657440" cy="172872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Tahoma"/>
              </a:rPr>
              <a:t>Magnitud del problema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Según bibliografía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Entre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1,5% y 3%</a:t>
            </a: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 de pacientes con infección intrahospitalaria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mueren</a:t>
            </a: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 por ésta causa, y en un número similar , contribuyen a la muerte sin ser causa directa de és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En Chile, entre </a:t>
            </a: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1.500 y 6.000</a:t>
            </a: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 personas fallecen al año por ésta cau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3300"/>
                </a:solidFill>
                <a:latin typeface="Tahoma"/>
              </a:rPr>
              <a:t>LAS II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30508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Aumentan la morbimort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Aumentan los costos del paciente hospitaliz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95% esta asociada a procedimientos invas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Tahoma"/>
              </a:rPr>
              <a:t>Se encuentran en todos los establecimien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3300"/>
                </a:solidFill>
                <a:latin typeface="Tahoma"/>
              </a:rPr>
              <a:t>FUENTES DE PATÓGEN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ff"/>
                </a:solidFill>
                <a:latin typeface="Tahoma"/>
              </a:rPr>
              <a:t>FLORA ENDÓGENA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ropia del pac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olonización Hospital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Focos Distá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ff"/>
                </a:solidFill>
                <a:latin typeface="Tahoma"/>
              </a:rPr>
              <a:t>FLORA EXÓGENA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Manos del Pers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Instru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Tahoma"/>
              </a:rPr>
              <a:t>PREVENIR INFECCIONES DE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TORRENTE SANGUÍN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VÍA URIN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HERIDA OPE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RESPIRATORIAS BAJ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Tahoma"/>
              </a:rPr>
              <a:t>ENDOMET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22:11:22Z</dcterms:created>
  <dc:creator>Zanetta Benguria</dc:creator>
  <dc:description/>
  <dc:language>en-US</dc:language>
  <cp:lastModifiedBy>Ivo</cp:lastModifiedBy>
  <dcterms:modified xsi:type="dcterms:W3CDTF">2008-06-02T16:59:38Z</dcterms:modified>
  <cp:revision>71</cp:revision>
  <dc:subject/>
  <dc:title>Asepsia  y antisepsia</dc:title>
</cp:coreProperties>
</file>