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3E6-5AAA-475C-B212-15FD401E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3F3-FA44-4927-B4E5-3EA726C6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329-7593-4093-88E8-F3F67A32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B28-FFA2-4A28-8AE0-96FB01EA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FDB5-AB50-4729-AF0B-6FFDE433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6345-5F16-4F62-9ED5-5EA99A56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FFBE-7AEB-42B0-A657-6427E728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B00B-3ED3-4071-A3C5-EDD40A7C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BB76-F95C-493C-A710-07B43BFD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66B5-79EF-4706-849E-A3A45E28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6883-BD93-42FD-8A70-FFAF067F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652-4D01-41EF-B528-A889EA4C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E954-3D9A-4F04-93DD-2135D17A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DCFD-E121-4D9D-929A-91A6FF71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EAE7-E213-43D7-B382-C554E002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6EFA-A478-4277-ABD3-C8A55FA1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0605-90EF-42AB-B40E-7C0C4A3D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B17-12DD-4464-80CD-351613AD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61D-906C-4DA1-A2C6-4A2DC75C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2E3-865A-4396-B1A5-BF900CC6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0EE-EE06-491C-9370-3AED0491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DA3-AD2D-4D74-BA81-45F335E6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F93-42F0-4D80-80A0-E70119F2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BE2-E907-439E-9EAC-D863B823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9711-A827-4F6F-957D-2DB345F64C4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F9E6-6FE8-4DE3-B9AC-3D0CD1B994E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Asepsia, antisepsia y Esteri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609480"/>
          <a:ext cx="21333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1333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ahoma"/>
              </a:rPr>
              <a:t>Programa Nacional de Infecciones Intra Hospitalari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Tahoma"/>
              </a:rPr>
              <a:t>1981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Reducir los brotes epidémicos de II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Reducir las IIH asociadas a procedimientos invasiv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Mejorar la calidad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Prevenir infecciones en el equipo de salud (Precauciones Universa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Disminuir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Asepsia: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son todas las maniobras y/o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procedimientos  que debemos utilizar para evitar que los gérmenes se encuentren  en el ambiente, instrumental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- Asepsia mé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- Asepsia quirúr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Antisepsia:</a:t>
            </a: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es el conjunto de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    procedimientos destinados a combatir microorganismos de tejidos viv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Limpi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Desinfección- Des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Esteri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Desinf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La desinfección en la práctica clínica 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la primera herramienta en la lucha contra la transmisión de infecciones</a:t>
            </a: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La limpieza previa  debe ser realizada de tal forma que garantice el resultado del proces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Desinfecta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ahoma"/>
              </a:rPr>
              <a:t>Se definen a los </a:t>
            </a: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antisépticos</a:t>
            </a:r>
            <a:r>
              <a:rPr b="0" lang="es-CL" sz="3200" spc="-1" strike="noStrike">
                <a:solidFill>
                  <a:srgbClr val="0033cc"/>
                </a:solidFill>
                <a:latin typeface="Tahoma"/>
              </a:rPr>
              <a:t> como aquellos productos químicos que destruyen o inhiben el crecimiento de microorganismos sobre la piel o el tejido, frente a los </a:t>
            </a: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desinfectantes</a:t>
            </a:r>
            <a:r>
              <a:rPr b="0" lang="es-CL" sz="3200" spc="-1" strike="noStrike">
                <a:solidFill>
                  <a:srgbClr val="0033cc"/>
                </a:solidFill>
                <a:latin typeface="Tahoma"/>
              </a:rPr>
              <a:t> que son los utilizados sobre objetos inanimados o superficies</a:t>
            </a: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Desinfecta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Los principales mecanismos de acción de los antisépticos y de los desinfectantes s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la desnaturalización de proteí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alteraciones de la membrana celular (permeabilidad, alteraciones enzimática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la oxidación celula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ahoma"/>
              </a:rPr>
              <a:t>ESTERILIZAC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259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Proceso que lleva a la destrucción de toda forma de vida microbiana, incluyendo las espo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Objetivo:  Prevenir  Infe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552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ahoma"/>
              </a:rPr>
              <a:t>METODOS DE ESTERILIZAC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Tahoma"/>
              </a:rPr>
              <a:t>FIS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CALOR HUME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CALOR SE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Tahoma"/>
              </a:rPr>
              <a:t>QUIM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GAS OXIDO DE ETILE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VAPOR DE FORMALDEH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ACIDO PERACETICO LIQU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2544840"/>
            <a:ext cx="381456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Tahoma"/>
              </a:rPr>
              <a:t>TÉCNICA ASÉPTIC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7280" y="944640"/>
            <a:ext cx="4716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cc"/>
                </a:solidFill>
                <a:latin typeface="Tahoma"/>
              </a:rPr>
              <a:t>CONJUNTO DE MEDIDAS QUE SE TOMAN PARA DISMINUIR EL RIESGO DE</a:t>
            </a: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cc"/>
                </a:solidFill>
                <a:latin typeface="Tahoma"/>
              </a:rPr>
              <a:t>CONTAMINACIÓN DURANTE LOS PROCEDIMIENTOS DE ATENCIÓN AL PA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EQUIPO DE SALUD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ÓPTIMA  ATEN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DECUADA Y  PRONTA  RECUPERACION DEL PAC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214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2214720"/>
            <a:ext cx="720720" cy="1214280"/>
          </a:xfrm>
          <a:custGeom>
            <a:avLst/>
            <a:gdLst>
              <a:gd name="textAreaLeft" fmla="*/ 96480 w 720720"/>
              <a:gd name="textAreaRight" fmla="*/ 624240 w 7207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0680" y="3809880"/>
            <a:ext cx="114300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PROCEDIMIENTOS QUE INCLUYE LA T.A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Lavado de 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Uso de Barreras Mecánicas (guantes, mascarillas, delantal, antiparr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Delimitación de Á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Uso de Antisépticos y Desinfec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Uso de Material e Instrumental Estér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Respetar las Técnicas de Aisl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Valorar la Integridad de la Pi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ahoma"/>
              </a:rPr>
              <a:t>LAVADO DE MANOS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Se debe realizar siempre antes y después de atender a un pa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Uñas cor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Manos libres de joy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Brazos desnu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Humedecer las ma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Aplicar jabón corriente o antisép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1828800"/>
            <a:ext cx="3048120" cy="52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Frotar ambas manos hasta el antebrazo, especialmente zona inter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Enjuagar con agua corr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Secar con toalla de pa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Cerrar la llave con la misma toalla de pa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ahoma"/>
              </a:rPr>
              <a:t>LAVADO DE MANOS QUIRÚRG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81080"/>
            <a:ext cx="358128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 debe realizar antes de cualquier procedimiento inva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olocarse mascar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Manos libres de joy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brir llave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brir escobilla y mantenerla en la 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Humeder las 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plicar antisép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981080"/>
            <a:ext cx="3962160" cy="53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Frotar ambas manos, incluidos los antebrazos hasta el codo, pliegues interdigitales durante tres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scobillar solamente las uñ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echar escob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njuagar con agua corr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errar la llave con el pié o el c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car con compresa estér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LAVADO DE MANOS</a:t>
            </a:r>
            <a:br>
              <a:rPr sz="4000"/>
            </a:b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CUMPLIMIENTO DE TÉCNICA ASÉPTI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POR TODOS LOS INTEGRANTES DEL EQUIPO DE SAL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6600"/>
                </a:solidFill>
                <a:latin typeface="Tahoma"/>
              </a:rPr>
              <a:t>SIN EXCEPCIO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Otras definicion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Patógenos: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icroorganismos capaces de producir enferme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No patógenos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icroorganismos que no producen enfermedad bajo condiciones normales del huésped y del ambien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Otras defini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502000"/>
            <a:ext cx="77724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ahoma"/>
              </a:rPr>
              <a:t>Esporas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bacterias encapsuladas para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protegerse de un medio adverso. Son de estructura redondas u ovaladas muy resistentes y díficil de destru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ahoma"/>
              </a:rPr>
              <a:t>Ésteril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es un término absoluto que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significa libre de todo microrganismo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00"/>
                </a:solidFill>
                <a:latin typeface="Tahoma"/>
              </a:rPr>
              <a:t>INF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cc"/>
                </a:solidFill>
                <a:latin typeface="Tahoma"/>
              </a:rPr>
              <a:t>Entrada y desarrollo de un agente infeccioso al organism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ahoma"/>
              </a:rPr>
              <a:t>INFECCION INTRAHOSPITAL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Infección adquirida en un hospital   durante la permanencia en el establecimiento aúnque la sintomatología se manifieste despues del egre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Cadena de Inf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                 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ROTE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ACIENTE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QUIPO D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  SAL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3429000"/>
            <a:ext cx="1657440" cy="172872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Tahoma"/>
              </a:rPr>
              <a:t>Magnitud del problema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Según bibliografí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ntre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1,5% y 3%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de pacientes con infección intrahospitalaria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mueren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por ésta causa, y en un número similar , contribuyen a la muerte sin ser causa directa de és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n Chile, entre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1.500 y 6.000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personas fallecen al año por ésta cau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00"/>
                </a:solidFill>
                <a:latin typeface="Tahoma"/>
              </a:rPr>
              <a:t>LAS I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30508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Aumentan la morbimort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Aumentan los costos del paciente hospitaliz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95% esta asociada a procedimientos invas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Se encuentran en todos los establecimi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00"/>
                </a:solidFill>
                <a:latin typeface="Tahoma"/>
              </a:rPr>
              <a:t>FUENTES DE PATÓGEN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Tahoma"/>
              </a:rPr>
              <a:t>FLORA ENDÓGENA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pia del pa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olonización Hospital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Focos Distá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Tahoma"/>
              </a:rPr>
              <a:t>FLORA EXÓGENA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Manos del Pers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PREVENIR INFECCIONES DE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TORRENTE SANGUÍ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VÍA URIN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HERIDA OPE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RESPIRATORIAS BAJ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ENDOMET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22:11:22Z</dcterms:created>
  <dc:creator>Zanetta Benguria</dc:creator>
  <dc:description/>
  <dc:language>en-US</dc:language>
  <cp:lastModifiedBy>Ivo</cp:lastModifiedBy>
  <dcterms:modified xsi:type="dcterms:W3CDTF">2008-06-02T16:59:38Z</dcterms:modified>
  <cp:revision>71</cp:revision>
  <dc:subject/>
  <dc:title>Asepsia  y antisepsia</dc:title>
</cp:coreProperties>
</file>