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D2E2-5ACF-49D0-8EA1-EAB00B7A1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B379-9FE5-4E20-A009-397EC3DE5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9395-37DA-4318-9E57-D84C80CC9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8478-607D-448B-938B-DCE2265AD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A757F-912C-434B-AA9A-27966F247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0A915-0B8D-46C8-BEAC-F3A834116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97858-3FD6-4675-8D4A-0C3A7684A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0EE60-DECC-4B2B-950D-FC144279C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882AF-45B8-431E-93F6-44CB8D8E0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E46FA-3747-4EF0-AC70-66B519ED2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A98D0-8FBE-4D39-87D1-1D745A1D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19D3-4D82-4952-B951-1955D3495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50CC0-F5D3-4E66-BB46-255B577D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A7AD6-DBB0-4DA3-BF59-4146F980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E9D7A-200A-4135-971A-7BAB6E9B4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45E70-0D60-43E2-BC4C-B27358D0C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FD0CC-3985-4FA8-997C-DF36B6D71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6866-AC43-4617-9D63-CDCD5EE7A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8308-4284-44F1-96DC-6F7C5E3B7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7DF1-22D5-4333-BAB2-319CFFE58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FEFD-6ABB-4B45-8092-A3DC5F1EF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6936-FCB1-4A94-B130-2BD62868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998C-2429-44E4-90E6-A3FAEB88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C9DE-B424-4C98-9E92-7F96CC73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CE090-545E-4140-956E-BE0A99596D6E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62CA7-52E0-4C99-AA82-AC35031D1179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3276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0000"/>
                </a:solidFill>
                <a:latin typeface="Tahoma"/>
              </a:rPr>
              <a:t>Asepsia, antisepsia y Esteri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04920" y="609480"/>
          <a:ext cx="2133360" cy="24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09480"/>
                    <a:ext cx="213336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ahoma"/>
              </a:rPr>
              <a:t>Programa Nacional de Infecciones Intra Hospitalaria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0" spc="-1" strike="noStrike">
                <a:solidFill>
                  <a:srgbClr val="000000"/>
                </a:solidFill>
                <a:latin typeface="Tahoma"/>
              </a:rPr>
              <a:t>1981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Tahoma"/>
              </a:rPr>
              <a:t>OBJE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229600" cy="46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cc"/>
                </a:solidFill>
                <a:latin typeface="Tahoma"/>
              </a:rPr>
              <a:t>Reducir los brotes epidémicos de II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cc"/>
                </a:solidFill>
                <a:latin typeface="Tahoma"/>
              </a:rPr>
              <a:t>Reducir las IIH asociadas a procedimientos invasiv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cc"/>
                </a:solidFill>
                <a:latin typeface="Tahoma"/>
              </a:rPr>
              <a:t>Mejorar la calidad de la inform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cc"/>
                </a:solidFill>
                <a:latin typeface="Tahoma"/>
              </a:rPr>
              <a:t>Prevenir infecciones en el equipo de salud (Precauciones Universal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cc"/>
                </a:solidFill>
                <a:latin typeface="Tahoma"/>
              </a:rPr>
              <a:t>Disminuir cos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0000"/>
                </a:solidFill>
                <a:latin typeface="Tahoma"/>
              </a:rPr>
              <a:t>Conceptos básic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00"/>
                </a:solidFill>
                <a:latin typeface="Tahoma"/>
              </a:rPr>
              <a:t>Asepsia:</a:t>
            </a:r>
            <a:r>
              <a:rPr b="1" lang="es-CL" sz="3200" spc="-1" strike="noStrike">
                <a:solidFill>
                  <a:srgbClr val="3333cc"/>
                </a:solidFill>
                <a:latin typeface="Tahoma"/>
              </a:rPr>
              <a:t> son todas las maniobras y/o </a:t>
            </a:r>
            <a:r>
              <a:rPr b="1" lang="es-CL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s-CL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s-CL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s-CL" sz="3200" spc="-1" strike="noStrike">
                <a:solidFill>
                  <a:srgbClr val="3333cc"/>
                </a:solidFill>
                <a:latin typeface="Tahoma"/>
              </a:rPr>
              <a:t>   procedimientos  que debemos utilizar para evitar que los gérmenes se encuentren  en el ambiente, instrumental 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Tahoma"/>
              </a:rPr>
              <a:t>                </a:t>
            </a:r>
            <a:r>
              <a:rPr b="1" lang="es-CL" sz="3200" spc="-1" strike="noStrike">
                <a:solidFill>
                  <a:srgbClr val="3333cc"/>
                </a:solidFill>
                <a:latin typeface="Tahoma"/>
              </a:rPr>
              <a:t>- Asepsia méd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s-CL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s-CL" sz="3200" spc="-1" strike="noStrike">
                <a:solidFill>
                  <a:srgbClr val="3333cc"/>
                </a:solidFill>
                <a:latin typeface="Tahoma"/>
              </a:rPr>
              <a:t>        </a:t>
            </a:r>
            <a:r>
              <a:rPr b="1" lang="es-CL" sz="3200" spc="-1" strike="noStrike">
                <a:solidFill>
                  <a:srgbClr val="3333cc"/>
                </a:solidFill>
                <a:latin typeface="Tahoma"/>
              </a:rPr>
              <a:t>- Asepsia quirúrg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0000"/>
                </a:solidFill>
                <a:latin typeface="Tahoma"/>
              </a:rPr>
              <a:t>Conceptos básic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00"/>
                </a:solidFill>
                <a:latin typeface="Tahoma"/>
              </a:rPr>
              <a:t>Antisepsia:</a:t>
            </a:r>
            <a:r>
              <a:rPr b="1" lang="es-CL" sz="32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</a:t>
            </a:r>
            <a:r>
              <a:rPr b="1" lang="es-CL" sz="3200" spc="-1" strike="noStrike">
                <a:solidFill>
                  <a:srgbClr val="3333cc"/>
                </a:solidFill>
                <a:latin typeface="Tahoma"/>
              </a:rPr>
              <a:t>es el conjunto de </a:t>
            </a:r>
            <a:r>
              <a:rPr b="1" lang="es-CL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s-CL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s-CL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s-CL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s-CL" sz="3200" spc="-1" strike="noStrike">
                <a:solidFill>
                  <a:srgbClr val="3333cc"/>
                </a:solidFill>
                <a:latin typeface="Tahoma"/>
              </a:rPr>
              <a:t>       procedimientos destinados a combatir microorganismos de tejidos viv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e4a8"/>
              </a:buClr>
              <a:buSzPct val="50000"/>
              <a:buFont typeface="Tahoma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Tahoma"/>
              </a:rPr>
              <a:t>Limpiez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e4a8"/>
              </a:buClr>
              <a:buSzPct val="50000"/>
              <a:buFont typeface="Tahoma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Tahoma"/>
              </a:rPr>
              <a:t>Desinfección- Descontamin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e4a8"/>
              </a:buClr>
              <a:buSzPct val="50000"/>
              <a:buFont typeface="Tahoma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Tahoma"/>
              </a:rPr>
              <a:t>Esteriliz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0000"/>
                </a:solidFill>
                <a:latin typeface="Tahoma"/>
              </a:rPr>
              <a:t>Desinfe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CL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s-CL" sz="2800" spc="-1" strike="noStrike">
                <a:solidFill>
                  <a:srgbClr val="0033cc"/>
                </a:solidFill>
                <a:latin typeface="Tahoma"/>
              </a:rPr>
              <a:t>La desinfección en la práctica clínica 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1" lang="es-CL" sz="2800" spc="-1" strike="noStrike">
                <a:solidFill>
                  <a:srgbClr val="0033cc"/>
                </a:solidFill>
                <a:latin typeface="Tahoma"/>
              </a:rPr>
              <a:t>la primera herramienta en la lucha contra la transmisión de infecciones</a:t>
            </a:r>
            <a:r>
              <a:rPr b="1" lang="es-MX" sz="28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cc"/>
                </a:solidFill>
                <a:latin typeface="Tahoma"/>
              </a:rPr>
              <a:t>    </a:t>
            </a:r>
            <a:r>
              <a:rPr b="1" lang="es-CL" sz="2800" spc="-1" strike="noStrike">
                <a:solidFill>
                  <a:srgbClr val="0033cc"/>
                </a:solidFill>
                <a:latin typeface="Tahoma"/>
              </a:rPr>
              <a:t>La limpieza previa  debe ser realizada de tal forma que garantice el resultado del proceso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0000"/>
                </a:solidFill>
                <a:latin typeface="Tahoma"/>
              </a:rPr>
              <a:t>Desinfecta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ahoma"/>
              </a:rPr>
              <a:t>Se definen a los </a:t>
            </a:r>
            <a:r>
              <a:rPr b="1" lang="es-CL" sz="3200" spc="-1" strike="noStrike">
                <a:solidFill>
                  <a:srgbClr val="0033cc"/>
                </a:solidFill>
                <a:latin typeface="Tahoma"/>
              </a:rPr>
              <a:t>antisépticos</a:t>
            </a:r>
            <a:r>
              <a:rPr b="0" lang="es-CL" sz="3200" spc="-1" strike="noStrike">
                <a:solidFill>
                  <a:srgbClr val="0033cc"/>
                </a:solidFill>
                <a:latin typeface="Tahoma"/>
              </a:rPr>
              <a:t> como aquellos productos químicos que destruyen o inhiben el crecimiento de microorganismos sobre la piel o el tejido, frente a los </a:t>
            </a:r>
            <a:r>
              <a:rPr b="1" lang="es-CL" sz="3200" spc="-1" strike="noStrike">
                <a:solidFill>
                  <a:srgbClr val="0033cc"/>
                </a:solidFill>
                <a:latin typeface="Tahoma"/>
              </a:rPr>
              <a:t>desinfectantes</a:t>
            </a:r>
            <a:r>
              <a:rPr b="0" lang="es-CL" sz="3200" spc="-1" strike="noStrike">
                <a:solidFill>
                  <a:srgbClr val="0033cc"/>
                </a:solidFill>
                <a:latin typeface="Tahoma"/>
              </a:rPr>
              <a:t> que son los utilizados sobre objetos inanimados o superficies</a:t>
            </a: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0000"/>
                </a:solidFill>
                <a:latin typeface="Tahoma"/>
              </a:rPr>
              <a:t>Desinfecta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33cc"/>
                </a:solidFill>
                <a:latin typeface="Tahoma"/>
              </a:rPr>
              <a:t>Los principales mecanismos de acción de los antisépticos y de los desinfectantes s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es-CL" sz="3200" spc="-1" strike="noStrike">
                <a:solidFill>
                  <a:srgbClr val="0033cc"/>
                </a:solidFill>
                <a:latin typeface="Tahoma"/>
              </a:rPr>
              <a:t>la desnaturalización de proteín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33cc"/>
                </a:solidFill>
                <a:latin typeface="Tahoma"/>
              </a:rPr>
              <a:t>alteraciones de la membrana celular (permeabilidad, alteraciones enzimáticas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33cc"/>
                </a:solidFill>
                <a:latin typeface="Tahoma"/>
              </a:rPr>
              <a:t>la oxidación celular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ahoma"/>
              </a:rPr>
              <a:t>ESTERILIZAC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2590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Tahoma"/>
              </a:rPr>
              <a:t>Proceso que lleva a la destrucción de toda forma de vida microbiana, incluyendo las espor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Tahoma"/>
              </a:rPr>
              <a:t>Objetivo:  Prevenir  Infec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5520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Tahoma"/>
              </a:rPr>
              <a:t>METODOS DE ESTERILIZAC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2057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33cc"/>
                </a:solidFill>
                <a:uFillTx/>
                <a:latin typeface="Tahoma"/>
              </a:rPr>
              <a:t>FISIC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cc"/>
                </a:solidFill>
                <a:latin typeface="Tahoma"/>
              </a:rPr>
              <a:t>           </a:t>
            </a:r>
            <a:r>
              <a:rPr b="0" lang="es-ES_tradnl" sz="2800" spc="-1" strike="noStrike">
                <a:solidFill>
                  <a:srgbClr val="0033cc"/>
                </a:solidFill>
                <a:latin typeface="Tahoma"/>
              </a:rPr>
              <a:t>- CALOR HUME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cc"/>
                </a:solidFill>
                <a:latin typeface="Tahoma"/>
              </a:rPr>
              <a:t>           </a:t>
            </a:r>
            <a:r>
              <a:rPr b="0" lang="es-ES_tradnl" sz="2800" spc="-1" strike="noStrike">
                <a:solidFill>
                  <a:srgbClr val="0033cc"/>
                </a:solidFill>
                <a:latin typeface="Tahoma"/>
              </a:rPr>
              <a:t>- CALOR SE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33cc"/>
                </a:solidFill>
                <a:uFillTx/>
                <a:latin typeface="Tahoma"/>
              </a:rPr>
              <a:t>QUIMIC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cc"/>
                </a:solidFill>
                <a:latin typeface="Tahoma"/>
              </a:rPr>
              <a:t>           </a:t>
            </a:r>
            <a:r>
              <a:rPr b="0" lang="es-ES_tradnl" sz="2800" spc="-1" strike="noStrike">
                <a:solidFill>
                  <a:srgbClr val="0033cc"/>
                </a:solidFill>
                <a:latin typeface="Tahoma"/>
              </a:rPr>
              <a:t>- GAS OXIDO DE ETILEN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cc"/>
                </a:solidFill>
                <a:latin typeface="Tahoma"/>
              </a:rPr>
              <a:t>           </a:t>
            </a:r>
            <a:r>
              <a:rPr b="0" lang="es-ES_tradnl" sz="2800" spc="-1" strike="noStrike">
                <a:solidFill>
                  <a:srgbClr val="0033cc"/>
                </a:solidFill>
                <a:latin typeface="Tahoma"/>
              </a:rPr>
              <a:t>- VAPOR DE FORMALDEHI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cc"/>
                </a:solidFill>
                <a:latin typeface="Tahoma"/>
              </a:rPr>
              <a:t>           </a:t>
            </a:r>
            <a:r>
              <a:rPr b="0" lang="es-ES_tradnl" sz="2800" spc="-1" strike="noStrike">
                <a:solidFill>
                  <a:srgbClr val="0033cc"/>
                </a:solidFill>
                <a:latin typeface="Tahoma"/>
              </a:rPr>
              <a:t>- ACIDO PERACETICO LIQUI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33520" y="2544840"/>
            <a:ext cx="381456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0000"/>
                </a:solidFill>
                <a:latin typeface="Tahoma"/>
              </a:rPr>
              <a:t>TÉCNICA ASÉPTICA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427280" y="944640"/>
            <a:ext cx="47163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cc"/>
                </a:solidFill>
                <a:latin typeface="Tahoma"/>
              </a:rPr>
              <a:t>CONJUNTO DE MEDIDAS QUE SE TOMAN PARA DISMINUIR EL RIESGO DE</a:t>
            </a: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0033cc"/>
                </a:solidFill>
                <a:latin typeface="Tahoma"/>
              </a:rPr>
              <a:t>CONTAMINACIÓN DURANTE LOS PROCEDIMIENTOS DE ATENCIÓN AL PAC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0000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1" lang="es-CL" sz="2800" spc="-1" strike="noStrike">
                <a:solidFill>
                  <a:srgbClr val="3333cc"/>
                </a:solidFill>
                <a:latin typeface="Tahoma"/>
              </a:rPr>
              <a:t>EQUIPO DE SALUD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1" lang="es-CL" sz="2800" spc="-1" strike="noStrike">
                <a:solidFill>
                  <a:srgbClr val="3333cc"/>
                </a:solidFill>
                <a:latin typeface="Tahoma"/>
              </a:rPr>
              <a:t>ÓPTIMA  ATEN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Tahoma"/>
              </a:rPr>
              <a:t>     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ADECUADA Y  PRONTA  RECUPERACION DEL PACI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22147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05720" y="2214720"/>
            <a:ext cx="720720" cy="1214280"/>
          </a:xfrm>
          <a:custGeom>
            <a:avLst/>
            <a:gdLst>
              <a:gd name="textAreaLeft" fmla="*/ 96480 w 720720"/>
              <a:gd name="textAreaRight" fmla="*/ 624240 w 7207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00680" y="3809880"/>
            <a:ext cx="1143000" cy="762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3300"/>
                </a:solidFill>
                <a:latin typeface="Tahoma"/>
              </a:rPr>
              <a:t>PROCEDIMIENTOS QUE INCLUYE LA T.A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cc"/>
                </a:solidFill>
                <a:latin typeface="Tahoma"/>
              </a:rPr>
              <a:t>Lavado de Man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cc"/>
                </a:solidFill>
                <a:latin typeface="Tahoma"/>
              </a:rPr>
              <a:t>Uso de Barreras Mecánicas (guantes, mascarillas, delantal, antiparra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cc"/>
                </a:solidFill>
                <a:latin typeface="Tahoma"/>
              </a:rPr>
              <a:t>Delimitación de Á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cc"/>
                </a:solidFill>
                <a:latin typeface="Tahoma"/>
              </a:rPr>
              <a:t>Uso de Antisépticos y Desinfectan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cc"/>
                </a:solidFill>
                <a:latin typeface="Tahoma"/>
              </a:rPr>
              <a:t>Uso de Material e Instrumental Estér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cc"/>
                </a:solidFill>
                <a:latin typeface="Tahoma"/>
              </a:rPr>
              <a:t>Respetar las Técnicas de Aislamie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cc"/>
                </a:solidFill>
                <a:latin typeface="Tahoma"/>
              </a:rPr>
              <a:t>Valorar la Integridad de la Pi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Tahoma"/>
              </a:rPr>
              <a:t>LAVADO DE MANOS CLÍN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ahoma"/>
              </a:rPr>
              <a:t>Se debe realizar siempre antes y después de atender a un paci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ahoma"/>
              </a:rPr>
              <a:t>Uñas cort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ahoma"/>
              </a:rPr>
              <a:t>Manos libres de joy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ahoma"/>
              </a:rPr>
              <a:t>Brazos desnu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ahoma"/>
              </a:rPr>
              <a:t>Humedecer las man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ahoma"/>
              </a:rPr>
              <a:t>Aplicar jabón corriente o antisépti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5029200" y="1828800"/>
            <a:ext cx="3048120" cy="52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ahoma"/>
              </a:rPr>
              <a:t>Frotar ambas manos hasta el antebrazo, especialmente zona interdig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ahoma"/>
              </a:rPr>
              <a:t>Enjuagar con agua corr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ahoma"/>
              </a:rPr>
              <a:t>Secar con toalla de pap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ahoma"/>
              </a:rPr>
              <a:t>Cerrar la llave con la misma toalla de pap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0000"/>
                </a:solidFill>
                <a:latin typeface="Tahoma"/>
              </a:rPr>
              <a:t>LAVADO DE MANOS QUIRÚRG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1981080"/>
            <a:ext cx="3581280" cy="43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Se debe realizar antes de cualquier procedimiento invas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Colocarse mascar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Manos libres de joy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Abrir llave del agu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Abrir escobilla y mantenerla en la ma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Humeder las ma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Aplicar antisépt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876920" y="1981080"/>
            <a:ext cx="3962160" cy="53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Frotar ambas manos, incluidos los antebrazos hasta el codo, pliegues interdigitales durante tres minu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Escobillar solamente las uñ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Desechar escob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Enjuagar con agua corr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Cerrar la llave con el pié o el co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Secar con compresa estér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1052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3300"/>
                </a:solidFill>
                <a:latin typeface="Tahoma"/>
              </a:rPr>
              <a:t>LAVADO DE MANOS</a:t>
            </a:r>
            <a:br>
              <a:rPr sz="4000"/>
            </a:br>
            <a:r>
              <a:rPr b="1" lang="es-MX" sz="4000" spc="-1" strike="noStrike">
                <a:solidFill>
                  <a:srgbClr val="ff3300"/>
                </a:solidFill>
                <a:latin typeface="Tahoma"/>
              </a:rPr>
              <a:t>CUMPLIMIENTO DE TÉCNICA ASÉPTIC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320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33cc"/>
                </a:solidFill>
                <a:latin typeface="Tahoma"/>
              </a:rPr>
              <a:t>POR TODOS LOS INTEGRANTES DEL EQUIPO DE SALU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6600"/>
                </a:solidFill>
                <a:latin typeface="Tahoma"/>
              </a:rPr>
              <a:t>SIN EXCEPCIO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0000"/>
                </a:solidFill>
                <a:latin typeface="Tahoma"/>
              </a:rPr>
              <a:t>Otras definiciones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501640"/>
            <a:ext cx="7772400" cy="36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00"/>
                </a:solidFill>
                <a:latin typeface="Tahoma"/>
              </a:rPr>
              <a:t>Patógenos:</a:t>
            </a: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3333cc"/>
                </a:solidFill>
                <a:latin typeface="Tahoma"/>
              </a:rPr>
              <a:t>microorganismos capaces de producir enfermeda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00"/>
                </a:solidFill>
                <a:latin typeface="Tahoma"/>
              </a:rPr>
              <a:t>No patógenos</a:t>
            </a: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s-CL" sz="3200" spc="-1" strike="noStrike">
                <a:solidFill>
                  <a:srgbClr val="3333cc"/>
                </a:solidFill>
                <a:latin typeface="Tahoma"/>
              </a:rPr>
              <a:t>microorganismos que no producen enfermedad bajo condiciones normales del huésped y del ambien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0000"/>
                </a:solidFill>
                <a:latin typeface="Tahoma"/>
              </a:rPr>
              <a:t>Otras defini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502000"/>
            <a:ext cx="77724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Tahoma"/>
              </a:rPr>
              <a:t>Esporas: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3333cc"/>
                </a:solidFill>
                <a:latin typeface="Tahoma"/>
              </a:rPr>
              <a:t>bacterias encapsuladas para </a:t>
            </a:r>
            <a:r>
              <a:rPr b="0" lang="es-CL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CL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CL" sz="2800" spc="-1" strike="noStrike">
                <a:solidFill>
                  <a:srgbClr val="3333cc"/>
                </a:solidFill>
                <a:latin typeface="Tahoma"/>
              </a:rPr>
              <a:t>protegerse de un medio adverso. Son de estructura redondas u ovaladas muy resistentes y díficil de destru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Tahoma"/>
              </a:rPr>
              <a:t>Ésteril</a:t>
            </a:r>
            <a:r>
              <a:rPr b="0" i="1" lang="es-CL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3333cc"/>
                </a:solidFill>
                <a:latin typeface="Tahoma"/>
              </a:rPr>
              <a:t>es un término absoluto que </a:t>
            </a:r>
            <a:r>
              <a:rPr b="0" lang="es-CL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CL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CL" sz="2800" spc="-1" strike="noStrike">
                <a:solidFill>
                  <a:srgbClr val="3333cc"/>
                </a:solidFill>
                <a:latin typeface="Tahoma"/>
              </a:rPr>
              <a:t>significa libre de todo microrganismo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3300"/>
                </a:solidFill>
                <a:latin typeface="Tahoma"/>
              </a:rPr>
              <a:t>INFE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33cc"/>
                </a:solidFill>
                <a:latin typeface="Tahoma"/>
              </a:rPr>
              <a:t>Entrada y desarrollo de un agente infeccioso al organismo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Tahoma"/>
              </a:rPr>
              <a:t>INFECCION INTRAHOSPITALAR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772400" cy="35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ahoma"/>
              </a:rPr>
              <a:t>           </a:t>
            </a:r>
            <a:r>
              <a:rPr b="1" lang="es-CL" sz="3200" spc="-1" strike="noStrike">
                <a:solidFill>
                  <a:srgbClr val="3333cc"/>
                </a:solidFill>
                <a:latin typeface="Tahoma"/>
              </a:rPr>
              <a:t>Infección adquirida en un hospital   durante la permanencia en el establecimiento aúnque la sintomatología se manifieste despues del egres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0000"/>
                </a:solidFill>
                <a:latin typeface="Tahoma"/>
              </a:rPr>
              <a:t>Cadena de Infe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cc"/>
                </a:solidFill>
                <a:latin typeface="Tahoma"/>
              </a:rPr>
              <a:t>                  </a:t>
            </a:r>
            <a:r>
              <a:rPr b="0" lang="es-CL" sz="28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CL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CL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CL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PROTEC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PACIENTE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                                                      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EQUIPO DE 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  SALU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4343400" y="3429000"/>
            <a:ext cx="1657440" cy="1728720"/>
          </a:xfrm>
          <a:custGeom>
            <a:avLst/>
            <a:gdLst>
              <a:gd name="textAreaLeft" fmla="*/ 0 w 1657440"/>
              <a:gd name="textAreaRight" fmla="*/ 1657800 w 1657440"/>
              <a:gd name="textAreaTop" fmla="*/ 0 h 1728720"/>
              <a:gd name="textAreaBottom" fmla="*/ 1729080 h 172872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0000"/>
                </a:solidFill>
                <a:latin typeface="Tahoma"/>
              </a:rPr>
              <a:t>Magnitud del problema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ahoma"/>
              </a:rPr>
              <a:t>Según bibliografía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ahoma"/>
              </a:rPr>
              <a:t>Entre </a:t>
            </a:r>
            <a:r>
              <a:rPr b="1" lang="es-CL" sz="3200" spc="-1" strike="noStrike">
                <a:solidFill>
                  <a:srgbClr val="3333cc"/>
                </a:solidFill>
                <a:latin typeface="Tahoma"/>
              </a:rPr>
              <a:t>1,5% y 3%</a:t>
            </a:r>
            <a:r>
              <a:rPr b="0" lang="es-CL" sz="3200" spc="-1" strike="noStrike">
                <a:solidFill>
                  <a:srgbClr val="3333cc"/>
                </a:solidFill>
                <a:latin typeface="Tahoma"/>
              </a:rPr>
              <a:t> de pacientes con infección intrahospitalaria </a:t>
            </a:r>
            <a:r>
              <a:rPr b="1" lang="es-CL" sz="3200" spc="-1" strike="noStrike">
                <a:solidFill>
                  <a:srgbClr val="3333cc"/>
                </a:solidFill>
                <a:latin typeface="Tahoma"/>
              </a:rPr>
              <a:t>mueren</a:t>
            </a:r>
            <a:r>
              <a:rPr b="0" lang="es-CL" sz="3200" spc="-1" strike="noStrike">
                <a:solidFill>
                  <a:srgbClr val="3333cc"/>
                </a:solidFill>
                <a:latin typeface="Tahoma"/>
              </a:rPr>
              <a:t> por ésta causa, y en un número similar , contribuyen a la muerte sin ser causa directa de ést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ahoma"/>
              </a:rPr>
              <a:t>En Chile, entre </a:t>
            </a:r>
            <a:r>
              <a:rPr b="1" lang="es-CL" sz="3200" spc="-1" strike="noStrike">
                <a:solidFill>
                  <a:srgbClr val="3333cc"/>
                </a:solidFill>
                <a:latin typeface="Tahoma"/>
              </a:rPr>
              <a:t>1.500 y 6.000</a:t>
            </a:r>
            <a:r>
              <a:rPr b="0" lang="es-CL" sz="3200" spc="-1" strike="noStrike">
                <a:solidFill>
                  <a:srgbClr val="3333cc"/>
                </a:solidFill>
                <a:latin typeface="Tahoma"/>
              </a:rPr>
              <a:t> personas fallecen al año por ésta caus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3300"/>
                </a:solidFill>
                <a:latin typeface="Tahoma"/>
              </a:rPr>
              <a:t>LAS II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30508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cc"/>
                </a:solidFill>
                <a:latin typeface="Tahoma"/>
              </a:rPr>
              <a:t>Aumentan la morbimortal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cc"/>
                </a:solidFill>
                <a:latin typeface="Tahoma"/>
              </a:rPr>
              <a:t>Aumentan los costos del paciente hospitalizad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cc"/>
                </a:solidFill>
                <a:latin typeface="Tahoma"/>
              </a:rPr>
              <a:t>95% esta asociada a procedimientos invasiv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cc"/>
                </a:solidFill>
                <a:latin typeface="Tahoma"/>
              </a:rPr>
              <a:t>Se encuentran en todos los establecimien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3300"/>
                </a:solidFill>
                <a:latin typeface="Tahoma"/>
              </a:rPr>
              <a:t>FUENTES DE PATÓGEN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66ff"/>
                </a:solidFill>
                <a:latin typeface="Tahoma"/>
              </a:rPr>
              <a:t>FLORA ENDÓGENA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Propia del paci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Colonización Hospitalar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Focos Distá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66ff"/>
                </a:solidFill>
                <a:latin typeface="Tahoma"/>
              </a:rPr>
              <a:t>FLORA EXÓGENA</a:t>
            </a: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Manos del Pers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Ambi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Instru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3300"/>
                </a:solidFill>
                <a:latin typeface="Tahoma"/>
              </a:rPr>
              <a:t>PREVENIR INFECCIONES DE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cc"/>
                </a:solidFill>
                <a:latin typeface="Tahoma"/>
              </a:rPr>
              <a:t>TORRENTE SANGUÍN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cc"/>
                </a:solidFill>
                <a:latin typeface="Tahoma"/>
              </a:rPr>
              <a:t>VÍA URINA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cc"/>
                </a:solidFill>
                <a:latin typeface="Tahoma"/>
              </a:rPr>
              <a:t>HERIDA OPERATO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cc"/>
                </a:solidFill>
                <a:latin typeface="Tahoma"/>
              </a:rPr>
              <a:t>RESPIRATORIAS BAJ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cc"/>
                </a:solidFill>
                <a:latin typeface="Tahoma"/>
              </a:rPr>
              <a:t>ENDOMETR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0T22:11:22Z</dcterms:created>
  <dc:creator>Zanetta Benguria</dc:creator>
  <dc:description/>
  <dc:language>en-US</dc:language>
  <cp:lastModifiedBy>Ivo</cp:lastModifiedBy>
  <dcterms:modified xsi:type="dcterms:W3CDTF">2008-06-02T16:59:38Z</dcterms:modified>
  <cp:revision>71</cp:revision>
  <dc:subject/>
  <dc:title>Asepsia  y antisepsia</dc:title>
</cp:coreProperties>
</file>