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5.png" ContentType="image/png"/>
  <Override PartName="/ppt/media/image24.jpeg" ContentType="image/jpeg"/>
  <Override PartName="/ppt/media/image9.wmf" ContentType="image/x-wmf"/>
  <Override PartName="/ppt/media/image14.png" ContentType="image/png"/>
  <Override PartName="/ppt/media/image25.jpeg" ContentType="image/jpeg"/>
  <Override PartName="/ppt/media/image10.wmf" ContentType="image/x-wmf"/>
  <Override PartName="/ppt/media/image31.jpeg" ContentType="image/jpeg"/>
  <Override PartName="/ppt/media/image30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4DA-7C59-4914-8A67-26B2E710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2EE-96E3-4AB0-A867-0BAADF4C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DEB-BD66-4D13-BF5A-8F688556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302-B20E-4EE3-9DB0-0B942A78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5488-4297-4144-9F75-9C51B8E3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EB35-3D56-44E0-A10D-9B79DC0B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5A66-46C1-422B-997E-B88D4A1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C987-5159-41E1-A675-0BCD1FF0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5AFB-DDB4-41B6-924C-5C286822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4096-CF5A-4115-8430-20FEBFA5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95BA-E025-4B35-B48A-7963F775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5C4-76CC-422B-B2E0-DB71DDBF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BD43-270C-4077-A8A5-43FA1024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E919-3F3D-45AA-810E-BC90497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3EAD-0CF1-4B2E-810B-1C3D91B2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71EE-9FAF-4CB7-9ADC-FCC8A0D7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9365-6039-4764-B4B9-01E347FF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0BB8EF-C60B-4261-A7B7-7652C658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177BC-5AAD-4A45-9312-B202E186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2F286C-6917-4144-82C3-14FC1B92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C4DA0-4EAE-4130-8D9C-BAFDA9CC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6D5C5-9463-49FA-BB4D-1905B640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976-F441-4B3F-83EB-9EB87924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DE1CF-A8B3-4732-84F4-0CB13B79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99AD1-332E-4001-AFA8-63E9A103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0DF51A-F3C5-4706-AA21-75606057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684C3-91AA-46B7-A745-E87FFF0B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9F76C-EB00-4753-A49A-7BB4D9F1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26E52-5AA4-4FF7-A775-22355A20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2C8B3-F643-4559-813E-D2E18A1B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2561-5C53-4E6F-93AE-18DCB90F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69EE3-9287-46D0-ADB9-C47C98F4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DC0B2-555A-4CE1-85C0-45892742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7C4-EDAB-4F92-B479-E136EC17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0CB18-688F-4ACB-9BD7-A06D900C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79746-45CC-4E64-957E-5CDF9469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7C1C-9898-4CE8-9A86-3DBF776A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2667-D30B-4025-B3A5-33C1A3A5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826C4-DF87-47CD-BCDE-C79923D9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3212-CDE5-488A-897D-020D7DD9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AB848-3E22-4F3D-BF19-CF585A20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6432F-FF88-452E-A211-95AF3A06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AC30-2566-43E4-856C-933F6EB4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A9D-79F6-470C-83B2-5A2472A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202-7D7E-4829-A4FA-31A3374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03F-CCFA-4966-BEF4-23C37DCE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E0D-E49E-4D88-A628-4658265E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BE3-651B-4314-983D-A5107BD7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7299-34A8-49A0-AF6D-98C17028B76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448F-CF54-44FA-8450-73BFF28274A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83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42D1-9096-4DBB-B943-C73EE96F091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4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F0E7-7AAF-47C3-B02E-92BC845032D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yodibujo.es/_uploads/_tiny_galerie/200810/teo-momia-es-source_k2l.jpg&amp;imgrefurl=http://www.yodibujo.es/c_9867/colorear/fiestas-dibujos-para-colorear/dibujos-de-halloween-para-colorear-y-pintar/dibujos-de-ana-teo-y-matias-para-halloween/dibujo-de-momia-para-halloween&amp;usg=__H7hFpRB6R_2ONgsEya4a0cp868c=&amp;h=1060&amp;w=820&amp;sz=173&amp;hl=es&amp;start=87&amp;tbnid=eEiIyo2SUGAscM:&amp;tbnh=150&amp;tbnw=116&amp;prev=/images%3Fq%3Dmomia%26gbv%3D2%26ndsp%3D20%26hl%3Des%26sa%3DN%26start%3D80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ISLAMIENTOS, USO DE DELANTAL, MASCARILLA Y LAVADO DE MAN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1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56f"/>
                </a:solidFill>
                <a:latin typeface="Tahoma"/>
              </a:rPr>
              <a:t>MIRELLA SANHUEZA H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56f"/>
                </a:solidFill>
                <a:latin typeface="Tahoma"/>
              </a:rPr>
              <a:t>ENFERMER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cación de guan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2638440" cy="197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2950920" cy="204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2808360" cy="2284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7" name="" descr=""/>
          <p:cNvPicPr/>
          <p:nvPr/>
        </p:nvPicPr>
        <p:blipFill>
          <a:blip r:embed="rId5"/>
          <a:stretch/>
        </p:blipFill>
        <p:spPr>
          <a:xfrm>
            <a:off x="5508720" y="4076640"/>
            <a:ext cx="266544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2521080" cy="189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266400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2664000" cy="199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5292720" y="3860640"/>
            <a:ext cx="2665440" cy="20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3765600" cy="432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ipos de vendaj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133720"/>
            <a:ext cx="27241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finición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NDA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    Procedimiento de enfermería que consiste en la aplicación de una venda en una zona del cuerpo. Según la finalidad, existen distintos tipos y tamaños de vendas, y distintas técnicas de aplicación de las mis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TIPOS DE VEND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ras de distintos materiales según función,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iversas anchuras (5cm, 10cm, 15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gún la zona anatómica a vendar. Según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 de material pueden clasificarse 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1) De algodón: para proteger piel y prominencias óse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2) Elástica: de crepê o 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3) Tubular: cilínd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4) Adhesiva: elástico semibla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5) De Yeso: ríg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643280" y="4149720"/>
            <a:ext cx="4392720" cy="224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ENDAJE SEGÚN FUN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sujeción o protector: para aplicación de calor en procesos reumáticos, para proteger una zona anatómica de agentes externos, para fijar apósitos, férulas, etc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compresión: para realizar hemostasia en heridas, para favorecer el retorno venoso en patología vascular, para disminuir edema e inflamación en procesos traumátic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movilizador: para limitar el movimiento de articulaciones traumátic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UELTA DE VENDA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emplea principalmente para remarcar vendajes y vendar partes anatómicas cilíndricas. Cada vuelta de venda cubre por completo la vuelta anterior, por lo que el ancho de vendaje corresponde al ancho de la propia venda. Su función: protectora o de suje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pir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emplea para vendar partes del cuerpo con el mismo perímetro. Cada vuelta de la venda cubre la mitad o dos tercios de la vuelta anterior, y se realiza ascendente con un ángulo de 30º aproximadamente. Su función: de protección o compres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piral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 emplea para vendar partes del cuerpo cilíndricas con perímetro no uniforme. Vuelta ascendente en espiral, que a mitad de cada vuelta la venda se dobla sobre sí misma y se hace descendente mediante la sujeción de la misma con el dedo pulgar, se completa la vuelta por la parte posterior y se comienza la siguiente. Actualmente se encuentra en des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pig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emplea para vendar partes del cuerpo cilíndricas con perímetro no uniforme. Cada vuelta de la venda cubre la mitad o dos tercios de la vuelta anterior, se comienza la vuelta en sentido ascendente 30º pasando la venda por la parte posterior y volviendo en sentido descendente 30º. Su función: compresiva, sólo en la vuelta ascendente se realiza compre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current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utiliza para cubrir partes distales del cuerpo. Comienza con dos vueltas circulares en la zona proximal, a continuación se dobla perpendicularmente para cubrir la zona distal de anterior a posterior, cada vuelta se sigue de una circular proximal para fijarla y cubre parte de la anterior. Su función: protectora, de sujeción o de compre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och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emplea para vendar articulaciones. Comienza con dos vueltas circulares por debajo de la articulación, a continuación se da una vuelta ascendente anterior hasta por encima de la articulación y se continua descendente posterior (en forma de 8) hasta la vuelta anterior cubriendo la mitad o dos tercios de la misma. Su función: protectora, de sujeción o de compre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UELTA DE VENDA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Es el conjunto de procedimientos que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mite la separación de pacientes infectad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 los huéspedes susceptibles, durante 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íodo de transmisibilidad de la enfermedad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en lugares y condiciones tales que permit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cortar la cadena de transmisión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infecciones de acuerdo a la ví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transmisión de los patógenos involucrad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825480" y="1919160"/>
            <a:ext cx="7459560" cy="409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TIPOS DE VUELTA DE VENDA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PRINCIPIOS GENERALES DE LA APLICACIÓN DE LOS VENDAJ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152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tipo de vendaje ha de ser adecuado a la fin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spesor y número de vueltas del vendaje serán iguales en toda su extens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vendaje tiene que resultar indoloro y cómodo, y permitir la movilidad de las partes anatómicas no afectad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egurar la retirada de joyas y objetos que interfieran en el vendaje, o puedan producir presión en el miembro afecta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ger los espacios interdigitales, para evitar lesiones por macer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cionar el material para el vendaje y tamaño de venda adecuado a la zona a vend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car al usuario en posición cómoda manteniendo la parte que va a ser vendada alineada con el cuer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carse delante del usuario para comenzar el vendaj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r el vendaje siempre de la zona más distal a la más proxim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da vuelta debe cubrir la mitad o dos tercios de la anteri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licar una presión uniforme y decreciente, sin restringir la circulación. Dejar al descubierto el extremo distal para valorar el estado neurovascul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539640" y="1438200"/>
            <a:ext cx="7417080" cy="995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2881440" cy="11988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3"/>
          <a:stretch/>
        </p:blipFill>
        <p:spPr>
          <a:xfrm>
            <a:off x="5003640" y="2852640"/>
            <a:ext cx="2808360" cy="10429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73454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37440" cy="19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5076720" y="4149720"/>
            <a:ext cx="3743280" cy="195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08360" cy="1952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2190600" cy="29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836800" cy="21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5580000" y="404640"/>
            <a:ext cx="2462400" cy="25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3024360" cy="196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2638440" cy="351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600360" cy="269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680240" cy="576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74" name=""/>
          <p:cNvSpPr/>
          <p:nvPr/>
        </p:nvSpPr>
        <p:spPr>
          <a:xfrm>
            <a:off x="1195200" y="553572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cia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Objetivo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nterrumpir la cadena de transmisión de una enfermedad infecciosa, a fin de prevenir el contagio entre pacientes y entre pacientes y personal hospitalario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dena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3500280"/>
            <a:ext cx="1512720" cy="57636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08000" y="5286240"/>
            <a:ext cx="325332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erta de entr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29120" y="3558960"/>
            <a:ext cx="4910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canismo de transm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34160" y="2119320"/>
            <a:ext cx="1382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g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00000" y="2119320"/>
            <a:ext cx="299016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erta de sal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2560" y="3499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servo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9240" y="4784400"/>
            <a:ext cx="2907720" cy="5202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Huésped suscepti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7736000">
            <a:off x="874440" y="2588760"/>
            <a:ext cx="963720" cy="627120"/>
          </a:xfrm>
          <a:custGeom>
            <a:avLst/>
            <a:gdLst>
              <a:gd name="textAreaLeft" fmla="*/ 168480 w 963720"/>
              <a:gd name="textAreaRight" fmla="*/ 698760 w 963720"/>
              <a:gd name="textAreaTop" fmla="*/ 83880 h 627120"/>
              <a:gd name="textAreaBottom" fmla="*/ 543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5741400">
            <a:off x="7092720" y="4508280"/>
            <a:ext cx="1079640" cy="648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170208"/>
                <a:lnTo>
                  <a:pt x="20859" y="12273"/>
                </a:lnTo>
                <a:lnTo>
                  <a:pt x="17280" y="21600"/>
                </a:lnTo>
                <a:lnTo>
                  <a:pt x="12219" y="12273"/>
                </a:lnTo>
                <a:lnTo>
                  <a:pt x="14379" y="12273"/>
                </a:lnTo>
                <a:arcTo wR="7560" hR="21600" stAng="-3229792" swAng="-181277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4131600">
            <a:off x="7288560" y="2423160"/>
            <a:ext cx="1079280" cy="93492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59280" y="2060640"/>
            <a:ext cx="1008000" cy="28872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1937600">
            <a:off x="3228480" y="5375160"/>
            <a:ext cx="1224000" cy="4334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749571"/>
                <a:lnTo>
                  <a:pt x="21197" y="14646"/>
                </a:lnTo>
                <a:lnTo>
                  <a:pt x="17280" y="21600"/>
                </a:lnTo>
                <a:lnTo>
                  <a:pt x="12557" y="14646"/>
                </a:lnTo>
                <a:lnTo>
                  <a:pt x="14717" y="14646"/>
                </a:lnTo>
                <a:arcTo wR="7560" hR="21600" stAng="-2650429" swAng="-2392136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canismos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Direct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-si la superficie corp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fectada o colonizada s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one en contacto con l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perficie d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sceptibl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ahoma"/>
              </a:rPr>
              <a:t>Indirect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-si la transferenci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icroorganismo ocurr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uando 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sceptible entra e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tacto con un objet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generalmente inanimad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taminado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vectores, vía aérea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onentes fundamentales de aisla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avado de man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scarilla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so de guant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lantal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580000" y="2565360"/>
            <a:ext cx="2160720" cy="10065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1619280" y="4724280"/>
            <a:ext cx="2160720" cy="1521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5651640" y="4508640"/>
            <a:ext cx="1485720" cy="17539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1835280" y="2276640"/>
            <a:ext cx="18129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écnica de lavado de ma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acar pap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brir lla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umedecer man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plicar jabó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Jabono-suficiente espum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njuago escurriendo agu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aco papel y sec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556575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 papel cierro llav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1652400" cy="18097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1332000" y="4076640"/>
            <a:ext cx="1577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pos de aisl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RECAUCIONES ESTANDA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POR VÍA AERE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POR GOTITA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DE CONTACT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ISLAMIENTO EN COHORT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DAS DE AISLAMIE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avado clínico de man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so de guantes de látex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ugar de aislamiento (sala común o habitación individual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ransporte de pacient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scarillas, protección respiratoria y ocular, lentes protector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lantal y otros elementos de protec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quipos e insum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opa del pacient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rtículos para alimenta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impieza concurrente (durante la hospitalización) y terminal (al alta del paciente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0:21:14Z</dcterms:created>
  <dc:creator>Bj</dc:creator>
  <dc:description/>
  <dc:language>en-US</dc:language>
  <cp:lastModifiedBy>Bj</cp:lastModifiedBy>
  <dcterms:modified xsi:type="dcterms:W3CDTF">2009-08-11T22:46:12Z</dcterms:modified>
  <cp:revision>10</cp:revision>
  <dc:subject/>
  <dc:title>AISLAMIENTOS, USO DE DELANTAL, MASCARILLA Y LAVADO DE MANOS</dc:title>
</cp:coreProperties>
</file>