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5.png" ContentType="image/png"/>
  <Override PartName="/ppt/media/image24.jpeg" ContentType="image/jpeg"/>
  <Override PartName="/ppt/media/image9.wmf" ContentType="image/x-wmf"/>
  <Override PartName="/ppt/media/image14.png" ContentType="image/png"/>
  <Override PartName="/ppt/media/image25.jpeg" ContentType="image/jpeg"/>
  <Override PartName="/ppt/media/image10.wmf" ContentType="image/x-wmf"/>
  <Override PartName="/ppt/media/image31.jpeg" ContentType="image/jpeg"/>
  <Override PartName="/ppt/media/image30.jpeg" ContentType="image/jpeg"/>
  <Override PartName="/ppt/media/image7.wmf" ContentType="image/x-wmf"/>
  <Override PartName="/ppt/media/image13.png" ContentType="image/png"/>
  <Override PartName="/ppt/media/image8.wmf" ContentType="image/x-wmf"/>
  <Override PartName="/ppt/media/image37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11.wmf" ContentType="image/x-wmf"/>
  <Override PartName="/ppt/media/image3.png" ContentType="image/png"/>
  <Override PartName="/ppt/media/image6.wmf" ContentType="image/x-wmf"/>
  <Override PartName="/ppt/media/image12.jpeg" ContentType="image/jpeg"/>
  <Override PartName="/ppt/media/image4.png" ContentType="image/png"/>
  <Override PartName="/ppt/media/image23.jpeg" ContentType="image/jpeg"/>
  <Override PartName="/ppt/media/image5.png" ContentType="image/png"/>
  <Override PartName="/ppt/media/image2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6.png" ContentType="image/png"/>
  <Override PartName="/ppt/media/image32.jpeg" ContentType="image/jpeg"/>
  <Override PartName="/ppt/media/image1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DB83-6EF9-45EA-98A5-A02D4D73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2B29-140D-4144-84FD-D9F4207A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D42E-DD3B-422F-9D69-4682A648C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5F51-88CC-4565-8A0D-E72F8B478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651F-AD61-4E8A-BFA3-2F31A11E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1384-DC53-4D57-8283-2D9D2264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787F-1CEA-4D45-A96F-2167D9AB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816A-41FA-48C8-A62C-CC00DD31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0374-1601-4F45-963F-DA027035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0027-C546-4830-A2E8-708C01CE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CF16-0F41-4010-B563-0B85DF34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15F9-CD67-4CE1-977B-A0BE94F9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A824-F7D1-46E0-A25A-C2381259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A545-1779-481A-B191-8D4357BB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71B6-766F-42A7-AB55-C54EE400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7255-5B05-4904-9993-C1F80D402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0C76-1AB6-464F-93D5-3BD22255F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1E9910-E054-4424-975F-0A8E0C7A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5E987F-8F52-4223-A43B-D477B9DC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85F0C6-96D9-4EFC-85AD-D7D721ED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9C2E02-4D7A-446D-9311-17E084B9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AE610F-17DE-4E6D-8511-CA553052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7E9D-4B0D-4FC8-B4E1-B700A621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966D34-7589-4F05-8611-A3B3A29E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2351DE-D5D5-467A-BC6D-9E0B6959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AAF13C-C6FE-4821-A8FE-5DD45B98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7973D4-08D9-462B-BD20-1D3AB148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9F12D4-2D27-444C-96A6-A67D7DE1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C1EF1E-7655-4085-A2C1-9477FE228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E25F61-70DB-4249-BAA1-AA12E2DD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81B63-0661-4FFD-81B6-3E94211B7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CC342-F455-46C4-8B83-5FE90896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B14A8-513C-4F40-AB81-ECF88BC8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2AB0-1D82-4BE1-899F-65AC97E5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A2A4D-B295-4E7A-B80B-C53CBBCC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9E5E5-97D4-451B-ABEC-3BC0DC44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FC54B-DFA2-4925-BC82-E7554E1D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D7D6D-1026-43F7-BF8E-91E0ECF7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3EB21-CA51-43CD-A2E6-3F3B264D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DBE70-4D54-4CAE-8E30-2D2DDDF2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F660D-4534-4034-87F7-7295C2D1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E0BF1-16FD-4BEE-ACAE-6E76A0B7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70E8F-1207-4DA8-9A31-09FC01BEF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610C-8E6D-4F7C-820F-18A8B935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48AF-B380-4934-AF18-BA92130D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EDA5-13BD-4C82-A6CF-C2CF773A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E54B-19EA-4CAC-BD15-4A1547DC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2B78-DE55-4AA9-9DD6-1EFA7A8B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FBBA-102B-458E-AF5A-F311C5C6F8C1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289548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01F2-B58D-49A2-8595-0BC76F053F40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3" marL="1333440" algn="ctr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4" marL="1752480" algn="ctr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5" marL="1752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6" marL="1752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83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4464-DCDE-4499-B519-5E5F28347E1D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340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C572-07BE-4E9F-B9FB-892C94A0D2BC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yodibujo.es/_uploads/_tiny_galerie/200810/teo-momia-es-source_k2l.jpg&amp;imgrefurl=http://www.yodibujo.es/c_9867/colorear/fiestas-dibujos-para-colorear/dibujos-de-halloween-para-colorear-y-pintar/dibujos-de-ana-teo-y-matias-para-halloween/dibujo-de-momia-para-halloween&amp;usg=__H7hFpRB6R_2ONgsEya4a0cp868c=&amp;h=1060&amp;w=820&amp;sz=173&amp;hl=es&amp;start=87&amp;tbnid=eEiIyo2SUGAscM:&amp;tbnh=150&amp;tbnw=116&amp;prev=/images%3Fq%3Dmomia%26gbv%3D2%26ndsp%3D20%26hl%3Des%26sa%3DN%26start%3D80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676160" y="289548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AISLAMIENTOS, USO DE DELANTAL, MASCARILLA Y LAVADO DE MAN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2124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556f"/>
                </a:solidFill>
                <a:latin typeface="Tahoma"/>
              </a:rPr>
              <a:t>MIRELLA SANHUEZA H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556f"/>
                </a:solidFill>
                <a:latin typeface="Tahoma"/>
              </a:rPr>
              <a:t>ENFERMERA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locación de guan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2"/>
          <a:stretch/>
        </p:blipFill>
        <p:spPr>
          <a:xfrm>
            <a:off x="2666880" y="1523880"/>
            <a:ext cx="3810240" cy="3810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" descr=""/>
          <p:cNvPicPr/>
          <p:nvPr/>
        </p:nvPicPr>
        <p:blipFill>
          <a:blip r:embed="rId2"/>
          <a:stretch/>
        </p:blipFill>
        <p:spPr>
          <a:xfrm>
            <a:off x="5508720" y="1628640"/>
            <a:ext cx="2638440" cy="1979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35" name="" descr=""/>
          <p:cNvPicPr/>
          <p:nvPr/>
        </p:nvPicPr>
        <p:blipFill>
          <a:blip r:embed="rId3"/>
          <a:stretch/>
        </p:blipFill>
        <p:spPr>
          <a:xfrm>
            <a:off x="684360" y="1628640"/>
            <a:ext cx="2950920" cy="2040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755640" y="4005360"/>
            <a:ext cx="2808360" cy="2284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37" name="" descr=""/>
          <p:cNvPicPr/>
          <p:nvPr/>
        </p:nvPicPr>
        <p:blipFill>
          <a:blip r:embed="rId5"/>
          <a:stretch/>
        </p:blipFill>
        <p:spPr>
          <a:xfrm>
            <a:off x="5508720" y="4076640"/>
            <a:ext cx="2665440" cy="2158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2521080" cy="1892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5292720" y="1341360"/>
            <a:ext cx="2664000" cy="1998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40" name="" descr=""/>
          <p:cNvPicPr/>
          <p:nvPr/>
        </p:nvPicPr>
        <p:blipFill>
          <a:blip r:embed="rId4"/>
          <a:stretch/>
        </p:blipFill>
        <p:spPr>
          <a:xfrm>
            <a:off x="826920" y="3789360"/>
            <a:ext cx="2664000" cy="1996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41" name="" descr=""/>
          <p:cNvPicPr/>
          <p:nvPr/>
        </p:nvPicPr>
        <p:blipFill>
          <a:blip r:embed="rId5"/>
          <a:stretch/>
        </p:blipFill>
        <p:spPr>
          <a:xfrm>
            <a:off x="5292720" y="3860640"/>
            <a:ext cx="2665440" cy="2000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2771640" y="1700280"/>
            <a:ext cx="3765600" cy="432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ipos de vendaj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2133720"/>
            <a:ext cx="272412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efinición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NDAJ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    Procedimiento de enfermería que consiste en la aplicación de una venda en una zona del cuerpo. Según la finalidad, existen distintos tipos y tamaños de vendas, y distintas técnicas de aplicación de las mis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TIPOS DE VENDA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73911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ras de distintos materiales según función, 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diversas anchuras (5cm, 10cm, 15c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gún la zona anatómica a vendar. Según 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 de material pueden clasificarse 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1) De algodón: para proteger piel y prominencias óse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2) Elástica: de crepê o 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3) Tubular: cilíndr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4) Adhesiva: elástico semiblan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5) De Yeso: rígi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6"/>
          <a:stretch/>
        </p:blipFill>
        <p:spPr>
          <a:xfrm>
            <a:off x="4643280" y="4149720"/>
            <a:ext cx="4392720" cy="2243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TIPOS DE VENDAJE SEGÚN FUNCIÓ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 sujeción o protector: para aplicación de calor en procesos reumáticos, para proteger una zona anatómica de agentes externos, para fijar apósitos, férulas, etc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 compresión: para realizar hemostasia en heridas, para favorecer el retorno venoso en patología vascular, para disminuir edema e inflamación en procesos traumátic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movilizador: para limitar el movimiento de articulaciones traumátic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TIPOS DE VUELTA DE VENDA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l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e emplea principalmente para remarcar vendajes y vendar partes anatómicas cilíndricas. Cada vuelta de venda cubre por completo la vuelta anterior, por lo que el ancho de vendaje corresponde al ancho de la propia venda. Su función: protectora o de suje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pir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e emplea para vendar partes del cuerpo con el mismo perímetro. Cada vuelta de la venda cubre la mitad o dos tercios de la vuelta anterior, y se realiza ascendente con un ángulo de 30º aproximadamente. Su función: de protección o compresiv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piral invers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e emplea para vendar partes del cuerpo cilíndricas con perímetro no uniforme. Vuelta ascendente en espiral, que a mitad de cada vuelta la venda se dobla sobre sí misma y se hace descendente mediante la sujeción de la misma con el dedo pulgar, se completa la vuelta por la parte posterior y se comienza la siguiente. Actualmente se encuentra en desus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spig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se emplea para vendar partes del cuerpo cilíndricas con perímetro no uniforme. Cada vuelta de la venda cubre la mitad o dos tercios de la vuelta anterior, se comienza la vuelta en sentido ascendente 30º pasando la venda por la parte posterior y volviendo en sentido descendente 30º. Su función: compresiva, sólo en la vuelta ascendente se realiza compres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ecurrent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se utiliza para cubrir partes distales del cuerpo. Comienza con dos vueltas circulares en la zona proximal, a continuación se dobla perpendicularmente para cubrir la zona distal de anterior a posterior, cada vuelta se sigue de una circular proximal para fijarla y cubre parte de la anterior. Su función: protectora, de sujeción o de compres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n och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se emplea para vendar articulaciones. Comienza con dos vueltas circulares por debajo de la articulación, a continuación se da una vuelta ascendente anterior hasta por encima de la articulación y se continua descendente posterior (en forma de 8) hasta la vuelta anterior cubriendo la mitad o dos tercios de la misma. Su función: protectora, de sujeción o de compres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TIPOS DE VUELTA DE VENDA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ISLAMIEN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Definición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Es el conjunto de procedimientos que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permite la separación de pacientes infectado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de los huéspedes susceptibles, durante e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período de transmisibilidad de la enfermedad,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en lugares y condiciones tales que permita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cortar la cadena de transmisión d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infecciones de acuerdo a la vía d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transmisión de los patógenos involucrados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825480" y="1919160"/>
            <a:ext cx="7459560" cy="4098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TIPOS DE VUELTA DE VENDA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ef6"/>
                </a:solidFill>
                <a:latin typeface="Arial"/>
              </a:rPr>
              <a:t>PRINCIPIOS GENERALES DE LA APLICACIÓN DE LOS VENDAJES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152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tipo de vendaje ha de ser adecuado a la finalida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espesor y número de vueltas del vendaje serán iguales en toda su extens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 vendaje tiene que resultar indoloro y cómodo, y permitir la movilidad de las partes anatómicas no afectad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egurar la retirada de joyas y objetos que interfieran en el vendaje, o puedan producir presión en el miembro afecta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eger los espacios interdigitales, para evitar lesiones por macera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eccionar el material para el vendaje y tamaño de venda adecuado a la zona a venda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ocar al usuario en posición cómoda manteniendo la parte que va a ser vendada alineada con el cuerp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ocarse delante del usuario para comenzar el vendaj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licar el vendaje siempre de la zona más distal a la más proxim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da vuelta debe cubrir la mitad o dos tercios de la anterio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licar una presión uniforme y decreciente, sin restringir la circulación. Dejar al descubierto el extremo distal para valorar el estado neurovascula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" descr=""/>
          <p:cNvPicPr/>
          <p:nvPr/>
        </p:nvPicPr>
        <p:blipFill>
          <a:blip r:embed="rId1"/>
          <a:stretch/>
        </p:blipFill>
        <p:spPr>
          <a:xfrm>
            <a:off x="539640" y="1438200"/>
            <a:ext cx="7417080" cy="995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2"/>
          <a:stretch/>
        </p:blipFill>
        <p:spPr>
          <a:xfrm>
            <a:off x="826920" y="2852640"/>
            <a:ext cx="2881440" cy="119880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3"/>
          <a:stretch/>
        </p:blipFill>
        <p:spPr>
          <a:xfrm>
            <a:off x="5003640" y="2852640"/>
            <a:ext cx="2808360" cy="104292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4"/>
          <a:stretch/>
        </p:blipFill>
        <p:spPr>
          <a:xfrm>
            <a:off x="826920" y="4869000"/>
            <a:ext cx="73454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337440" cy="1943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65" name="" descr=""/>
          <p:cNvPicPr/>
          <p:nvPr/>
        </p:nvPicPr>
        <p:blipFill>
          <a:blip r:embed="rId2"/>
          <a:stretch/>
        </p:blipFill>
        <p:spPr>
          <a:xfrm>
            <a:off x="5076720" y="4149720"/>
            <a:ext cx="3743280" cy="1959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66" name="" descr=""/>
          <p:cNvPicPr/>
          <p:nvPr/>
        </p:nvPicPr>
        <p:blipFill>
          <a:blip r:embed="rId3"/>
          <a:stretch/>
        </p:blipFill>
        <p:spPr>
          <a:xfrm>
            <a:off x="1116000" y="4149720"/>
            <a:ext cx="2808360" cy="1952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5292720" y="3500280"/>
            <a:ext cx="2190600" cy="2924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68" name="" descr=""/>
          <p:cNvPicPr/>
          <p:nvPr/>
        </p:nvPicPr>
        <p:blipFill>
          <a:blip r:embed="rId2"/>
          <a:stretch/>
        </p:blipFill>
        <p:spPr>
          <a:xfrm>
            <a:off x="971640" y="3933720"/>
            <a:ext cx="2836800" cy="2127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69" name="" descr=""/>
          <p:cNvPicPr/>
          <p:nvPr/>
        </p:nvPicPr>
        <p:blipFill>
          <a:blip r:embed="rId3"/>
          <a:stretch/>
        </p:blipFill>
        <p:spPr>
          <a:xfrm>
            <a:off x="5580000" y="404640"/>
            <a:ext cx="2462400" cy="2529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70" name="" descr=""/>
          <p:cNvPicPr/>
          <p:nvPr/>
        </p:nvPicPr>
        <p:blipFill>
          <a:blip r:embed="rId4"/>
          <a:stretch/>
        </p:blipFill>
        <p:spPr>
          <a:xfrm>
            <a:off x="900000" y="907920"/>
            <a:ext cx="3024360" cy="196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5219640" y="1700280"/>
            <a:ext cx="2638440" cy="3514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3600360" cy="2697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680240" cy="576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74" name=""/>
          <p:cNvSpPr/>
          <p:nvPr/>
        </p:nvSpPr>
        <p:spPr>
          <a:xfrm>
            <a:off x="1195200" y="5535720"/>
            <a:ext cx="187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acia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islamien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Tahoma"/>
              </a:rPr>
              <a:t>Objetivo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Interrumpir la cadena de transmisión de una enfermedad infecciosa, a fin de prevenir el contagio entre pacientes y entre pacientes y personal hospitalario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adena de transmi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"/>
          <p:cNvSpPr/>
          <p:nvPr/>
        </p:nvSpPr>
        <p:spPr>
          <a:xfrm>
            <a:off x="324000" y="3500280"/>
            <a:ext cx="1512720" cy="576360"/>
          </a:xfrm>
          <a:prstGeom prst="ellipse">
            <a:avLst/>
          </a:pr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608000" y="5286240"/>
            <a:ext cx="3253320" cy="649800"/>
          </a:xfrm>
          <a:prstGeom prst="ellipse">
            <a:avLst/>
          </a:pr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uerta de entra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029120" y="3558960"/>
            <a:ext cx="4910400" cy="649800"/>
          </a:xfrm>
          <a:prstGeom prst="ellipse">
            <a:avLst/>
          </a:pr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ecanismo de transmis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834160" y="2119320"/>
            <a:ext cx="1382400" cy="649800"/>
          </a:xfrm>
          <a:prstGeom prst="ellipse">
            <a:avLst/>
          </a:pr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g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800000" y="2119320"/>
            <a:ext cx="2990160" cy="649800"/>
          </a:xfrm>
          <a:prstGeom prst="ellipse">
            <a:avLst/>
          </a:pr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uerta de sali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2560" y="3499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servo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79240" y="4784400"/>
            <a:ext cx="2907720" cy="520200"/>
          </a:xfrm>
          <a:prstGeom prst="ellipse">
            <a:avLst/>
          </a:pr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Huésped susceptib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rot="17736000">
            <a:off x="874440" y="2588760"/>
            <a:ext cx="963720" cy="627120"/>
          </a:xfrm>
          <a:custGeom>
            <a:avLst/>
            <a:gdLst>
              <a:gd name="textAreaLeft" fmla="*/ 168480 w 963720"/>
              <a:gd name="textAreaRight" fmla="*/ 698760 w 963720"/>
              <a:gd name="textAreaTop" fmla="*/ 83880 h 627120"/>
              <a:gd name="textAreaBottom" fmla="*/ 543240 h 627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rot="5741400">
            <a:off x="7092720" y="4508280"/>
            <a:ext cx="1079640" cy="648000"/>
          </a:xfrm>
          <a:custGeom>
            <a:avLst/>
            <a:gdLst>
              <a:gd name="textAreaLeft" fmla="*/ 189000 w 1079640"/>
              <a:gd name="textAreaRight" fmla="*/ 783000 w 1079640"/>
              <a:gd name="textAreaTop" fmla="*/ 86760 h 648000"/>
              <a:gd name="textAreaBottom" fmla="*/ 561240 h 64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170208"/>
                <a:lnTo>
                  <a:pt x="20859" y="12273"/>
                </a:lnTo>
                <a:lnTo>
                  <a:pt x="17280" y="21600"/>
                </a:lnTo>
                <a:lnTo>
                  <a:pt x="12219" y="12273"/>
                </a:lnTo>
                <a:lnTo>
                  <a:pt x="14379" y="12273"/>
                </a:lnTo>
                <a:arcTo wR="7560" hR="21600" stAng="-3229792" swAng="-181277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eb3c8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rot="4131600">
            <a:off x="7288560" y="2423160"/>
            <a:ext cx="1079280" cy="934920"/>
          </a:xfrm>
          <a:custGeom>
            <a:avLst/>
            <a:gdLst>
              <a:gd name="textAreaLeft" fmla="*/ 188640 w 1079280"/>
              <a:gd name="textAreaRight" fmla="*/ 782640 w 1079280"/>
              <a:gd name="textAreaTop" fmla="*/ 125280 h 934920"/>
              <a:gd name="textAreaBottom" fmla="*/ 809640 h 93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eb3c8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859280" y="2060640"/>
            <a:ext cx="1008000" cy="28872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rot="11937600">
            <a:off x="3228480" y="5375160"/>
            <a:ext cx="1224000" cy="433440"/>
          </a:xfrm>
          <a:custGeom>
            <a:avLst/>
            <a:gdLst>
              <a:gd name="textAreaLeft" fmla="*/ 214200 w 1224000"/>
              <a:gd name="textAreaRight" fmla="*/ 887400 w 122400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749571"/>
                <a:lnTo>
                  <a:pt x="21197" y="14646"/>
                </a:lnTo>
                <a:lnTo>
                  <a:pt x="17280" y="21600"/>
                </a:lnTo>
                <a:lnTo>
                  <a:pt x="12557" y="14646"/>
                </a:lnTo>
                <a:lnTo>
                  <a:pt x="14717" y="14646"/>
                </a:lnTo>
                <a:arcTo wR="7560" hR="21600" stAng="-2650429" swAng="-2392136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ecanismos de transmi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619440" cy="47242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ahoma"/>
              </a:rPr>
              <a:t>Directo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-si la superficie corpor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infectada o colonizada s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pone en contacto con l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superficie del huésped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susceptible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991040" y="1676160"/>
            <a:ext cx="3619440" cy="47242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ahoma"/>
              </a:rPr>
              <a:t>Indirecto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-si la transferencia d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microorganismo ocurr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cuando el huésped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susceptible entra e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contacto con un objeto,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generalmente inanimado,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contaminado.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(vectores, vía aérea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mponentes fundamentales de aislamien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61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Lavado de mano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Mascarillas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991040" y="1676160"/>
            <a:ext cx="361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Uso de guante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Delantal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5580000" y="2565360"/>
            <a:ext cx="2160720" cy="100656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3"/>
          <a:stretch/>
        </p:blipFill>
        <p:spPr>
          <a:xfrm>
            <a:off x="1619280" y="4724280"/>
            <a:ext cx="2160720" cy="152100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4"/>
          <a:stretch/>
        </p:blipFill>
        <p:spPr>
          <a:xfrm>
            <a:off x="5651640" y="4508640"/>
            <a:ext cx="1485720" cy="175392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5"/>
          <a:stretch/>
        </p:blipFill>
        <p:spPr>
          <a:xfrm>
            <a:off x="1835280" y="2276640"/>
            <a:ext cx="181296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écnica de lavado de man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211640" y="1699920"/>
            <a:ext cx="361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556575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Sacar pape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556575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Abrir llav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556575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Humedecer mano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556575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Aplicar jabó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556575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Jabono-suficiente espum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556575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Enjuago escurriendo agu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556575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Saco papel y seco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556575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Con papel cierro llav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1332000" y="1773360"/>
            <a:ext cx="1652400" cy="180972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3"/>
          <a:stretch/>
        </p:blipFill>
        <p:spPr>
          <a:xfrm>
            <a:off x="1332000" y="4076640"/>
            <a:ext cx="157788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pos de aisla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PRECAUCIONES ESTANDAR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AISLAMIENTO POR VÍA AERE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AISLAMIENTO POR GOTITA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AISLAMIENTO DE CONTACTO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AISLAMIENTO EN COHORT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DAS DE AISLAMIENT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Lavado clínico de manos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Uso de guantes de látex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Lugar de aislamiento (sala común o habitación individual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ransporte de pacientes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Mascarillas, protección respiratoria y ocular, lentes protectores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Delantal y otros elementos de protección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Equipos e insumos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Ropa del paciente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Artículos para alimentación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Limpieza concurrente (durante la hospitalización) y terminal (al alta del paciente)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5T20:21:14Z</dcterms:created>
  <dc:creator>Bj</dc:creator>
  <dc:description/>
  <dc:language>en-US</dc:language>
  <cp:lastModifiedBy>Bj</cp:lastModifiedBy>
  <dcterms:modified xsi:type="dcterms:W3CDTF">2009-08-11T22:46:12Z</dcterms:modified>
  <cp:revision>10</cp:revision>
  <dc:subject/>
  <dc:title>AISLAMIENTOS, USO DE DELANTAL, MASCARILLA Y LAVADO DE MANOS</dc:title>
</cp:coreProperties>
</file>