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5.png" ContentType="image/png"/>
  <Override PartName="/ppt/media/image24.jpeg" ContentType="image/jpeg"/>
  <Override PartName="/ppt/media/image9.wmf" ContentType="image/x-wmf"/>
  <Override PartName="/ppt/media/image14.png" ContentType="image/png"/>
  <Override PartName="/ppt/media/image25.jpeg" ContentType="image/jpeg"/>
  <Override PartName="/ppt/media/image10.wmf" ContentType="image/x-wmf"/>
  <Override PartName="/ppt/media/image31.jpeg" ContentType="image/jpeg"/>
  <Override PartName="/ppt/media/image30.jpeg" ContentType="image/jpeg"/>
  <Override PartName="/ppt/media/image7.wmf" ContentType="image/x-wmf"/>
  <Override PartName="/ppt/media/image13.png" ContentType="image/png"/>
  <Override PartName="/ppt/media/image8.wmf" ContentType="image/x-wmf"/>
  <Override PartName="/ppt/media/image37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12.jpeg" ContentType="image/jpeg"/>
  <Override PartName="/ppt/media/image4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A0F-79CA-43F7-8DEA-BB2FFFED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218-8199-46AE-B174-DBD2F1AD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2E0-8389-4F64-BC66-2C33402C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773-B41B-46DB-BDC2-00B69539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6AF2-F065-41E4-978A-7FA558E9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0A10-149E-4864-A386-AFEDD868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687A-5CAF-41E8-9042-574F337C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8D25-15A3-4C35-AE1A-7BCEAF98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4E02-D33B-4BFB-BD8F-B36178DA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7646-3593-40AB-A657-9ABB1434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64C6-E483-4FC1-8864-571CE55C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151-E4D1-4049-A751-D7992842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A81D-A82E-4897-B94D-7B3E1B23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40E4-BF52-4634-881B-6BE147C8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A2B1-7617-4028-8047-A2BC1965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20A6-8016-412B-B391-433D3374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D2F1-B8F0-494F-B42C-565CE7EC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057446-ED02-4F23-B146-782A7D2B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06968E-44E6-4CF2-8669-B11FE300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D92BF1-F3F0-4181-806C-719A7778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330CA-00B3-4591-B2E5-873735FB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51E56-0CE7-4A8A-8052-15811237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227-79BB-438D-BF6D-81CE10F8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DE94D-1293-445E-8A66-5A7A4482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7610CA-CA9F-4DBF-88B0-E8EEFA90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7E851E-2F20-4DEE-9A70-3C6F7D20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BCE9D1-D3C6-433D-B8D9-28A76FDD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B6A5B8-A651-4BC0-94BB-2A318BFB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C205A9-76F3-42EB-8C30-FC3DEC3F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132916-24D4-47F7-A406-27AF00B6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02EBB-B2F5-4BFD-88F5-DBF9331D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4064F-21B5-4C4F-B278-63B32870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D3D6E-5CC2-4F50-B818-8CCBD090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781-DD54-4416-AA15-F44A7EE5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99D99-C8E3-4D6B-B685-B5D80E91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AEE6E-4299-4B4F-9631-A1A5B056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611F9-9482-4F20-9892-039EABF5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66416-9CEB-4FB9-AADE-3E0CFAE5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6F9A7-D836-4C37-A626-12B9647B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9F52F-1C28-4A68-B3C1-AB68299B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8BCEE-A2BC-4863-BBFD-4F4907E7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75AB3-67C0-41BD-B786-833DD2CC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944CF-A653-4503-B55D-53A3C5D1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1E8-A612-48DE-B6DC-8599779C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9A5-EDA1-4B8B-9ECC-F985648D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00A-2068-4B70-975E-2600E7AA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7CC-AEEB-4157-B978-A1F6CC00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4B5-30D1-4C0D-A5D3-FCC91CC2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9B97-72A4-4DEE-B0D8-B76BFF621C7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6C53-F02F-42AE-B15D-899913D5F17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83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D5D7-5F35-4AB6-B997-0474F16E5777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340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5800-C637-46C9-A290-B04E9F861E34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yodibujo.es/_uploads/_tiny_galerie/200810/teo-momia-es-source_k2l.jpg&amp;imgrefurl=http://www.yodibujo.es/c_9867/colorear/fiestas-dibujos-para-colorear/dibujos-de-halloween-para-colorear-y-pintar/dibujos-de-ana-teo-y-matias-para-halloween/dibujo-de-momia-para-halloween&amp;usg=__H7hFpRB6R_2ONgsEya4a0cp868c=&amp;h=1060&amp;w=820&amp;sz=173&amp;hl=es&amp;start=87&amp;tbnid=eEiIyo2SUGAscM:&amp;tbnh=150&amp;tbnw=116&amp;prev=/images%3Fq%3Dmomia%26gbv%3D2%26ndsp%3D20%26hl%3Des%26sa%3DN%26start%3D80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AISLAMIENTOS, USO DE DELANTAL, MASCARILLA Y LAVADO DE MAN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124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56f"/>
                </a:solidFill>
                <a:latin typeface="Tahoma"/>
              </a:rPr>
              <a:t>MIRELLA SANHUEZA H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56f"/>
                </a:solidFill>
                <a:latin typeface="Tahoma"/>
              </a:rPr>
              <a:t>ENFERMER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ocación de guan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5508720" y="1628640"/>
            <a:ext cx="2638440" cy="1979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2950920" cy="204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2808360" cy="2284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7" name="" descr=""/>
          <p:cNvPicPr/>
          <p:nvPr/>
        </p:nvPicPr>
        <p:blipFill>
          <a:blip r:embed="rId5"/>
          <a:stretch/>
        </p:blipFill>
        <p:spPr>
          <a:xfrm>
            <a:off x="5508720" y="4076640"/>
            <a:ext cx="266544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2521080" cy="189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5292720" y="1341360"/>
            <a:ext cx="2664000" cy="199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826920" y="3789360"/>
            <a:ext cx="2664000" cy="199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5292720" y="3860640"/>
            <a:ext cx="2665440" cy="200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2771640" y="1700280"/>
            <a:ext cx="3765600" cy="432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ipos de vendaj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133720"/>
            <a:ext cx="27241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finición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NDAJ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    Procedimiento de enfermería que consiste en la aplicación de una venda en una zona del cuerpo. Según la finalidad, existen distintos tipos y tamaños de vendas, y distintas técnicas de aplicación de las mis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TIPOS DE VEND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ras de distintos materiales según función,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iversas anchuras (5cm, 10cm, 15c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gún la zona anatómica a vendar. Según 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 de material pueden clasificarse 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1) De algodón: para proteger piel y prominencias óse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2) Elástica: de crepê o 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3) Tubular: cilínd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4) Adhesiva: elástico semibla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5) De Yeso: ríg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4643280" y="4149720"/>
            <a:ext cx="4392720" cy="224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TIPOS DE VENDAJE SEGÚN FUN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sujeción o protector: para aplicación de calor en procesos reumáticos, para proteger una zona anatómica de agentes externos, para fijar apósitos, férulas, etc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compresión: para realizar hemostasia en heridas, para favorecer el retorno venoso en patología vascular, para disminuir edema e inflamación en procesos traumátic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movilizador: para limitar el movimiento de articulaciones traumátic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TIPOS DE VUELTA DE VENDA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l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emplea principalmente para remarcar vendajes y vendar partes anatómicas cilíndricas. Cada vuelta de venda cubre por completo la vuelta anterior, por lo que el ancho de vendaje corresponde al ancho de la propia venda. Su función: protectora o de suje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pir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emplea para vendar partes del cuerpo con el mismo perímetro. Cada vuelta de la venda cubre la mitad o dos tercios de la vuelta anterior, y se realiza ascendente con un ángulo de 30º aproximadamente. Su función: de protección o compres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piral invers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emplea para vendar partes del cuerpo cilíndricas con perímetro no uniforme. Vuelta ascendente en espiral, que a mitad de cada vuelta la venda se dobla sobre sí misma y se hace descendente mediante la sujeción de la misma con el dedo pulgar, se completa la vuelta por la parte posterior y se comienza la siguiente. Actualmente se encuentra en des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pig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emplea para vendar partes del cuerpo cilíndricas con perímetro no uniforme. Cada vuelta de la venda cubre la mitad o dos tercios de la vuelta anterior, se comienza la vuelta en sentido ascendente 30º pasando la venda por la parte posterior y volviendo en sentido descendente 30º. Su función: compresiva, sólo en la vuelta ascendente se realiza compre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current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utiliza para cubrir partes distales del cuerpo. Comienza con dos vueltas circulares en la zona proximal, a continuación se dobla perpendicularmente para cubrir la zona distal de anterior a posterior, cada vuelta se sigue de una circular proximal para fijarla y cubre parte de la anterior. Su función: protectora, de sujeción o de compre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och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emplea para vendar articulaciones. Comienza con dos vueltas circulares por debajo de la articulación, a continuación se da una vuelta ascendente anterior hasta por encima de la articulación y se continua descendente posterior (en forma de 8) hasta la vuelta anterior cubriendo la mitad o dos tercios de la misma. Su función: protectora, de sujeción o de compre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TIPOS DE VUELTA DE VENDA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SLA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Definición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Es el conjunto de procedimientos que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permite la separación de pacientes infectad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de los huéspedes susceptibles, durante 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período de transmisibilidad de la enfermedad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en lugares y condiciones tales que permita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cortar la cadena de transmisión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infecciones de acuerdo a la vía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transmisión de los patógenos involucrado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825480" y="1919160"/>
            <a:ext cx="7459560" cy="409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TIPOS DE VUELTA DE VENDA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ef6"/>
                </a:solidFill>
                <a:latin typeface="Arial"/>
              </a:rPr>
              <a:t>PRINCIPIOS GENERALES DE LA APLICACIÓN DE LOS VENDAJ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152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tipo de vendaje ha de ser adecuado a la fin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spesor y número de vueltas del vendaje serán iguales en toda su extens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vendaje tiene que resultar indoloro y cómodo, y permitir la movilidad de las partes anatómicas no afectad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egurar la retirada de joyas y objetos que interfieran en el vendaje, o puedan producir presión en el miembro afecta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ger los espacios interdigitales, para evitar lesiones por macer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cionar el material para el vendaje y tamaño de venda adecuado a la zona a venda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car al usuario en posición cómoda manteniendo la parte que va a ser vendada alineada con el cuerp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carse delante del usuario para comenzar el vendaj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r el vendaje siempre de la zona más distal a la más proxim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da vuelta debe cubrir la mitad o dos tercios de la anteri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r una presión uniforme y decreciente, sin restringir la circulación. Dejar al descubierto el extremo distal para valorar el estado neurovascula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539640" y="1438200"/>
            <a:ext cx="7417080" cy="995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2881440" cy="11988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3"/>
          <a:stretch/>
        </p:blipFill>
        <p:spPr>
          <a:xfrm>
            <a:off x="5003640" y="2852640"/>
            <a:ext cx="2808360" cy="10429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4"/>
          <a:stretch/>
        </p:blipFill>
        <p:spPr>
          <a:xfrm>
            <a:off x="826920" y="4869000"/>
            <a:ext cx="73454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337440" cy="19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5076720" y="4149720"/>
            <a:ext cx="3743280" cy="195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08360" cy="1952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5292720" y="3500280"/>
            <a:ext cx="2190600" cy="29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2836800" cy="21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5580000" y="404640"/>
            <a:ext cx="2462400" cy="25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0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3024360" cy="196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2638440" cy="3514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600360" cy="2697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680240" cy="576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4" name=""/>
          <p:cNvSpPr/>
          <p:nvPr/>
        </p:nvSpPr>
        <p:spPr>
          <a:xfrm>
            <a:off x="1195200" y="553572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acia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sla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Tahoma"/>
              </a:rPr>
              <a:t>Objetivo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nterrumpir la cadena de transmisión de una enfermedad infecciosa, a fin de prevenir el contagio entre pacientes y entre pacientes y personal hospitalario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dena de trans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"/>
          <p:cNvSpPr/>
          <p:nvPr/>
        </p:nvSpPr>
        <p:spPr>
          <a:xfrm>
            <a:off x="324000" y="3500280"/>
            <a:ext cx="1512720" cy="57636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08000" y="5286240"/>
            <a:ext cx="325332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uerta de entr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29120" y="3558960"/>
            <a:ext cx="491040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ecanismo de transm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834160" y="2119320"/>
            <a:ext cx="138240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g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800000" y="2119320"/>
            <a:ext cx="299016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uerta de sali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2560" y="3499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servo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9240" y="4784400"/>
            <a:ext cx="2907720" cy="5202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Huésped suscepti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17736000">
            <a:off x="874440" y="2588760"/>
            <a:ext cx="963720" cy="627120"/>
          </a:xfrm>
          <a:custGeom>
            <a:avLst/>
            <a:gdLst>
              <a:gd name="textAreaLeft" fmla="*/ 168480 w 963720"/>
              <a:gd name="textAreaRight" fmla="*/ 698760 w 963720"/>
              <a:gd name="textAreaTop" fmla="*/ 83880 h 627120"/>
              <a:gd name="textAreaBottom" fmla="*/ 543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5741400">
            <a:off x="7092720" y="4508280"/>
            <a:ext cx="1079640" cy="648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86760 h 648000"/>
              <a:gd name="textAreaBottom" fmla="*/ 5612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170208"/>
                <a:lnTo>
                  <a:pt x="20859" y="12273"/>
                </a:lnTo>
                <a:lnTo>
                  <a:pt x="17280" y="21600"/>
                </a:lnTo>
                <a:lnTo>
                  <a:pt x="12219" y="12273"/>
                </a:lnTo>
                <a:lnTo>
                  <a:pt x="14379" y="12273"/>
                </a:lnTo>
                <a:arcTo wR="7560" hR="21600" stAng="-3229792" swAng="-181277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4131600">
            <a:off x="7288560" y="2423160"/>
            <a:ext cx="1079280" cy="93492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125280 h 934920"/>
              <a:gd name="textAreaBottom" fmla="*/ 8096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59280" y="2060640"/>
            <a:ext cx="1008000" cy="28872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1937600">
            <a:off x="3228480" y="5375160"/>
            <a:ext cx="1224000" cy="4334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749571"/>
                <a:lnTo>
                  <a:pt x="21197" y="14646"/>
                </a:lnTo>
                <a:lnTo>
                  <a:pt x="17280" y="21600"/>
                </a:lnTo>
                <a:lnTo>
                  <a:pt x="12557" y="14646"/>
                </a:lnTo>
                <a:lnTo>
                  <a:pt x="14717" y="14646"/>
                </a:lnTo>
                <a:arcTo wR="7560" hR="21600" stAng="-2650429" swAng="-2392136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canismos de trans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ahoma"/>
              </a:rPr>
              <a:t>Directo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-si la superficie corp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fectada o colonizada s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one en contacto con l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uperficie del huésp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usceptible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ahoma"/>
              </a:rPr>
              <a:t>Indirecto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-si la transferencia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icroorganismo ocurr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uando el huésp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usceptible entra e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ntacto con un objeto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generalmente inanimado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ntaminado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vectores, vía aérea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ponentes fundamentales de aislamie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avado de man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ascarilla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Uso de guant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elantal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580000" y="2565360"/>
            <a:ext cx="2160720" cy="10065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1619280" y="4724280"/>
            <a:ext cx="2160720" cy="15210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5651640" y="4508640"/>
            <a:ext cx="1485720" cy="175392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1835280" y="2276640"/>
            <a:ext cx="18129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écnica de lavado de man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211640" y="169992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acar pap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brir llav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umedecer man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plicar jab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Jabono-suficiente espum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njuago escurriendo agu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aco papel y sec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n papel cierro llav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1652400" cy="18097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1332000" y="4076640"/>
            <a:ext cx="15778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pos de aisl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RECAUCIONES ESTANDAR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ISLAMIENTO POR VÍA AERE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ISLAMIENTO POR GOTITA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ISLAMIENTO DE CONTACT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ISLAMIENTO EN COHORT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DAS DE AISLAMIEN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avado clínico de mano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Uso de guantes de látex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ugar de aislamiento (sala común o habitación individual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ransporte de paciente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ascarillas, protección respiratoria y ocular, lentes protectore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elantal y otros elementos de protección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quipos e insum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opa del paciente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rtículos para alimentación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impieza concurrente (durante la hospitalización) y terminal (al alta del paciente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20:21:14Z</dcterms:created>
  <dc:creator>Bj</dc:creator>
  <dc:description/>
  <dc:language>en-US</dc:language>
  <cp:lastModifiedBy>Bj</cp:lastModifiedBy>
  <dcterms:modified xsi:type="dcterms:W3CDTF">2009-08-11T22:46:12Z</dcterms:modified>
  <cp:revision>10</cp:revision>
  <dc:subject/>
  <dc:title>AISLAMIENTOS, USO DE DELANTAL, MASCARILLA Y LAVADO DE MANOS</dc:title>
</cp:coreProperties>
</file>