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7B2-8411-448B-A3F0-1B0E1CD5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C89-1E60-4EB9-8815-562822C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591-A2EA-4D30-85B2-50D202D2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75A-6D15-49AD-B811-81BE79F2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AD26-8D39-4C9B-9B4E-55C9434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8464-9ED6-4D9C-AFC1-1BEDF50A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42F4-C352-40D2-B452-B40B43D6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AEE2-E3EE-439E-AE4D-CD6B0099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C26-39EB-4A4C-8C43-C00C9410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78FB-977F-4491-B905-33C4ADB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19F-9475-41CB-AD83-DF358B6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7C2-5C5A-4FEE-9C49-06B183F2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CBB-CE74-40FB-9FE7-70A4121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B9F-A10D-4A77-9985-EF6F715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2E4A-90F9-4520-BD9E-268246A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2CA9-8889-40B0-9D8A-ED2A8004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D893-7959-4498-89EC-01DBEC07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A879-EC26-4DBC-A272-C3DC81A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167-C01B-4506-8485-101D8DE7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BA8-450F-494E-B467-086D3F9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40D-CB45-453A-A3B6-FAFA6C5C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383-A442-4F6A-B2F9-35961971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7DF-7FC2-430C-9482-BA57134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627-26FA-4211-AF68-F03CF278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418-27E6-40F3-9711-B1C649BF84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A2C-B369-4108-B8D5-226D329F6D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necesidades de alimentación del paciente hospitalizado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rella Sanhueza Hidal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Manifestaciones clínicas de alteracion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la necesidad de aliment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ar estado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es de exáme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evolución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r necesidad de apoyo nutri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 los gustos del enfer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uso de pró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s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deg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008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29e"/>
                </a:solidFill>
                <a:latin typeface="Arial"/>
              </a:rPr>
              <a:t>Ingreso de un paciente a la atención pública</a:t>
            </a:r>
            <a:br>
              <a:rPr sz="4800"/>
            </a:br>
            <a:endParaRPr b="0" lang="en-US" sz="4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464000" y="443664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rella Sanhueza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Formas de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773000"/>
            <a:ext cx="8495640" cy="4028400"/>
            <a:chOff x="324000" y="1773000"/>
            <a:chExt cx="8495640" cy="4028400"/>
          </a:xfrm>
        </p:grpSpPr>
        <p:cxnSp>
          <p:nvCxnSpPr>
            <p:cNvPr id="188" name="_s35845"/>
            <p:cNvCxnSpPr>
              <a:stCxn id="189" idx="0"/>
              <a:endCxn id="190" idx="2"/>
            </p:cNvCxnSpPr>
            <p:nvPr/>
          </p:nvCxnSpPr>
          <p:spPr>
            <a:xfrm flipV="1">
              <a:off x="3964320" y="491472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1" name="_s3584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981480" y="2636280"/>
              <a:ext cx="253440" cy="126288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5847"/>
            <p:cNvCxnSpPr>
              <a:stCxn id="195" idx="0"/>
              <a:endCxn id="193" idx="2"/>
            </p:cNvCxnSpPr>
            <p:nvPr/>
          </p:nvCxnSpPr>
          <p:spPr>
            <a:xfrm flipH="1" flipV="1" rot="5400000">
              <a:off x="5720400" y="2637720"/>
              <a:ext cx="253440" cy="126072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35848"/>
            <p:cNvCxnSpPr>
              <a:stCxn id="190" idx="0"/>
              <a:endCxn id="197" idx="2"/>
            </p:cNvCxnSpPr>
            <p:nvPr/>
          </p:nvCxnSpPr>
          <p:spPr>
            <a:xfrm flipV="1" rot="16200000">
              <a:off x="3201120" y="3517560"/>
              <a:ext cx="253440" cy="127332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3584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1928520" y="3517560"/>
              <a:ext cx="253440" cy="127368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0" name="_s35850"/>
            <p:cNvCxnSpPr>
              <a:stCxn id="197" idx="0"/>
              <a:endCxn id="201" idx="2"/>
            </p:cNvCxnSpPr>
            <p:nvPr/>
          </p:nvCxnSpPr>
          <p:spPr>
            <a:xfrm flipV="1">
              <a:off x="2691720" y="314136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2" name="_s35851"/>
            <p:cNvCxnSpPr>
              <a:stCxn id="193" idx="0"/>
              <a:endCxn id="203" idx="2"/>
            </p:cNvCxnSpPr>
            <p:nvPr/>
          </p:nvCxnSpPr>
          <p:spPr>
            <a:xfrm flipV="1" rot="16200000">
              <a:off x="5398560" y="1429560"/>
              <a:ext cx="227520" cy="19299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4" name="_s35852"/>
            <p:cNvCxnSpPr>
              <a:stCxn id="201" idx="0"/>
              <a:endCxn id="203" idx="2"/>
            </p:cNvCxnSpPr>
            <p:nvPr/>
          </p:nvCxnSpPr>
          <p:spPr>
            <a:xfrm flipH="1" flipV="1" rot="5400000">
              <a:off x="3505680" y="1466280"/>
              <a:ext cx="227520" cy="18565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03" name="_s35853"/>
            <p:cNvSpPr/>
            <p:nvPr/>
          </p:nvSpPr>
          <p:spPr>
            <a:xfrm>
              <a:off x="3132720" y="1773000"/>
              <a:ext cx="283068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rsona enfer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4"/>
            <p:cNvSpPr/>
            <p:nvPr/>
          </p:nvSpPr>
          <p:spPr>
            <a:xfrm>
              <a:off x="16095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orio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primar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35855"/>
            <p:cNvSpPr/>
            <p:nvPr/>
          </p:nvSpPr>
          <p:spPr>
            <a:xfrm>
              <a:off x="53949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io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6"/>
            <p:cNvSpPr/>
            <p:nvPr/>
          </p:nvSpPr>
          <p:spPr>
            <a:xfrm>
              <a:off x="161172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specialista en CD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7"/>
            <p:cNvSpPr/>
            <p:nvPr/>
          </p:nvSpPr>
          <p:spPr>
            <a:xfrm>
              <a:off x="32400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 posteri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ol y trata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5858"/>
            <p:cNvSpPr/>
            <p:nvPr/>
          </p:nvSpPr>
          <p:spPr>
            <a:xfrm>
              <a:off x="287172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den d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9"/>
            <p:cNvSpPr/>
            <p:nvPr/>
          </p:nvSpPr>
          <p:spPr>
            <a:xfrm>
              <a:off x="4134960" y="3395160"/>
              <a:ext cx="216144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y posterior al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35860"/>
            <p:cNvSpPr/>
            <p:nvPr/>
          </p:nvSpPr>
          <p:spPr>
            <a:xfrm>
              <a:off x="665748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icación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5861"/>
            <p:cNvSpPr/>
            <p:nvPr/>
          </p:nvSpPr>
          <p:spPr>
            <a:xfrm>
              <a:off x="2884320" y="516852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Muchas gracias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es humana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 de alimentación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gesta de alimentos y líquidos, uso de prótesis, mantención de higie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http://biocuidados.files.wordpress.com/2008/07/alimentos_dieta_medit.jpg"/>
          <p:cNvPicPr/>
          <p:nvPr/>
        </p:nvPicPr>
        <p:blipFill>
          <a:blip r:embed="rId1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Indicación médica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654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Identificación de necesidad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ámenes de laborato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ierro o proteín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¿Cuando se altera el estado nutricional del paciente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0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Necesidades corpor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Respuesta metabólico frente a la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osa e insulina en la san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agón          glucone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40360" y="278136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Pacientes en riesgo de mala nutri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rápida 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enfermedades cró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erimientos metabólicos aume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fermedad o cirugía capaces de interferir en la ingest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cesidad de alimentación por sonda enteral o nutrición parent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4050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Bj</cp:lastModifiedBy>
  <dcterms:modified xsi:type="dcterms:W3CDTF">2009-08-11T20:47:47Z</dcterms:modified>
  <cp:revision>19</cp:revision>
  <dc:subject/>
  <dc:title>Necesidades alimentarias del paciente hospitalizado.</dc:title>
</cp:coreProperties>
</file>