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D9B-1ABB-49D1-86DD-D87A3EBD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E99-CA15-4C36-A3D9-62476CBE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2E5-94AD-4ACD-869C-F8448637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22E-EA81-4AE8-9003-CCD40680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ADE6-83E6-438F-9513-5E1F94BF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EF80-093A-4FE3-88CB-EAEA5809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2F40-7155-4832-B911-B34B9679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AC99-FF74-4F98-BD61-72062957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DD3E-0367-40EE-9987-BC7AB49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50BA-1D9A-4567-B741-790ADE2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8DE1-2E04-467D-99C9-8D26428D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EA8-E225-4032-8987-D2A148B8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C99-C373-4789-AA85-FD92420F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5080-A7F7-49ED-855E-0EF2FDF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E6CD-1B93-417D-AF76-E808452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48A5-4CBA-4CDD-9394-2AF1E8C5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402-D769-43BC-A085-AAF09601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3EC-910C-4836-B681-C4FBD50C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ADB-52A0-4C7E-90F7-D8BA390B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EA4-70C8-42DB-88A6-DD04125E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626-B541-4D80-A091-2702E2CA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AA2-5C68-4433-8DE0-BF420B29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EDA-6316-45BF-A1E0-FA37E03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AA3-9882-4246-8F36-2B803CE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20B0-312E-46AC-8098-112F3BB7F8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4F4B-B5BD-4A9B-920F-495FD79E57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Satisfacción de necesidades de alimentación del paciente hospitalizado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08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rella Sanhueza Hidal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ferm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1873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Manifestaciones clínicas de alteraciones nutricion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tejido subcután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la cicatrización de her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el seca y escamo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cosas pálid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p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lo opaco-pajo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ua inflam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Satisfacción de la necesidad de aliment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ar estado nutricional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de ing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de perd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es de exáme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r evolución clí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r necesidad de apoyo nutri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 los gustos del enfer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l uso de prót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l sa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r degl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008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a29e"/>
                </a:solidFill>
                <a:latin typeface="Arial"/>
              </a:rPr>
              <a:t>Ingreso de un paciente a la atención pública</a:t>
            </a:r>
            <a:br>
              <a:rPr sz="4800"/>
            </a:br>
            <a:endParaRPr b="0" lang="en-US" sz="4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464000" y="443664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rella Sanhueza 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erm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29e"/>
                </a:solidFill>
                <a:latin typeface="Arial"/>
              </a:rPr>
              <a:t>Formas de hospitaliz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4000" y="1773000"/>
            <a:ext cx="8495640" cy="4028400"/>
            <a:chOff x="324000" y="1773000"/>
            <a:chExt cx="8495640" cy="4028400"/>
          </a:xfrm>
        </p:grpSpPr>
        <p:cxnSp>
          <p:nvCxnSpPr>
            <p:cNvPr id="188" name="_s35845"/>
            <p:cNvCxnSpPr>
              <a:stCxn id="189" idx="0"/>
              <a:endCxn id="190" idx="2"/>
            </p:cNvCxnSpPr>
            <p:nvPr/>
          </p:nvCxnSpPr>
          <p:spPr>
            <a:xfrm flipV="1">
              <a:off x="3964320" y="4914720"/>
              <a:ext cx="2880" cy="253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1" name="_s35846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981480" y="2636280"/>
              <a:ext cx="253440" cy="1262880"/>
            </a:xfrm>
            <a:prstGeom prst="bentConnector3">
              <a:avLst>
                <a:gd name="adj1" fmla="val 449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4" name="_s35847"/>
            <p:cNvCxnSpPr>
              <a:stCxn id="195" idx="0"/>
              <a:endCxn id="193" idx="2"/>
            </p:cNvCxnSpPr>
            <p:nvPr/>
          </p:nvCxnSpPr>
          <p:spPr>
            <a:xfrm flipH="1" flipV="1" rot="5400000">
              <a:off x="5720400" y="2637720"/>
              <a:ext cx="253440" cy="1260720"/>
            </a:xfrm>
            <a:prstGeom prst="bentConnector3">
              <a:avLst>
                <a:gd name="adj1" fmla="val 449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35848"/>
            <p:cNvCxnSpPr>
              <a:stCxn id="190" idx="0"/>
              <a:endCxn id="197" idx="2"/>
            </p:cNvCxnSpPr>
            <p:nvPr/>
          </p:nvCxnSpPr>
          <p:spPr>
            <a:xfrm flipV="1" rot="16200000">
              <a:off x="3201120" y="3517560"/>
              <a:ext cx="253440" cy="1273320"/>
            </a:xfrm>
            <a:prstGeom prst="bentConnector3">
              <a:avLst>
                <a:gd name="adj1" fmla="val 452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35849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1928520" y="3517560"/>
              <a:ext cx="253440" cy="1273680"/>
            </a:xfrm>
            <a:prstGeom prst="bentConnector3">
              <a:avLst>
                <a:gd name="adj1" fmla="val 452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0" name="_s35850"/>
            <p:cNvCxnSpPr>
              <a:stCxn id="197" idx="0"/>
              <a:endCxn id="201" idx="2"/>
            </p:cNvCxnSpPr>
            <p:nvPr/>
          </p:nvCxnSpPr>
          <p:spPr>
            <a:xfrm flipV="1">
              <a:off x="2691720" y="3141360"/>
              <a:ext cx="2880" cy="253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2" name="_s35851"/>
            <p:cNvCxnSpPr>
              <a:stCxn id="193" idx="0"/>
              <a:endCxn id="203" idx="2"/>
            </p:cNvCxnSpPr>
            <p:nvPr/>
          </p:nvCxnSpPr>
          <p:spPr>
            <a:xfrm flipV="1" rot="16200000">
              <a:off x="5398560" y="1429560"/>
              <a:ext cx="227520" cy="192996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4" name="_s35852"/>
            <p:cNvCxnSpPr>
              <a:stCxn id="201" idx="0"/>
              <a:endCxn id="203" idx="2"/>
            </p:cNvCxnSpPr>
            <p:nvPr/>
          </p:nvCxnSpPr>
          <p:spPr>
            <a:xfrm flipH="1" flipV="1" rot="5400000">
              <a:off x="3505680" y="1466280"/>
              <a:ext cx="227520" cy="185652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03" name="_s35853"/>
            <p:cNvSpPr/>
            <p:nvPr/>
          </p:nvSpPr>
          <p:spPr>
            <a:xfrm>
              <a:off x="3132720" y="1773000"/>
              <a:ext cx="283068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ersona enferm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5854"/>
            <p:cNvSpPr/>
            <p:nvPr/>
          </p:nvSpPr>
          <p:spPr>
            <a:xfrm>
              <a:off x="1609560" y="2508120"/>
              <a:ext cx="216432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sultorio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primar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35855"/>
            <p:cNvSpPr/>
            <p:nvPr/>
          </p:nvSpPr>
          <p:spPr>
            <a:xfrm>
              <a:off x="5394960" y="2508120"/>
              <a:ext cx="216432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sulta 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io de urge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5856"/>
            <p:cNvSpPr/>
            <p:nvPr/>
          </p:nvSpPr>
          <p:spPr>
            <a:xfrm>
              <a:off x="1611720" y="339516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consulta 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specialista en CD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35857"/>
            <p:cNvSpPr/>
            <p:nvPr/>
          </p:nvSpPr>
          <p:spPr>
            <a:xfrm>
              <a:off x="324000" y="4281480"/>
              <a:ext cx="21870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y posteri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trol y trata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35858"/>
            <p:cNvSpPr/>
            <p:nvPr/>
          </p:nvSpPr>
          <p:spPr>
            <a:xfrm>
              <a:off x="2871720" y="4281480"/>
              <a:ext cx="21870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rden de 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5859"/>
            <p:cNvSpPr/>
            <p:nvPr/>
          </p:nvSpPr>
          <p:spPr>
            <a:xfrm>
              <a:off x="4134960" y="3395160"/>
              <a:ext cx="216144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de urge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y posterior alt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35860"/>
            <p:cNvSpPr/>
            <p:nvPr/>
          </p:nvSpPr>
          <p:spPr>
            <a:xfrm>
              <a:off x="6657480" y="339516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icación d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5861"/>
            <p:cNvSpPr/>
            <p:nvPr/>
          </p:nvSpPr>
          <p:spPr>
            <a:xfrm>
              <a:off x="2884320" y="516852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E 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O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Muchas gracias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a29e"/>
                </a:solidFill>
                <a:latin typeface="Arial"/>
              </a:rPr>
              <a:t>Necesidades humana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1322280"/>
            <a:ext cx="7049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a29e"/>
                </a:solidFill>
                <a:latin typeface="Arial"/>
              </a:rPr>
              <a:t>Necesidad de alimentación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Necesidad de nutrientes, agua y electrolito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gesta de alimentos y líquidos, uso de prótesis, mantención de higie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http://biocuidados.files.wordpress.com/2008/07/alimentos_dieta_medit.jpg"/>
          <p:cNvPicPr/>
          <p:nvPr/>
        </p:nvPicPr>
        <p:blipFill>
          <a:blip r:embed="rId1"/>
          <a:stretch/>
        </p:blipFill>
        <p:spPr>
          <a:xfrm>
            <a:off x="2843280" y="4005360"/>
            <a:ext cx="3305160" cy="248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29e"/>
                </a:solidFill>
                <a:latin typeface="Arial"/>
              </a:rPr>
              <a:t>Indicación médica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303640" cy="224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301840" cy="22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19640" y="1773360"/>
            <a:ext cx="4824360" cy="1922760"/>
          </a:xfrm>
          <a:prstGeom prst="rect">
            <a:avLst/>
          </a:prstGeom>
          <a:noFill/>
          <a:ln w="57240">
            <a:solidFill>
              <a:srgbClr val="654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édico es quien indica el tipo de alimentación del paciente diariamente, y la nutricionista decide como cumplir esa ind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29e"/>
                </a:solidFill>
                <a:latin typeface="Arial"/>
              </a:rPr>
              <a:t>Identificación de necesidades nutricion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blecer patrón nutricional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storia clí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storia dieté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ación fí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ámenes de laboratori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ierro o proteín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1916280"/>
            <a:ext cx="1684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¿Cuando se altera el estado nutricional del paciente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esta superior a las necesidades corpo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esta inferior a las necesidades corpo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esgo de desnutri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0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29e"/>
                </a:solidFill>
                <a:latin typeface="Arial"/>
              </a:rPr>
              <a:t>Necesidades corpor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tabolismo ba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tuaciones clínicas que vive el pac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gasto energético de la actividad fí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0275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Respuesta metabólico frente a la hospitaliz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3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ahoma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veles de glucosa e insulina en la san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veles de glucagón          glucone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ahoma"/>
              </a:rPr>
              <a:t>Estrés fis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va consumo de oxigeno y ener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40360" y="278136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Pacientes en riesgo de mala nutri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ientes con rápida perdida de 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ientes con enfermedades crón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querimientos metabólicos aumen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fermedad o cirugía capaces de interferir en la ingesta de ali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cesidad de alimentación por sonda enteral o nutrición parent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88000" y="4653000"/>
            <a:ext cx="14050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5:25:25Z</dcterms:created>
  <dc:creator>Claudio Borel Baeza</dc:creator>
  <dc:description/>
  <dc:language>en-US</dc:language>
  <cp:lastModifiedBy>Bj</cp:lastModifiedBy>
  <dcterms:modified xsi:type="dcterms:W3CDTF">2009-08-11T20:47:47Z</dcterms:modified>
  <cp:revision>19</cp:revision>
  <dc:subject/>
  <dc:title>Necesidades alimentarias del paciente hospitalizado.</dc:title>
</cp:coreProperties>
</file>