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070-291B-4D69-89CC-1DF811F0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D2D-3839-490C-959B-62F14893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740-1904-457A-BAB8-E771CB4A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78A-919C-4992-9E7E-C7EBD21B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A3B7-D03D-42EF-84F3-CE978D06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AFE2-65D3-49A1-B1E2-30A5C523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45B3-D0D1-41E1-A29E-1C1A3A89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C625-644E-4E17-B735-7A22BB7D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2D28-B908-4EDB-B5EE-81548E86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C477-2DEB-49C6-8EC1-C843F2D2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84CD-4A03-4A3F-B09E-EC5A3CC7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53F-DCC2-4293-ABCF-B16B3093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7439-3040-41C5-AE47-C02B69C8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8342-39F9-4C8B-A766-E7F9E31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9A2A-0444-4624-B749-2EC5CE67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A045-FA63-4D2D-B670-3AE6C8B8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4F17-4FA5-4603-A063-08B106A2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005-91A5-483E-8F00-F391B5A9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896-E3D4-4409-8EDC-675F7CF3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726-4B53-49ED-809D-DC0F16AF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285-507A-4257-AD9F-72A06D1C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C10-879F-4FDD-AFC1-87375DD5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310-C845-42E7-8172-5A47BE33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955-0E31-41F3-ADE4-1A894464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AA6F-2B87-4BB9-92B4-A3FF79F104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6DA7-B291-405B-8721-15354FAADF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Satisfacción de necesidades de alimentación del paciente hospitalizado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08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rella Sanhueza Hidal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ferm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1873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Manifestaciones clínicas de alteraciones nutricion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tejido subcután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la cicatrización de her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el seca y escamo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cosas pálid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dida de p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lo opaco-pajo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ua inflam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Satisfacción de la necesidad de aliment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ar estado nutricional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 de ing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 de perd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oles de exáme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r evolución clí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r necesidad de apoyo nutri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 los gustos del enfer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l uso de prót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ocuparse del sa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r degl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30088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a29e"/>
                </a:solidFill>
                <a:latin typeface="Arial"/>
              </a:rPr>
              <a:t>Ingreso de un paciente a la atención pública</a:t>
            </a:r>
            <a:br>
              <a:rPr sz="4800"/>
            </a:br>
            <a:endParaRPr b="0" lang="en-US" sz="4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464000" y="443664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rella Sanhueza 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erm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29e"/>
                </a:solidFill>
                <a:latin typeface="Arial"/>
              </a:rPr>
              <a:t>Formas de hospitaliz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4000" y="1773000"/>
            <a:ext cx="8495640" cy="4028400"/>
            <a:chOff x="324000" y="1773000"/>
            <a:chExt cx="8495640" cy="4028400"/>
          </a:xfrm>
        </p:grpSpPr>
        <p:cxnSp>
          <p:nvCxnSpPr>
            <p:cNvPr id="188" name="_s35845"/>
            <p:cNvCxnSpPr>
              <a:stCxn id="189" idx="0"/>
              <a:endCxn id="190" idx="2"/>
            </p:cNvCxnSpPr>
            <p:nvPr/>
          </p:nvCxnSpPr>
          <p:spPr>
            <a:xfrm flipV="1">
              <a:off x="3964320" y="4914720"/>
              <a:ext cx="2880" cy="253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1" name="_s35846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981480" y="2636280"/>
              <a:ext cx="253440" cy="1262880"/>
            </a:xfrm>
            <a:prstGeom prst="bentConnector3">
              <a:avLst>
                <a:gd name="adj1" fmla="val 449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4" name="_s35847"/>
            <p:cNvCxnSpPr>
              <a:stCxn id="195" idx="0"/>
              <a:endCxn id="193" idx="2"/>
            </p:cNvCxnSpPr>
            <p:nvPr/>
          </p:nvCxnSpPr>
          <p:spPr>
            <a:xfrm flipH="1" flipV="1" rot="5400000">
              <a:off x="5720400" y="2637720"/>
              <a:ext cx="253440" cy="1260720"/>
            </a:xfrm>
            <a:prstGeom prst="bentConnector3">
              <a:avLst>
                <a:gd name="adj1" fmla="val 449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6" name="_s35848"/>
            <p:cNvCxnSpPr>
              <a:stCxn id="190" idx="0"/>
              <a:endCxn id="197" idx="2"/>
            </p:cNvCxnSpPr>
            <p:nvPr/>
          </p:nvCxnSpPr>
          <p:spPr>
            <a:xfrm flipV="1" rot="16200000">
              <a:off x="3201120" y="3517560"/>
              <a:ext cx="253440" cy="1273320"/>
            </a:xfrm>
            <a:prstGeom prst="bentConnector3">
              <a:avLst>
                <a:gd name="adj1" fmla="val 452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8" name="_s35849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1928520" y="3517560"/>
              <a:ext cx="253440" cy="1273680"/>
            </a:xfrm>
            <a:prstGeom prst="bentConnector3">
              <a:avLst>
                <a:gd name="adj1" fmla="val 4523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0" name="_s35850"/>
            <p:cNvCxnSpPr>
              <a:stCxn id="197" idx="0"/>
              <a:endCxn id="201" idx="2"/>
            </p:cNvCxnSpPr>
            <p:nvPr/>
          </p:nvCxnSpPr>
          <p:spPr>
            <a:xfrm flipV="1">
              <a:off x="2691720" y="3141360"/>
              <a:ext cx="2880" cy="253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2" name="_s35851"/>
            <p:cNvCxnSpPr>
              <a:stCxn id="193" idx="0"/>
              <a:endCxn id="203" idx="2"/>
            </p:cNvCxnSpPr>
            <p:nvPr/>
          </p:nvCxnSpPr>
          <p:spPr>
            <a:xfrm flipV="1" rot="16200000">
              <a:off x="5398560" y="1429560"/>
              <a:ext cx="227520" cy="192996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04" name="_s35852"/>
            <p:cNvCxnSpPr>
              <a:stCxn id="201" idx="0"/>
              <a:endCxn id="203" idx="2"/>
            </p:cNvCxnSpPr>
            <p:nvPr/>
          </p:nvCxnSpPr>
          <p:spPr>
            <a:xfrm flipH="1" flipV="1" rot="5400000">
              <a:off x="3505680" y="1466280"/>
              <a:ext cx="227520" cy="185652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03" name="_s35853"/>
            <p:cNvSpPr/>
            <p:nvPr/>
          </p:nvSpPr>
          <p:spPr>
            <a:xfrm>
              <a:off x="3132720" y="1773000"/>
              <a:ext cx="2830680" cy="50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ersona enferm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5854"/>
            <p:cNvSpPr/>
            <p:nvPr/>
          </p:nvSpPr>
          <p:spPr>
            <a:xfrm>
              <a:off x="1609560" y="2508120"/>
              <a:ext cx="216432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sultorio 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primar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35855"/>
            <p:cNvSpPr/>
            <p:nvPr/>
          </p:nvSpPr>
          <p:spPr>
            <a:xfrm>
              <a:off x="5394960" y="2508120"/>
              <a:ext cx="216432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sulta 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io de urge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35856"/>
            <p:cNvSpPr/>
            <p:nvPr/>
          </p:nvSpPr>
          <p:spPr>
            <a:xfrm>
              <a:off x="1611720" y="339516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consulta 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specialista en CD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35857"/>
            <p:cNvSpPr/>
            <p:nvPr/>
          </p:nvSpPr>
          <p:spPr>
            <a:xfrm>
              <a:off x="324000" y="4281480"/>
              <a:ext cx="218700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y posteri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trol y trata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35858"/>
            <p:cNvSpPr/>
            <p:nvPr/>
          </p:nvSpPr>
          <p:spPr>
            <a:xfrm>
              <a:off x="2871720" y="4281480"/>
              <a:ext cx="218700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rden de 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5859"/>
            <p:cNvSpPr/>
            <p:nvPr/>
          </p:nvSpPr>
          <p:spPr>
            <a:xfrm>
              <a:off x="4134960" y="3395160"/>
              <a:ext cx="216144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ención de urge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y posterior alt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35860"/>
            <p:cNvSpPr/>
            <p:nvPr/>
          </p:nvSpPr>
          <p:spPr>
            <a:xfrm>
              <a:off x="6657480" y="339516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icación d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5861"/>
            <p:cNvSpPr/>
            <p:nvPr/>
          </p:nvSpPr>
          <p:spPr>
            <a:xfrm>
              <a:off x="2884320" y="5168520"/>
              <a:ext cx="2162160" cy="63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E hospitaliz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OM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Muchas gracias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a29e"/>
                </a:solidFill>
                <a:latin typeface="Arial"/>
              </a:rPr>
              <a:t>Necesidades humanas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1322280"/>
            <a:ext cx="70498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a29e"/>
                </a:solidFill>
                <a:latin typeface="Arial"/>
              </a:rPr>
              <a:t>Necesidad de alimentación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Necesidad de nutrientes, agua y electrolito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Ingesta de alimentos y líquidos, uso de prótesis, mantención de higie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http://biocuidados.files.wordpress.com/2008/07/alimentos_dieta_medit.jpg"/>
          <p:cNvPicPr/>
          <p:nvPr/>
        </p:nvPicPr>
        <p:blipFill>
          <a:blip r:embed="rId1"/>
          <a:stretch/>
        </p:blipFill>
        <p:spPr>
          <a:xfrm>
            <a:off x="2843280" y="4005360"/>
            <a:ext cx="3305160" cy="248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29e"/>
                </a:solidFill>
                <a:latin typeface="Arial"/>
              </a:rPr>
              <a:t>Indicación médica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2303640" cy="224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301840" cy="22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19640" y="1773360"/>
            <a:ext cx="4824360" cy="1922760"/>
          </a:xfrm>
          <a:prstGeom prst="rect">
            <a:avLst/>
          </a:prstGeom>
          <a:noFill/>
          <a:ln w="57240">
            <a:solidFill>
              <a:srgbClr val="6549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édico es quien indica el tipo de alimentación del paciente diariamente, y la nutricionista decide como cumplir esa ind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29e"/>
                </a:solidFill>
                <a:latin typeface="Arial"/>
              </a:rPr>
              <a:t>Identificación de necesidades nutricion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ablecer patrón nutricional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storia clí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istoria dieté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ración fí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ámenes de laboratori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ierro o proteín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43640" y="1916280"/>
            <a:ext cx="168444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¿Cuando se altera el estado nutricional del paciente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gesta superior a las necesidades corpo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gesta inferior a las necesidades corpo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iesgo de desnutri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12000" y="4005360"/>
            <a:ext cx="20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a29e"/>
                </a:solidFill>
                <a:latin typeface="Arial"/>
              </a:rPr>
              <a:t>Necesidades corporales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tabolismo ba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tuaciones clínicas que vive el pac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gasto energético de la actividad fí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20275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Respuesta metabólico frente a la hospitaliza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3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ahoma"/>
              </a:rPr>
              <a:t>Ayuno prolong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veles de glucosa e insulina en la san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veles de glucagón          gluconeogén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ahoma"/>
              </a:rPr>
              <a:t>Estrés fisioló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eva consumo de oxigeno y ener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232000" cy="167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140360" y="2781360"/>
            <a:ext cx="502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29e"/>
                </a:solidFill>
                <a:latin typeface="Arial"/>
              </a:rPr>
              <a:t>Pacientes en riesgo de mala nutrición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ientes con rápida perdida de p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cientes con enfermedades crón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querimientos metabólicos aumen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fermedad o cirugía capaces de interferir en la ingesta de alime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072b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cesidad de alimentación por sonda enteral o nutrición parente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588000" y="4653000"/>
            <a:ext cx="14050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5:25:25Z</dcterms:created>
  <dc:creator>Claudio Borel Baeza</dc:creator>
  <dc:description/>
  <dc:language>en-US</dc:language>
  <cp:lastModifiedBy>Bj</cp:lastModifiedBy>
  <dcterms:modified xsi:type="dcterms:W3CDTF">2009-08-11T20:47:47Z</dcterms:modified>
  <cp:revision>19</cp:revision>
  <dc:subject/>
  <dc:title>Necesidades alimentarias del paciente hospitalizado.</dc:title>
</cp:coreProperties>
</file>