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5.png" ContentType="image/png"/>
  <Override PartName="/ppt/media/image6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wmf" ContentType="image/x-wmf"/>
  <Override PartName="/ppt/media/image9.jpeg" ContentType="image/jpeg"/>
  <Override PartName="/ppt/media/image23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1C1-5852-48AB-9AF9-CD4BACC2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A7E-0865-4694-843E-01C4A0D7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3A3-52EF-4FC2-92DD-A712C160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2C4-295A-4726-96BA-BCB48E7C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5782-378E-4D39-A5CA-C45131FC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5660-8391-4885-B73B-9CDA66EB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6EC2-AD13-4F05-9D82-C571194B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E8DE-6E00-4416-8B0F-F78C5064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C9DB-0410-4637-9518-2E37FB9B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FC0B-FF1E-4583-9C0F-309F6676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B7AA-635A-49E2-B71B-593C4654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EE2-B90A-4286-B31C-DC1E9447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FC34-9139-4301-98AD-64AB14F3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85CE-1BBF-4272-8337-A5AC9835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EF71-1F31-4C98-8605-80061642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B4C6-C34C-492C-8AB3-05C5C9A5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529A-4ADE-4DBD-83E0-3C49D69C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914-D3BB-496C-9664-0FC353C9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0A70-958E-41AB-82CA-53D4D5E8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199-CF03-448B-9159-3BB194EF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C0A-633B-4FEA-9A16-379D16E0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EC1-D0C2-4F5B-8078-E9F2FC22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28A-314C-4363-A26F-3090F2A6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FE0-7606-4328-9B8F-1DB68755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556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55663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55663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cc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56636"/>
                        </a:solidFill>
                        <a:ln w="9360">
                          <a:solidFill>
                            <a:srgbClr val="55663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5566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038B-786F-4902-91C1-A247520D0781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9933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d9d4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556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55663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55663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cc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56636"/>
                        </a:solidFill>
                        <a:ln w="9360">
                          <a:solidFill>
                            <a:srgbClr val="55663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5566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bad38d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0215-8BC7-49B2-87E6-E90AC73967D2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9933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d9d4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ospitalcruces.com/salud/movilizaciondelpaciente.htm#up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2.bp.blogspot.com/_kNvjIGlOFRo/Seorx5n2tpI/AAAAAAAAAEQ/e8yLo9QtRSQ/s1600-h/Dibujo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d38d"/>
                </a:solidFill>
                <a:latin typeface="Arial"/>
              </a:rPr>
              <a:t>Movilización y cuidados del paciente hospitalizado</a:t>
            </a:r>
            <a:endParaRPr b="0" lang="en-US" sz="36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124000" y="465264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Mirella Sanhueza H.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nfermera.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38d"/>
                </a:solidFill>
                <a:latin typeface="Arial"/>
              </a:rPr>
              <a:t>Movilización y cuidados  del paciente hospitalizado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55" name="" descr="Información útil paciente y usuario"/>
          <p:cNvPicPr/>
          <p:nvPr/>
        </p:nvPicPr>
        <p:blipFill>
          <a:blip r:embed="rId1"/>
          <a:stretch/>
        </p:blipFill>
        <p:spPr>
          <a:xfrm>
            <a:off x="2627280" y="2349360"/>
            <a:ext cx="4249800" cy="3648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Movilización y cuidados  del paciente hospitalizado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a  movilización es un procedimiento que se emplea en enfermos encamados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Está determinado por el estado de salud del paciente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288120" cy="4707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38d"/>
                </a:solidFill>
                <a:latin typeface="Arial"/>
              </a:rPr>
              <a:t>Consideraciones previas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Consideraciones previas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as limitaciones o incapacidad de movilización del paciente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ipo de movilización que requiere y personas necesarias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Permitir y estimular la cooperación de la persona cuando es factible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Proteger conexiones: sondas, drenajes, colectores, etc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Objetivos del cambio de posición o movilización en cama: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roporcionar comodidad al paciente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revenir úlceras de decúbito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ntribuir en la prevención de flebotrombosis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Favorecer la movilización y eliminación de secreciones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d38d"/>
                </a:solidFill>
                <a:latin typeface="Arial"/>
              </a:rPr>
              <a:t>Colocación de la "chata"</a:t>
            </a:r>
            <a:endParaRPr b="0" lang="en-US" sz="40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132000" y="4365720"/>
            <a:ext cx="2160720" cy="172872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2543400" cy="163044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859280" y="2276640"/>
            <a:ext cx="2158920" cy="154440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d38d"/>
                </a:solidFill>
                <a:latin typeface="Arial"/>
              </a:rPr>
              <a:t>Subir hacia la cabecera de la cama </a:t>
            </a:r>
            <a:endParaRPr b="0" lang="en-US" sz="40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619280" y="1744560"/>
            <a:ext cx="2521080" cy="203220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5580000" y="3716280"/>
            <a:ext cx="2592360" cy="199404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Giro o volteo lateral 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2592720" cy="199368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219640" y="3860640"/>
            <a:ext cx="2881440" cy="213372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ad38d"/>
                </a:solidFill>
                <a:latin typeface="Arial"/>
              </a:rPr>
              <a:t>Sentarse al borde de la cama</a:t>
            </a:r>
            <a:r>
              <a:rPr b="0" lang="en-US" sz="4000" spc="-1" strike="noStrike" u="sng">
                <a:solidFill>
                  <a:srgbClr val="339933"/>
                </a:solidFill>
                <a:uFillTx/>
                <a:latin typeface="Arial"/>
                <a:hlinkClick r:id="rId1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2808360" cy="226368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076720" y="3500280"/>
            <a:ext cx="2448000" cy="226548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Traslado de la cama a la silla 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403280" y="1855800"/>
            <a:ext cx="2521080" cy="219060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435640" y="3446640"/>
            <a:ext cx="2736720" cy="230004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bad38d"/>
                </a:solidFill>
                <a:latin typeface="Arial"/>
              </a:rPr>
              <a:t>Atención del paciente hospitalizado</a:t>
            </a:r>
            <a:endParaRPr b="0" lang="en-US" sz="36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3141360"/>
            <a:ext cx="83516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Cada usuario es un ser individual, con características  tan diversas y variadas como son las personas, sus familias o comunidades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Cada uno de ellos tendrá diversos problemas de salud que debemos identificar en un todo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132000" y="1486080"/>
            <a:ext cx="26798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Levantarse de una silla 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2974680" cy="236052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042920" y="244440"/>
            <a:ext cx="7129440" cy="643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Enfermería básica y satisfacción de necesidades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35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Necesidades biológica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(oxígeno, nutrientes, eliminación, higiene,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emperatura, reposo y sueño)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Necesidades Psicosociales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(pertenencia, seguridad, limpieza, comunicación,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etc.)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Enfermería Básica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uidados de higiene corporal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uidados matutino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uidados vespertinos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Baños en cama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Baño en tina o ducha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iene bucal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avado de cabeza en cama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Rasurado de barba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iene genital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avado de manos y pies - recorte de uñas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156360" y="2133720"/>
            <a:ext cx="24480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2571840" cy="204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2562120" cy="20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2590920" cy="199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5292720" y="4005360"/>
            <a:ext cx="2616120" cy="194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38d"/>
                </a:solidFill>
                <a:latin typeface="Arial"/>
              </a:rPr>
              <a:t>Baño en cama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195640" y="1343160"/>
            <a:ext cx="5040360" cy="50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Lavado de pelo en cama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Lavado de pies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403280" y="1849320"/>
            <a:ext cx="6264360" cy="398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921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Mi cuidado de enfermería</a:t>
            </a:r>
            <a:br>
              <a:rPr sz="4400"/>
            </a:b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 debo registrarlo siempre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773360"/>
            <a:ext cx="3960720" cy="46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IMPORTANCIA DE LOS REGISTROS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I NO ESTÁ ESCRITO, NO ESTÁ HECHO”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EGAL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JUDICIAL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DICACIÓN CONSIGNADA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CIÓN REALIZADA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PARAMETROS Y VALORE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804000" y="3645000"/>
            <a:ext cx="12700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6:53:42Z</dcterms:created>
  <dc:creator>Bj</dc:creator>
  <dc:description/>
  <dc:language>en-US</dc:language>
  <cp:lastModifiedBy>Bj</cp:lastModifiedBy>
  <dcterms:modified xsi:type="dcterms:W3CDTF">2009-08-11T21:47:54Z</dcterms:modified>
  <cp:revision>16</cp:revision>
  <dc:subject/>
  <dc:title>Ingreso de un paciente a la atención pública </dc:title>
</cp:coreProperties>
</file>