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wmf" ContentType="image/x-wmf"/>
  <Override PartName="/ppt/media/image9.jpeg" ContentType="image/jpeg"/>
  <Override PartName="/ppt/media/image23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DA5-38F7-4D96-979D-83A87790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884-3B0D-4993-BB1B-E8608FB2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531-2C43-4704-AF15-F29E08EA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D2D-72AC-4B35-BCD7-91CB3338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40B7-580D-4E7C-8435-7C07B4D7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8A4E-770C-4C07-818A-E57421C4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D813-24A5-474B-BDB8-C7B455D3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EFB5-FE8B-4C0F-B3F1-B8BB2F5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BD20-185A-4394-8E24-99858138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C2DC-22B7-40B5-86DA-57906E50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CA84-C5D4-4F5E-A892-417D035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FD9-054B-4B6C-B1B8-28110B8E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8453-D2C7-4874-8FA3-C410DA7E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DF5E-A2A3-4D50-9E81-DCF07669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5925-B07A-41B8-84BD-7A47C560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B652-7FB2-4A2B-9FE2-BB973708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40A6-5D9E-48A5-9669-5628C371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6E1-E6F0-419A-B85B-D77A2317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1D1-C81A-4565-9BB2-02B9EEDE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624-D066-4C32-96FB-E0D99776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770-7559-4863-8F0E-A0A8E6D1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527-1638-4224-B006-3A6D2C7E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298-D49C-4296-8E4A-0724270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9E5-EEAF-4166-B6B9-CB42E01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342E-C0E0-4715-B488-8695E6A30FE1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BEE-9AE7-4D3C-B8A4-CA8448B2ED7C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ospitalcruces.com/salud/movilizaciondelpaciente.htm#up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.bp.blogspot.com/_kNvjIGlOFRo/Seorx5n2tpI/AAAAAAAAAEQ/e8yLo9QtRSQ/s1600-h/Dibujo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d38d"/>
                </a:solidFill>
                <a:latin typeface="Arial"/>
              </a:rPr>
              <a:t>Movilización y cuidados del paciente hospitalizado</a:t>
            </a:r>
            <a:endParaRPr b="0" lang="en-US" sz="36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124000" y="465264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Mirella Sanhueza H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nfermera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38d"/>
                </a:solidFill>
                <a:latin typeface="Arial"/>
              </a:rPr>
              <a:t>Movilización y cuidados  del paciente hospitalizado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55" name="" descr="Información útil paciente y usuario"/>
          <p:cNvPicPr/>
          <p:nvPr/>
        </p:nvPicPr>
        <p:blipFill>
          <a:blip r:embed="rId1"/>
          <a:stretch/>
        </p:blipFill>
        <p:spPr>
          <a:xfrm>
            <a:off x="2627280" y="2349360"/>
            <a:ext cx="4249800" cy="364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Movilización y cuidados  del paciente hospitalizado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  movilización es un procedimiento que se emplea en enfermos encamados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Está determinado por el estado de salud del paciente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288120" cy="4707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38d"/>
                </a:solidFill>
                <a:latin typeface="Arial"/>
              </a:rPr>
              <a:t>Consideraciones previas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Consideraciones previas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s limitaciones o incapacidad de movilización del paciente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ipo de movilización que requiere y personas necesaria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Permitir y estimular la cooperación de la persona cuando es factible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Proteger conexiones: sondas, drenajes, colectores, etc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Objetivos del cambio de posición o movilización en cama: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roporcionar comodidad al paciente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revenir úlceras de decúbit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ntribuir en la prevención de flebotrombosi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avorecer la movilización y eliminación de secrecione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d38d"/>
                </a:solidFill>
                <a:latin typeface="Arial"/>
              </a:rPr>
              <a:t>Colocación de la "chata"</a:t>
            </a:r>
            <a:endParaRPr b="0" lang="en-US" sz="40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132000" y="4365720"/>
            <a:ext cx="2160720" cy="172872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543400" cy="163044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859280" y="2276640"/>
            <a:ext cx="2158920" cy="154440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d38d"/>
                </a:solidFill>
                <a:latin typeface="Arial"/>
              </a:rPr>
              <a:t>Subir hacia la cabecera de la cama </a:t>
            </a:r>
            <a:endParaRPr b="0" lang="en-US" sz="40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619280" y="1744560"/>
            <a:ext cx="2521080" cy="203220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580000" y="3716280"/>
            <a:ext cx="2592360" cy="199404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Giro o volteo lateral 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2592720" cy="199368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2881440" cy="213372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ad38d"/>
                </a:solidFill>
                <a:latin typeface="Arial"/>
              </a:rPr>
              <a:t>Sentarse al borde de la cama</a:t>
            </a:r>
            <a:r>
              <a:rPr b="0" lang="en-US" sz="4000" spc="-1" strike="noStrike" u="sng">
                <a:solidFill>
                  <a:srgbClr val="339933"/>
                </a:solidFill>
                <a:uFillTx/>
                <a:latin typeface="Arial"/>
                <a:hlinkClick r:id="rId1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2808360" cy="226368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076720" y="3500280"/>
            <a:ext cx="2448000" cy="226548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Traslado de la cama a la silla 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403280" y="1855800"/>
            <a:ext cx="2521080" cy="219060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435640" y="3446640"/>
            <a:ext cx="2736720" cy="230004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bad38d"/>
                </a:solidFill>
                <a:latin typeface="Arial"/>
              </a:rPr>
              <a:t>Atención del paciente hospitalizado</a:t>
            </a:r>
            <a:endParaRPr b="0" lang="en-US" sz="36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3141360"/>
            <a:ext cx="83516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Cada usuario es un ser individual, con características  tan diversas y variadas como son las personas, sus familias o comunidade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Cada uno de ellos tendrá diversos problemas de salud que debemos identificar en un tod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132000" y="1486080"/>
            <a:ext cx="26798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Levantarse de una silla 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2974680" cy="236052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042920" y="244440"/>
            <a:ext cx="7129440" cy="643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Enfermería básica y satisfacción de necesidades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Necesidades biológica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(oxígeno, nutrientes, eliminación, higiene,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emperatura, reposo y sueño)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Necesidades Psicosociale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(pertenencia, seguridad, limpieza, comunicación,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etc.)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Enfermería Básica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uidados de higiene corpora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uidados matutino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uidados vespertino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Baños en cama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Baño en tina o duch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iene bucal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vado de cabeza en cam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Rasurado de barb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iene genital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vado de manos y pies - recorte de uña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156360" y="2133720"/>
            <a:ext cx="2448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5718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56212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59092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5292720" y="4005360"/>
            <a:ext cx="2616120" cy="194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38d"/>
                </a:solidFill>
                <a:latin typeface="Arial"/>
              </a:rPr>
              <a:t>Baño en cama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195640" y="1343160"/>
            <a:ext cx="5040360" cy="50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Lavado de pelo en cama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Lavado de pies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03280" y="1849320"/>
            <a:ext cx="6264360" cy="39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21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Mi cuidado de enfermería</a:t>
            </a:r>
            <a:br>
              <a:rPr sz="4400"/>
            </a:b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 debo registrarlo siempre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773360"/>
            <a:ext cx="396072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IMPORTANCIA DE LOS REGISTROS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I NO ESTÁ ESCRITO, NO ESTÁ HECHO”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GA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JUDICIA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DICACIÓN CONSIGNADA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CIÓN REALIZADA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PARAMETROS Y VALOR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804000" y="3645000"/>
            <a:ext cx="1270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6:53:42Z</dcterms:created>
  <dc:creator>Bj</dc:creator>
  <dc:description/>
  <dc:language>en-US</dc:language>
  <cp:lastModifiedBy>Bj</cp:lastModifiedBy>
  <dcterms:modified xsi:type="dcterms:W3CDTF">2009-08-11T21:47:54Z</dcterms:modified>
  <cp:revision>16</cp:revision>
  <dc:subject/>
  <dc:title>Ingreso de un paciente a la atención pública </dc:title>
</cp:coreProperties>
</file>