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10.wmf" ContentType="image/x-wmf"/>
  <Override PartName="/ppt/media/image25.png" ContentType="image/png"/>
  <Override PartName="/ppt/media/image6.png" ContentType="image/png"/>
  <Override PartName="/ppt/media/image5.png" ContentType="image/png"/>
  <Override PartName="/ppt/media/image13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.wmf" ContentType="image/x-wmf"/>
  <Override PartName="/ppt/media/image9.jpeg" ContentType="image/jpeg"/>
  <Override PartName="/ppt/media/image23.jpeg" ContentType="image/jpeg"/>
  <Override PartName="/ppt/media/image2.wmf" ContentType="image/x-wmf"/>
  <Override PartName="/ppt/media/image3.png" ContentType="image/png"/>
  <Override PartName="/ppt/media/image17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03AF-94BD-4AF2-8525-000F1394B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E481-152C-43BB-AD96-75D98704C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65E0-36D7-4669-ADC5-B330B11DB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CECC-7418-4049-914A-01357C2AE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E47BA-0527-4D1F-B505-8D6AEEC74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4C8DF-2E76-42C7-995A-23703FF25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6F1F2-80AE-4074-B368-56E29C091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0D1B8-ED5F-42B8-BBCC-3976ECF7E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2DFE4-C031-44E9-84DC-D3BBEE64B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78040-CC29-4B96-B1F9-7EC6A6943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4235D-F02D-4A4C-8D5A-A8843FBC8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562A-854A-486F-A5B3-B80D1B667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3AD25-8433-4B71-9E71-FF8FAF34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4F8E9-EFB1-451D-AF1B-8703BB5F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DC421-3A51-41FA-9E2B-B12896B9A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4AD41-8EAE-4C7C-8B53-4847ABB6F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3AB83-DBA6-49CD-8BF0-BBB3B1861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158B-735C-4E29-8608-998A3C970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9865-67B6-40B2-BAB2-76F8732DB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8BA4-BAEC-4802-81E5-DC528F32C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8CA0-D990-467C-84D2-D02C4B460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EB61-FAD4-4865-A9A4-786B0BCD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C68D-CC4C-4E7E-A280-451EC56B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CA33-F88B-45EA-99AB-5F5491E8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361c"/>
            </a:gs>
            <a:gs pos="100000">
              <a:srgbClr val="55663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55663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55663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55663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55663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55663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55663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cc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56636"/>
                        </a:solidFill>
                        <a:ln w="9360">
                          <a:solidFill>
                            <a:srgbClr val="556636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5663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cc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5663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cc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5663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cc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5663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cc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5663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cc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5663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cc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5663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cc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5663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cc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5663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cc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5663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cc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5663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cc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5663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cc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55663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55663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5566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55663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5566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5566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5566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5566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5566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5566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5566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556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556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556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556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556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556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56636"/>
                    </a:gs>
                    <a:gs pos="100000">
                      <a:srgbClr val="6e7c5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56636"/>
                    </a:gs>
                    <a:gs pos="100000">
                      <a:srgbClr val="6e7c5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56636"/>
                    </a:gs>
                    <a:gs pos="100000">
                      <a:srgbClr val="6e7c5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56636"/>
                    </a:gs>
                    <a:gs pos="100000">
                      <a:srgbClr val="6e7c5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56636"/>
                    </a:gs>
                    <a:gs pos="100000">
                      <a:srgbClr val="6e7c5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cc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cc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cc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6384E-133F-4BEF-AA66-B181FB449B49}" type="slidenum">
              <a:rPr b="0" lang="en-US" sz="12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38d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339933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d9d4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ad3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361c"/>
            </a:gs>
            <a:gs pos="100000">
              <a:srgbClr val="55663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55663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55663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55663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55663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55663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55663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cc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56636"/>
                        </a:solidFill>
                        <a:ln w="9360">
                          <a:solidFill>
                            <a:srgbClr val="556636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5663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cc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5663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cc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5663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cc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5663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cc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5663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cc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5663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cc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5663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cc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5663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cc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5663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cc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5663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cc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5663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cc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5663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cc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cc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55663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55663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5566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55663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5566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5566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5566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5566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5566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5566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5566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556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556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556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556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556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556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56636"/>
                    </a:gs>
                    <a:gs pos="100000">
                      <a:srgbClr val="6e7c5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56636"/>
                    </a:gs>
                    <a:gs pos="100000">
                      <a:srgbClr val="6e7c5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56636"/>
                    </a:gs>
                    <a:gs pos="100000">
                      <a:srgbClr val="6e7c5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56636"/>
                    </a:gs>
                    <a:gs pos="100000">
                      <a:srgbClr val="6e7c5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56636"/>
                    </a:gs>
                    <a:gs pos="100000">
                      <a:srgbClr val="6e7c5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bad38d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cc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cc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cc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1EF14-28B9-43A1-BC80-4C87A7B1457E}" type="slidenum">
              <a:rPr b="0" lang="en-US" sz="12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339933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d9d400"/>
              </a:buClr>
              <a:buSzPct val="6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hospitalcruces.com/salud/movilizaciondelpaciente.htm#up" TargetMode="External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2.bp.blogspot.com/_kNvjIGlOFRo/Seorx5n2tpI/AAAAAAAAAEQ/e8yLo9QtRSQ/s1600-h/Dibujo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361c"/>
            </a:gs>
            <a:gs pos="100000">
              <a:srgbClr val="55663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ad38d"/>
                </a:solidFill>
                <a:latin typeface="Arial"/>
              </a:rPr>
              <a:t>Movilización y cuidados del paciente hospitalizado</a:t>
            </a:r>
            <a:endParaRPr b="0" lang="en-US" sz="36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2124000" y="4652640"/>
            <a:ext cx="6400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Mirella Sanhueza H.</a:t>
            </a: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nfermera.</a:t>
            </a: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361c"/>
            </a:gs>
            <a:gs pos="100000">
              <a:srgbClr val="55663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ad38d"/>
                </a:solidFill>
                <a:latin typeface="Arial"/>
              </a:rPr>
              <a:t>Movilización y cuidados  del paciente hospitalizado</a:t>
            </a: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  <p:pic>
        <p:nvPicPr>
          <p:cNvPr id="355" name="" descr="Información útil paciente y usuario"/>
          <p:cNvPicPr/>
          <p:nvPr/>
        </p:nvPicPr>
        <p:blipFill>
          <a:blip r:embed="rId1"/>
          <a:stretch/>
        </p:blipFill>
        <p:spPr>
          <a:xfrm>
            <a:off x="2627280" y="2349360"/>
            <a:ext cx="4249800" cy="36482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361c"/>
            </a:gs>
            <a:gs pos="100000">
              <a:srgbClr val="55663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ad38d"/>
                </a:solidFill>
                <a:latin typeface="Arial"/>
              </a:rPr>
              <a:t>Movilización y cuidados  del paciente hospitalizado</a:t>
            </a:r>
            <a:endParaRPr b="0" lang="en-US" sz="28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68360" y="242100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ad38d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La  movilización es un procedimiento que se emplea en enfermos encamados. 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ad38d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Está determinado por el estado de salud del paciente. 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361c"/>
            </a:gs>
            <a:gs pos="100000">
              <a:srgbClr val="55663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6288120" cy="4707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ad38d"/>
                </a:solidFill>
                <a:latin typeface="Arial"/>
              </a:rPr>
              <a:t>Consideraciones previas</a:t>
            </a: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361c"/>
            </a:gs>
            <a:gs pos="100000">
              <a:srgbClr val="55663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ad38d"/>
                </a:solidFill>
                <a:latin typeface="Arial"/>
              </a:rPr>
              <a:t>Consideraciones previas</a:t>
            </a:r>
            <a:endParaRPr b="0" lang="en-US" sz="28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ad38d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Las limitaciones o incapacidad de movilización del paciente.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ad38d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Tipo de movilización que requiere y personas necesarias.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ad38d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Permitir y estimular la cooperación de la persona cuando es factible.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ad38d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Proteger conexiones: sondas, drenajes, colectores, etc.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361c"/>
            </a:gs>
            <a:gs pos="100000">
              <a:srgbClr val="55663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ad38d"/>
                </a:solidFill>
                <a:latin typeface="Arial"/>
              </a:rPr>
              <a:t>Objetivos del cambio de posición o movilización en cama:</a:t>
            </a:r>
            <a:endParaRPr b="0" lang="en-US" sz="28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9528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ad38d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Proporcionar comodidad al paciente.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ad38d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Prevenir úlceras de decúbito.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ad38d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Contribuir en la prevención de flebotrombosis.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ad38d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Favorecer la movilización y eliminación de secreciones.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361c"/>
            </a:gs>
            <a:gs pos="100000">
              <a:srgbClr val="55663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ad38d"/>
                </a:solidFill>
                <a:latin typeface="Arial"/>
              </a:rPr>
              <a:t>Colocación de la "chata"</a:t>
            </a:r>
            <a:endParaRPr b="0" lang="en-US" sz="4000" spc="-1" strike="noStrike">
              <a:solidFill>
                <a:srgbClr val="bad38d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3132000" y="4365720"/>
            <a:ext cx="2160720" cy="1728720"/>
          </a:xfrm>
          <a:prstGeom prst="rect">
            <a:avLst/>
          </a:prstGeom>
          <a:ln w="28440">
            <a:solidFill>
              <a:srgbClr val="bad38d"/>
            </a:solidFill>
            <a:miter/>
          </a:ln>
        </p:spPr>
      </p:pic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187280" y="2205000"/>
            <a:ext cx="2543400" cy="1630440"/>
          </a:xfrm>
          <a:prstGeom prst="rect">
            <a:avLst/>
          </a:prstGeom>
          <a:ln w="28440">
            <a:solidFill>
              <a:srgbClr val="bad38d"/>
            </a:solidFill>
            <a:miter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859280" y="2276640"/>
            <a:ext cx="2158920" cy="1544400"/>
          </a:xfrm>
          <a:prstGeom prst="rect">
            <a:avLst/>
          </a:prstGeom>
          <a:ln w="28440">
            <a:solidFill>
              <a:srgbClr val="bad38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361c"/>
            </a:gs>
            <a:gs pos="100000">
              <a:srgbClr val="55663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ad38d"/>
                </a:solidFill>
                <a:latin typeface="Arial"/>
              </a:rPr>
              <a:t>Subir hacia la cabecera de la cama </a:t>
            </a:r>
            <a:endParaRPr b="0" lang="en-US" sz="4000" spc="-1" strike="noStrike">
              <a:solidFill>
                <a:srgbClr val="bad38d"/>
              </a:solidFill>
              <a:latin typeface="Arial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619280" y="1744560"/>
            <a:ext cx="2521080" cy="2032200"/>
          </a:xfrm>
          <a:prstGeom prst="rect">
            <a:avLst/>
          </a:prstGeom>
          <a:ln w="28440">
            <a:solidFill>
              <a:srgbClr val="bad38d"/>
            </a:solidFill>
            <a:miter/>
          </a:ln>
        </p:spPr>
      </p:pic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5580000" y="3716280"/>
            <a:ext cx="2592360" cy="1994040"/>
          </a:xfrm>
          <a:prstGeom prst="rect">
            <a:avLst/>
          </a:prstGeom>
          <a:ln w="28440">
            <a:solidFill>
              <a:srgbClr val="bad38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361c"/>
            </a:gs>
            <a:gs pos="100000">
              <a:srgbClr val="55663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ad38d"/>
                </a:solidFill>
                <a:latin typeface="Arial"/>
              </a:rPr>
              <a:t>Giro o volteo lateral </a:t>
            </a: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1547640" y="2060640"/>
            <a:ext cx="2592720" cy="1993680"/>
          </a:xfrm>
          <a:prstGeom prst="rect">
            <a:avLst/>
          </a:prstGeom>
          <a:ln w="28440">
            <a:solidFill>
              <a:srgbClr val="bad38d"/>
            </a:solidFill>
            <a:miter/>
          </a:ln>
        </p:spPr>
      </p:pic>
      <p:pic>
        <p:nvPicPr>
          <p:cNvPr id="373" name="" descr=""/>
          <p:cNvPicPr/>
          <p:nvPr/>
        </p:nvPicPr>
        <p:blipFill>
          <a:blip r:embed="rId2"/>
          <a:stretch/>
        </p:blipFill>
        <p:spPr>
          <a:xfrm>
            <a:off x="5219640" y="3860640"/>
            <a:ext cx="2881440" cy="2133720"/>
          </a:xfrm>
          <a:prstGeom prst="rect">
            <a:avLst/>
          </a:prstGeom>
          <a:ln w="28440">
            <a:solidFill>
              <a:srgbClr val="bad38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361c"/>
            </a:gs>
            <a:gs pos="100000">
              <a:srgbClr val="55663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ad38d"/>
                </a:solidFill>
                <a:latin typeface="Arial"/>
              </a:rPr>
              <a:t>Sentarse al borde de la cama</a:t>
            </a:r>
            <a:r>
              <a:rPr b="0" lang="en-US" sz="4000" spc="-1" strike="noStrike" u="sng">
                <a:solidFill>
                  <a:srgbClr val="339933"/>
                </a:solidFill>
                <a:uFillTx/>
                <a:latin typeface="Arial"/>
                <a:hlinkClick r:id="rId1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bad38d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1187280" y="1341360"/>
            <a:ext cx="2808360" cy="2263680"/>
          </a:xfrm>
          <a:prstGeom prst="rect">
            <a:avLst/>
          </a:prstGeom>
          <a:ln w="28440">
            <a:solidFill>
              <a:srgbClr val="bad38d"/>
            </a:solidFill>
            <a:miter/>
          </a:ln>
        </p:spPr>
      </p:pic>
      <p:pic>
        <p:nvPicPr>
          <p:cNvPr id="376" name="" descr=""/>
          <p:cNvPicPr/>
          <p:nvPr/>
        </p:nvPicPr>
        <p:blipFill>
          <a:blip r:embed="rId3"/>
          <a:stretch/>
        </p:blipFill>
        <p:spPr>
          <a:xfrm>
            <a:off x="5076720" y="3500280"/>
            <a:ext cx="2448000" cy="2265480"/>
          </a:xfrm>
          <a:prstGeom prst="rect">
            <a:avLst/>
          </a:prstGeom>
          <a:ln w="28440">
            <a:solidFill>
              <a:srgbClr val="bad38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361c"/>
            </a:gs>
            <a:gs pos="100000">
              <a:srgbClr val="55663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ad38d"/>
                </a:solidFill>
                <a:latin typeface="Arial"/>
              </a:rPr>
              <a:t>Traslado de la cama a la silla </a:t>
            </a: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1403280" y="1855800"/>
            <a:ext cx="2521080" cy="2190600"/>
          </a:xfrm>
          <a:prstGeom prst="rect">
            <a:avLst/>
          </a:prstGeom>
          <a:ln w="28440">
            <a:solidFill>
              <a:srgbClr val="bad38d"/>
            </a:solidFill>
            <a:miter/>
          </a:ln>
        </p:spPr>
      </p:pic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5435640" y="3446640"/>
            <a:ext cx="2736720" cy="2300040"/>
          </a:xfrm>
          <a:prstGeom prst="rect">
            <a:avLst/>
          </a:prstGeom>
          <a:ln w="28440">
            <a:solidFill>
              <a:srgbClr val="bad38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361c"/>
            </a:gs>
            <a:gs pos="100000">
              <a:srgbClr val="55663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bad38d"/>
                </a:solidFill>
                <a:latin typeface="Arial"/>
              </a:rPr>
              <a:t>Atención del paciente hospitalizado</a:t>
            </a:r>
            <a:endParaRPr b="0" lang="en-US" sz="36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23640" y="3141360"/>
            <a:ext cx="83516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Tahoma"/>
              </a:rPr>
              <a:t>    </a:t>
            </a:r>
            <a:r>
              <a:rPr b="1" lang="es-MX" sz="24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es-MX" sz="2400" spc="-1" strike="noStrike">
                <a:solidFill>
                  <a:srgbClr val="ffffcc"/>
                </a:solidFill>
                <a:latin typeface="Tahoma"/>
              </a:rPr>
              <a:t>Cada usuario es un ser individual, con características  tan diversas y variadas como son las personas, sus familias o comunidades.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es-MX" sz="2400" spc="-1" strike="noStrike">
                <a:solidFill>
                  <a:srgbClr val="ffffcc"/>
                </a:solidFill>
                <a:latin typeface="Tahoma"/>
              </a:rPr>
              <a:t>Cada uno de ellos tendrá diversos problemas de salud que debemos identificar en un todo.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3132000" y="1486080"/>
            <a:ext cx="267984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361c"/>
            </a:gs>
            <a:gs pos="100000">
              <a:srgbClr val="55663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ad38d"/>
                </a:solidFill>
                <a:latin typeface="Arial"/>
              </a:rPr>
              <a:t>Levantarse de una silla </a:t>
            </a: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2916360" y="2421000"/>
            <a:ext cx="2974680" cy="2360520"/>
          </a:xfrm>
          <a:prstGeom prst="rect">
            <a:avLst/>
          </a:prstGeom>
          <a:ln w="28440">
            <a:solidFill>
              <a:srgbClr val="bad38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361c"/>
            </a:gs>
            <a:gs pos="100000">
              <a:srgbClr val="55663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1042920" y="244440"/>
            <a:ext cx="7129440" cy="64324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361c"/>
            </a:gs>
            <a:gs pos="100000">
              <a:srgbClr val="55663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ad38d"/>
                </a:solidFill>
                <a:latin typeface="Arial"/>
              </a:rPr>
              <a:t>Enfermería básica y satisfacción de necesidades</a:t>
            </a:r>
            <a:endParaRPr b="0" lang="en-US" sz="28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84358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ad38d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Necesidades biológicas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(oxígeno, nutrientes, eliminación, higiene,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temperatura, reposo y sueño)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ad38d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Necesidades Psicosociales 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(pertenencia, seguridad, limpieza, comunicación,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etc.)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361c"/>
            </a:gs>
            <a:gs pos="100000">
              <a:srgbClr val="55663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ad38d"/>
                </a:solidFill>
                <a:latin typeface="Arial"/>
              </a:rPr>
              <a:t>Enfermería Básica</a:t>
            </a:r>
            <a:endParaRPr b="0" lang="en-US" sz="28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ad38d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Cuidados de higiene corporal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ad38d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Cuidados matutinos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ad38d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Cuidados vespertinos 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ad38d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Baños en cama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ad38d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Baño en tina o ducha 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ad38d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Higiene bucal 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ad38d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Lavado de cabeza en cama 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ad38d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Rasurado de barba 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ad38d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Higiene genital 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ad38d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Lavado de manos y pies - recorte de uñas 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6156360" y="2133720"/>
            <a:ext cx="244800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361c"/>
            </a:gs>
            <a:gs pos="100000">
              <a:srgbClr val="55663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2571840" cy="2048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5219640" y="1125360"/>
            <a:ext cx="2562120" cy="2057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342" name="" descr=""/>
          <p:cNvPicPr/>
          <p:nvPr/>
        </p:nvPicPr>
        <p:blipFill>
          <a:blip r:embed="rId3"/>
          <a:stretch/>
        </p:blipFill>
        <p:spPr>
          <a:xfrm>
            <a:off x="900000" y="4005360"/>
            <a:ext cx="2590920" cy="1998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343" name="" descr=""/>
          <p:cNvPicPr/>
          <p:nvPr/>
        </p:nvPicPr>
        <p:blipFill>
          <a:blip r:embed="rId4"/>
          <a:stretch/>
        </p:blipFill>
        <p:spPr>
          <a:xfrm>
            <a:off x="5292720" y="4005360"/>
            <a:ext cx="2616120" cy="1942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ad38d"/>
                </a:solidFill>
                <a:latin typeface="Arial"/>
              </a:rPr>
              <a:t>Baño en cama</a:t>
            </a: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361c"/>
            </a:gs>
            <a:gs pos="100000">
              <a:srgbClr val="55663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195640" y="1343160"/>
            <a:ext cx="5040360" cy="5005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ad38d"/>
                </a:solidFill>
                <a:latin typeface="Arial"/>
              </a:rPr>
              <a:t>Lavado de pelo en cama</a:t>
            </a: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361c"/>
            </a:gs>
            <a:gs pos="100000">
              <a:srgbClr val="55663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ad38d"/>
                </a:solidFill>
                <a:latin typeface="Arial"/>
              </a:rPr>
              <a:t>Lavado de pies</a:t>
            </a: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1403280" y="1849320"/>
            <a:ext cx="6264360" cy="3986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361c"/>
            </a:gs>
            <a:gs pos="100000">
              <a:srgbClr val="55663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9214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ad38d"/>
                </a:solidFill>
                <a:latin typeface="Arial"/>
              </a:rPr>
              <a:t>Mi cuidado de enfermería</a:t>
            </a:r>
            <a:br>
              <a:rPr sz="4400"/>
            </a:br>
            <a:r>
              <a:rPr b="0" lang="en-US" sz="4400" spc="-1" strike="noStrike">
                <a:solidFill>
                  <a:srgbClr val="bad38d"/>
                </a:solidFill>
                <a:latin typeface="Arial"/>
              </a:rPr>
              <a:t> debo registrarlo siempre</a:t>
            </a: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  <p:pic>
        <p:nvPicPr>
          <p:cNvPr id="3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56000" y="1773360"/>
            <a:ext cx="3960720" cy="4608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361c"/>
            </a:gs>
            <a:gs pos="100000">
              <a:srgbClr val="55663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ad38d"/>
                </a:solidFill>
                <a:latin typeface="Arial"/>
              </a:rPr>
              <a:t>IMPORTANCIA DE LOS REGISTROS</a:t>
            </a:r>
            <a:endParaRPr b="0" lang="en-US" sz="28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SI NO ESTÁ ESCRITO, NO ESTÁ HECHO”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ad38d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LEGAL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ad38d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JUDICIAL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ad38d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INDICACIÓN CONSIGNADA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ad38d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ACCIÓN REALIZADA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ad38d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PARAMETROS Y VALORES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6804000" y="3645000"/>
            <a:ext cx="127008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5T16:53:42Z</dcterms:created>
  <dc:creator>Bj</dc:creator>
  <dc:description/>
  <dc:language>en-US</dc:language>
  <cp:lastModifiedBy>Bj</cp:lastModifiedBy>
  <dcterms:modified xsi:type="dcterms:W3CDTF">2009-08-11T21:47:54Z</dcterms:modified>
  <cp:revision>16</cp:revision>
  <dc:subject/>
  <dc:title>Ingreso de un paciente a la atención pública </dc:title>
</cp:coreProperties>
</file>