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364-CEC3-4867-AD43-21F273AD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57D-C851-4D4E-947B-7A97C276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638-44B5-4F80-B311-1BFAB8A7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99E-C021-483E-8589-2640AB0F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5F9-6DAF-4DF5-9891-354D6A2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4E1-F228-4517-84CF-1378BED3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CCD-3498-43BA-B675-A91BB17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7E0-2FC1-4713-8035-E1D03685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6A8-A25A-46B8-8CD0-2E73AB3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5D6-7467-47DF-8745-E5F0600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4DF-170B-4270-918F-2E44ECB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4D6-2803-42D8-9339-DE59A96F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651-2200-4CDE-BFD3-BF3C2B91A84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560" y="301680"/>
            <a:ext cx="74761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 MÉDICO - PACIENTE   (R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uentro de un médico y su enfer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ye los diversos fenómenos que ocurren 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durante el encuentro y su efecto sobre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so de la enferm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ntos de vis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antrop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fisi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histó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í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295280"/>
            <a:ext cx="8620200" cy="48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pectos técnico -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ón 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jeto que pide ayude            sujeto capacitado para 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f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espi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Relación im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895480"/>
            <a:ext cx="533520" cy="333360"/>
          </a:xfrm>
          <a:prstGeom prst="leftRightArrow">
            <a:avLst>
              <a:gd name="adj1" fmla="val 50000"/>
              <a:gd name="adj2" fmla="val 318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914400"/>
            <a:ext cx="8396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S  SOCIALES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inserta en medi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terminada social y cultu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ser del médico (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es comple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modo de acceso a atención médica (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GANIZACIÓN SOCIAL Y FACT. SOCIO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962520"/>
            <a:ext cx="333360" cy="609480"/>
          </a:xfrm>
          <a:prstGeom prst="upArrow">
            <a:avLst>
              <a:gd name="adj1" fmla="val 50000"/>
              <a:gd name="adj2" fmla="val 457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0720" y="228600"/>
            <a:ext cx="8539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ES  ÉTICOS  de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iso médico:    prestar ayuda en bien d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reparación técnic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perfeccionamient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sposición amis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ligencia en l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respeto (secreto profe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miso del paci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disposición a colaborar en su tra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 responsabilizarse de su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a espiritual             Anhelos personales y Trasc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GOTERAPIA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4864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572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ejo de las emocion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del mé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continuo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l acto médico   (separación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gnificado de los síntomas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org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ción de expresione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no ver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plicación de la naturaleza de la enf.  Y su pro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3:55:57Z</dcterms:created>
  <dc:creator>Fac. de Medicina</dc:creator>
  <dc:description/>
  <dc:language>en-US</dc:language>
  <cp:lastModifiedBy>Ivo</cp:lastModifiedBy>
  <dcterms:modified xsi:type="dcterms:W3CDTF">2008-04-14T12:23:26Z</dcterms:modified>
  <cp:revision>1</cp:revision>
  <dc:subject/>
  <dc:title>Sin título de diapositiva</dc:title>
</cp:coreProperties>
</file>