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1428-63A8-49F1-B0AC-4FBC05C9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F940-D6AD-4080-B9DC-20EDD1D9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6A5B-5998-4131-8E0C-77AA941A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45DA-1DC6-4167-BBA7-61CF3581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4B44-91CE-45AD-9DD9-6B121E4B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C983-FFC0-451B-956A-FC2A10CC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A681-B9E8-4A02-A352-3023509C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991A-4FC0-48DC-916F-46EEEED0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8537-37A8-4766-A855-1C935C50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3E5-1C38-412D-8799-7796392D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63A1-D880-4ADD-B863-B7FE3388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1FEE-C4E3-4C6F-9C0C-DA6B315B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2341-4DF0-4D4A-9126-7ECFADC63DE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560" y="301680"/>
            <a:ext cx="74761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 MÉDICO - PACIENTE   (RP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uentro de un médico y su enferm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ye los diversos fenómenos que ocurren a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durante el encuentro y su efecto sobre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so de la enferm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ntos de vist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antrop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p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  fisi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  histór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í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1295280"/>
            <a:ext cx="8620200" cy="48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pectos técnico - mé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lación inter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jeto que pide ayude            sujeto capacitado para 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yu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téc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f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espiri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Relación im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2895480"/>
            <a:ext cx="533520" cy="333360"/>
          </a:xfrm>
          <a:prstGeom prst="leftRightArrow">
            <a:avLst>
              <a:gd name="adj1" fmla="val 50000"/>
              <a:gd name="adj2" fmla="val 3186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914400"/>
            <a:ext cx="8396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ONENTES  SOCIALES de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inserta en medi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determinada social y cultur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modo de ser del médico (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ciales complej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modo de acceso a atención médica (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GANIZACIÓN SOCIAL Y FACT. SOCIOCUL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3962520"/>
            <a:ext cx="333360" cy="609480"/>
          </a:xfrm>
          <a:prstGeom prst="upArrow">
            <a:avLst>
              <a:gd name="adj1" fmla="val 50000"/>
              <a:gd name="adj2" fmla="val 4570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0720" y="228600"/>
            <a:ext cx="8539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NENTES  ÉTICOS  de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romiso médico:    prestar ayuda en bien del enfer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preparación técnica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perfeccionamiento conti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disposición amist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diligencia en la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respeto (secreto profe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romiso del paci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disposición a colaborar en su tra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responsabilizarse de su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da espiritual             Anhelos personales y Trascen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GOTERAPIA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54864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57913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457200"/>
            <a:ext cx="8915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NEJO DE LA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nejo de las emocion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del pa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del mé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continuo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l acto médico   (separación artifi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significado de los síntomas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org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fun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ervación de expresione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verb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no verb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plicación de la naturaleza de la enf.  Y su pro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3:55:57Z</dcterms:created>
  <dc:creator>Fac. de Medicina</dc:creator>
  <dc:description/>
  <dc:language>en-US</dc:language>
  <cp:lastModifiedBy>Ivo</cp:lastModifiedBy>
  <dcterms:modified xsi:type="dcterms:W3CDTF">2008-04-14T12:23:26Z</dcterms:modified>
  <cp:revision>1</cp:revision>
  <dc:subject/>
  <dc:title>Sin título de diapositiva</dc:title>
</cp:coreProperties>
</file>