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7CE-EA5C-4CA9-AC9F-143ECE3A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3A8-95AC-4CFA-B742-80DB1CC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06A-71FC-40EF-BC1F-7822264B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2CC-9C5A-4C8F-8AB7-775C4FC7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6C0-B85F-4C62-B51B-85777FB2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08E-0788-4418-9553-17576C6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58C-60BD-425F-AC9F-73BE4585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5C9-674D-4732-B06B-C890BAC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EA0-A232-4536-9549-5EBAE7B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D6BB-9CAA-407A-A967-601A2427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D0E-5EDB-431D-9622-83AC69C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DAB-B68B-4668-BAD2-9A2241E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8603-6098-4978-B1DB-6AD0FDBD741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560" y="301680"/>
            <a:ext cx="74761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 MÉDICO - PACIENTE   (R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uentro de un médico y su enfer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ye los diversos fenómenos que ocurren 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durante el encuentro y su efecto sobre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so de la enferm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ntos de vist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antrop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p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fisi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histó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í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295280"/>
            <a:ext cx="862020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pectos técnico -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ón inter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jeto que pide ayude            sujeto capacitado para 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f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spi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Relación im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2895480"/>
            <a:ext cx="533520" cy="333360"/>
          </a:xfrm>
          <a:prstGeom prst="leftRightArrow">
            <a:avLst>
              <a:gd name="adj1" fmla="val 50000"/>
              <a:gd name="adj2" fmla="val 3186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914400"/>
            <a:ext cx="8396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ONENTES  SOCIALES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inserta en medi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terminada social y cultu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ser del médico (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es complej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acceso a atención médica (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GANIZACIÓN SOCIAL Y FACT. SOCIO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3962520"/>
            <a:ext cx="333360" cy="609480"/>
          </a:xfrm>
          <a:prstGeom prst="upArrow">
            <a:avLst>
              <a:gd name="adj1" fmla="val 50000"/>
              <a:gd name="adj2" fmla="val 457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720" y="228600"/>
            <a:ext cx="8539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NENTES  ÉTICOS 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miso médico:    prestar ayuda en bien del enfe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preparación técnic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perfeccionamient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disposición amis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diligencia en la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respeto (secreto profe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miso del pac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disposición a colaborar en su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responsabilizarse de su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da espiritual             Anhelos personales y Trasc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GOTERAPIA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5486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5791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4572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s emocion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ontinuo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l acto médico   (separación artifi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gnificado de los síntomas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org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ción de expresione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no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plicación de la naturaleza de la enf.  Y su pro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3:55:57Z</dcterms:created>
  <dc:creator>Fac. de Medicina</dc:creator>
  <dc:description/>
  <dc:language>en-US</dc:language>
  <cp:lastModifiedBy>Ivo</cp:lastModifiedBy>
  <dcterms:modified xsi:type="dcterms:W3CDTF">2008-04-14T12:23:26Z</dcterms:modified>
  <cp:revision>1</cp:revision>
  <dc:subject/>
  <dc:title>Sin título de diapositiva</dc:title>
</cp:coreProperties>
</file>