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9DE-D1EA-46BC-AC7E-E00D561C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503-047C-4026-8171-CC7C437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954-16B9-4340-9DAB-C8042150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744-AD27-4FDE-A071-6D4EC501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5EF-3A1C-412D-ADF3-DDEA48B2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DEB-FB37-40A5-BEEA-6E60B9F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B51-01C9-425B-8F65-8BE476EB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B30-6EB7-414A-9104-2157837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7156-731B-49D0-99D8-12CDB0A6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D8F-8B57-4C25-B2AB-C378DB59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98A-DB7E-4E6C-BE0C-61EFB43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6EC-5DF0-40F3-BE11-999F57E0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708D-3A5A-4E16-9F6E-5696852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A3D1-AAD2-4BDE-B9FB-4A1516F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FAC2-AE1E-42C4-B9DF-D25BB61A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FA51-4C16-4F54-B77A-CD5CD035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52C3-42CE-44C7-9461-A1D63531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F1F-6129-4FB0-B3F2-FB49D1B4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F5A-BBF0-48C3-B8F9-0CBA674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AA4-89C4-4721-AB74-8CECF841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7BF-B799-43AC-BAF5-9409692E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231-A26D-4A0B-BC3E-498AEF7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38B-EA4A-48CF-8AEA-3B002A2B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A7A-8605-4281-BB4D-E39B9ED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3863-FE21-4849-98CC-132932AF4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DDA-0139-44E2-B35B-50FEF46F5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TINUA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é SIG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Ético y moral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I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94000" y="2979720"/>
            <a:ext cx="4685400" cy="2857320"/>
            <a:chOff x="2394000" y="2979720"/>
            <a:chExt cx="4685400" cy="2857320"/>
          </a:xfrm>
        </p:grpSpPr>
        <p:sp>
          <p:nvSpPr>
            <p:cNvPr id="112" name=""/>
            <p:cNvSpPr/>
            <p:nvPr/>
          </p:nvSpPr>
          <p:spPr>
            <a:xfrm>
              <a:off x="3536280" y="2979720"/>
              <a:ext cx="2057760" cy="2400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4040" y="5380200"/>
              <a:ext cx="14853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4000" y="5380200"/>
              <a:ext cx="11422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u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img-smileys-a-display-pictures-expressive-smile-tenkan-3167" descr=""/>
            <p:cNvPicPr/>
            <p:nvPr/>
          </p:nvPicPr>
          <p:blipFill>
            <a:blip r:embed="rId1"/>
            <a:stretch/>
          </p:blipFill>
          <p:spPr>
            <a:xfrm>
              <a:off x="4107960" y="4237200"/>
              <a:ext cx="914760" cy="91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stético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NDO ACT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S V/S ID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PARA LLEGAR A SER QUIENES SOMOS…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DE ESCOLAR A ADOLESCENT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2920" y="198108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84360" y="1533600"/>
            <a:ext cx="5256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ALU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spectos a consider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ógico (sexu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(y familia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lectual y cognitiv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cional y afectiv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ico y mo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ARROLLO PUBER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ción eje hipotálamo-hipófisis-gona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RROLLO MAM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RROLLO TESTICU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LOR AXI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LO AXILAR Y PUB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ICIL PERO NO DRAMATICO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NER EN PRACTICA LO REAL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IA DE LOS PA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TENENCIA AL GRU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DIA A LO ESTABLECI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Intelectual y cogni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YECTO DE 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CION DE CAPACIDADES Y DESE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CIAR LAS CAPAC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Emocional y afec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ESTI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ID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PTACION DE MI MISMO: CAPACIDADES Y LIMIT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RENTAR LAS DISCREPA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1:52:35Z</dcterms:created>
  <dc:creator>thelmy</dc:creator>
  <dc:description/>
  <dc:language>en-US</dc:language>
  <cp:lastModifiedBy>thelmy</cp:lastModifiedBy>
  <dcterms:modified xsi:type="dcterms:W3CDTF">2008-04-24T02:21:01Z</dcterms:modified>
  <cp:revision>2</cp:revision>
  <dc:subject/>
  <dc:title>CONTINUAMOS</dc:title>
</cp:coreProperties>
</file>