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979-4503-4394-B1E1-6F4A371C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534-42B6-4BC7-90AE-72F489C4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1AD-B918-4887-B4E1-34EF793F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5D6-22FB-4CD7-8007-51D3E07D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1810-6FEE-4F1A-A524-7479C35B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B2F5-E3F7-453D-907A-FB9B1631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0851-587A-428F-92F0-DA187076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3C50-B0FD-41A8-9A09-527C1F5F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53F9-D646-4203-B30B-3435BE62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0DA-D0F7-40E5-A074-09B5CBDE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CEB0-DBC9-4759-9E44-63907835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132-B9DB-4735-B00A-1AC9DB94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3D78-E027-450E-92AA-D78A377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CEF0-21FB-4032-80E0-1D9AC53D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4700-F4A1-42A2-AEF1-8E840EC1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B961-DAB2-4D92-8F0F-6D47C944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B2C9-7F14-4EA0-AC73-98AD0ED0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896-6278-46DF-A66B-AA7D0E11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0D3-81F1-4C7E-92B1-D283A7DC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864-252F-40BC-9758-AC88948A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A4D-9E6B-4CFC-BF61-887D45F5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3F9-A0DD-4AAC-8F6F-3BE0A329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DF9-BAA7-4C48-8BAB-BDF164EA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B82-7D39-447C-856F-EB1443E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8E32-9ABE-4485-9382-496264FB7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3412-B579-43A2-93FE-9E59B1823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TINUA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é SIG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Ético y moral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TI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94000" y="2979720"/>
            <a:ext cx="4685400" cy="2857320"/>
            <a:chOff x="2394000" y="2979720"/>
            <a:chExt cx="4685400" cy="2857320"/>
          </a:xfrm>
        </p:grpSpPr>
        <p:sp>
          <p:nvSpPr>
            <p:cNvPr id="112" name=""/>
            <p:cNvSpPr/>
            <p:nvPr/>
          </p:nvSpPr>
          <p:spPr>
            <a:xfrm>
              <a:off x="3536280" y="2979720"/>
              <a:ext cx="2057760" cy="2400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4040" y="5380200"/>
              <a:ext cx="14853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4000" y="5380200"/>
              <a:ext cx="11422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u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" name="img-smileys-a-display-pictures-expressive-smile-tenkan-3167" descr=""/>
            <p:cNvPicPr/>
            <p:nvPr/>
          </p:nvPicPr>
          <p:blipFill>
            <a:blip r:embed="rId1"/>
            <a:stretch/>
          </p:blipFill>
          <p:spPr>
            <a:xfrm>
              <a:off x="4107960" y="4237200"/>
              <a:ext cx="914760" cy="91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stético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PTAC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NDO ACT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S V/S ID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PARA LLEGAR A SER QUIENES SOMOS…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UTOESTIMA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CONCIENCIA DE SI MIS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MUNICACIÓN EFECTIV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ERTIVIDAD, EMPATÍ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UENAS RELACIONES PERSON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APACIDAD DE RESOLVER PROBLEM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EJO ADECUADO DE EMO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SILIENC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DE ESCOLAR A ADOLESCENT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2920" y="1981080"/>
            <a:ext cx="381492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84360" y="1533600"/>
            <a:ext cx="5256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ALU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Aspectos a consider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ógico (sexu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(y familia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lectual y cognitiv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ocional y afectiv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ico y mo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é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ARROLLO PUBER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ción eje hipotálamo-hipófisis-gonad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RROLLO MAM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RROLLO TESTICU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LOR AXI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LO AXILAR Y PUB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ICIL PERO NO DRAMATICO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NER EN PRACTICA LO REAL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CIA DE LOS PA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TENENCIA AL GRUP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PT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LDIA A LO ESTABLECI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Intelectual y cognitiv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YECTO DE 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CION DE CAPACIDADES Y DESE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CIAR LAS CAPACIDA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Emocional y afectiv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ESTI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IDA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PTACION DE MI MISMO: CAPACIDADES Y LIMIT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RENTAR LAS DISCREPA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1:52:35Z</dcterms:created>
  <dc:creator>thelmy</dc:creator>
  <dc:description/>
  <dc:language>en-US</dc:language>
  <cp:lastModifiedBy>thelmy</cp:lastModifiedBy>
  <dcterms:modified xsi:type="dcterms:W3CDTF">2008-04-24T02:21:01Z</dcterms:modified>
  <cp:revision>2</cp:revision>
  <dc:subject/>
  <dc:title>CONTINUAMOS</dc:title>
</cp:coreProperties>
</file>