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F79-E474-44D1-A5A9-1A0EAEF1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5EC-931D-4200-953B-B0FBCDE9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D41-8CE5-4A78-AF57-3D08ABF4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871-9FE9-4D70-967E-ED0EAF7A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D16F-D75A-425C-938C-9F1F5F58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A5C2-A700-4961-94C9-5E8CFB7C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BAE6-5632-409F-A15E-1EE48344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7B3A-AE2B-4F9B-9218-C3F0416B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CB2C-846B-4137-BE6D-5C3CF0F5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EE7B-B4EE-4DDD-8F09-0CBC2802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826D-77A0-474D-B224-1A3E6DAB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9F5-1371-4038-931E-7E7DAD50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31D2-FE81-4B3F-9F23-6C80A70A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CE4A-9652-48B1-99B3-DFC52A90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6B6C-51E8-41D0-B7D4-62A50309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0D7A-0D0A-48B7-9C47-AEF254C0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A49-7F0A-4244-9ABB-E0CC8635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FD9-457A-4FAF-A6E8-A23340DB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7A3-9FF8-434A-8212-2179E5F8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C33-45CD-4D5B-8BC3-09EBD220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B94-7904-40EB-8B3A-B9ADFF95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375-968F-4518-A3ED-9142368C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5A0-5A87-4EF8-842F-CC591F35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307-DEBB-4C25-AD39-5D19895F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FB44-BDB1-419D-BCA6-A5592E2FF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9D98-F244-4A3B-9D11-1ED50F913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TINUAM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Qué SIG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Ético y moral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TI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94000" y="2979720"/>
            <a:ext cx="4685400" cy="2857320"/>
            <a:chOff x="2394000" y="2979720"/>
            <a:chExt cx="4685400" cy="2857320"/>
          </a:xfrm>
        </p:grpSpPr>
        <p:sp>
          <p:nvSpPr>
            <p:cNvPr id="112" name=""/>
            <p:cNvSpPr/>
            <p:nvPr/>
          </p:nvSpPr>
          <p:spPr>
            <a:xfrm>
              <a:off x="3536280" y="2979720"/>
              <a:ext cx="2057760" cy="2400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4040" y="5380200"/>
              <a:ext cx="14853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94000" y="5380200"/>
              <a:ext cx="11422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u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" name="img-smileys-a-display-pictures-expressive-smile-tenkan-3167" descr=""/>
            <p:cNvPicPr/>
            <p:nvPr/>
          </p:nvPicPr>
          <p:blipFill>
            <a:blip r:embed="rId1"/>
            <a:stretch/>
          </p:blipFill>
          <p:spPr>
            <a:xfrm>
              <a:off x="4107960" y="4237200"/>
              <a:ext cx="914760" cy="91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stético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EPTAC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NDO ACT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S V/S ID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PARA LLEGAR A SER QUIENES SOMOS…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UTOESTIMA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CONCIENCIA DE SI MISM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MUNICACIÓN EFECTIV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SERTIVIDAD, EMPATÍ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UENAS RELACIONES PERSON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APACIDAD DE RESOLVER PROBLEM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EJO ADECUADO DE EMO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SILIENC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DE ESCOLAR A ADOLESCENT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2920" y="1981080"/>
            <a:ext cx="381492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84360" y="1533600"/>
            <a:ext cx="5256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ALU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Aspectos a consider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ógico (sexua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(y familia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lectual y cognitiv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ocional y afectiv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ico y mo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é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SARROLLO PUBER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ación eje hipotálamo-hipófisis-gonad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ARROLLO MAM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ARROLLO TESTICU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LOR AXI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LO AXILAR Y PUB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ICIL PERO NO DRAMATICO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NER EN PRACTICA LO REAL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CIA DE LOS PA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TENENCIA AL GRUP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EPT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LDIA A LO ESTABLECI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Intelectual y cognitiv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YECTO DE V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CION DE CAPACIDADES Y DESE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CIAR LAS CAPACIDA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Emocional y afectiv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ESTI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ONALIDA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EPTACION DE MI MISMO: CAPACIDADES Y LIMIT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RENTAR LAS DISCREPA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1:52:35Z</dcterms:created>
  <dc:creator>thelmy</dc:creator>
  <dc:description/>
  <dc:language>en-US</dc:language>
  <cp:lastModifiedBy>thelmy</cp:lastModifiedBy>
  <dcterms:modified xsi:type="dcterms:W3CDTF">2008-04-24T02:21:01Z</dcterms:modified>
  <cp:revision>2</cp:revision>
  <dc:subject/>
  <dc:title>CONTINUAMOS</dc:title>
</cp:coreProperties>
</file>