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14.jpeg" ContentType="image/jpeg"/>
  <Override PartName="/ppt/media/image8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10D-7855-453A-84BE-0E826D40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DCA-83F3-44DE-AF06-EBA07CC5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F11-0F27-4C89-8170-53B76DAD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35F-65BD-4ED5-9090-0FB3506A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EEB1-6F98-4A0C-9F42-89FBE9BE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FE44-B329-4A2C-8865-C51FDA7D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9E50-6A0C-4082-8437-863428C1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0154-1622-4C80-A015-BB4BF178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E2DF-F3B9-403E-AFA8-F1F5D7F1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0E06-64B0-4B5A-BC0D-F8FD8AB3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C3FE-7858-4E4C-8983-56D44964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8C9-98DA-47FD-B44B-159307A4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920B-B1BC-4289-A26A-37C33820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5D7A-4011-47FB-9806-A6674EEB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872D-2691-4C06-9802-BC77F25A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D971-532E-474D-A465-02FCE311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60D2-1430-4BFE-8A2B-69AE6650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830-FC17-42A2-9200-7488DB7B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403-4A67-4D04-ABD3-8544B499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F4C-52CD-4E45-A080-783D9C2D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8B6-302B-47C0-9163-C93F3C9F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5D5-CECB-4445-B1D7-99BEB368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288-8E8F-4110-9660-0B82514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814-2199-46A5-8F87-52AC6A70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2EB3-6B9B-4BA9-8F9C-5EA29E6E8E3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C74B-282A-403D-A76E-0400CB39E812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dahumana.org/vidafam/aborto/newborn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Verdana"/>
              </a:rPr>
              <a:t>CRECIMIENTO Y DESARROLLO NORMAL DEL NIÑO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RA. THELMA SUAU C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PTO PEDIATRIA Y CIRUGIA INFANTIL SUR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UNIVERSIDAD DE CHILE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logo U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806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Qué experiencia tienen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odrían señalar algunas característica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newborn-rachel.jpg - 15349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76640"/>
            <a:ext cx="40006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¿ A quién estamos esperando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Recién nacido </a:t>
            </a:r>
            <a:r>
              <a:rPr b="0" lang="es-ES_tradnl" sz="2400" spc="-1" strike="noStrike">
                <a:solidFill>
                  <a:srgbClr val="66ccff"/>
                </a:solidFill>
                <a:latin typeface="Arial"/>
              </a:rPr>
              <a:t>normal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&gt;37s, sin malformaciones, ni procesos patológic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Desarrollo   intrauterin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Nacimient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6699"/>
                </a:solidFill>
                <a:uFillTx/>
                <a:latin typeface="Arial"/>
              </a:rPr>
              <a:t>Adaptació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11960" y="1701720"/>
            <a:ext cx="1779480" cy="178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57920" y="3801960"/>
            <a:ext cx="27558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8" name="" descr="Examen del recién nacido"/>
          <p:cNvPicPr/>
          <p:nvPr/>
        </p:nvPicPr>
        <p:blipFill>
          <a:blip r:embed="rId1"/>
          <a:stretch/>
        </p:blipFill>
        <p:spPr>
          <a:xfrm>
            <a:off x="1403280" y="836640"/>
            <a:ext cx="6264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Apego, Vínculo  **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la reciprocidad de las relaciones tempranas, la que es una precondición del desarrollo normal, probablemente, en todos los mamíferos, incluyendo a lo humano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determinadas genéticamente, siendo las figuras de apego las variables determinadas por el ambiente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de vinculación como una necesidad primaria, vital para el normal desarrollo tanto físico como psicológico del individuo,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que se inicia con el deseo de tener un hijo, que se continua desde el nacimiento hasta sus primeros años y sobre el cual pesa la historia vincular de sus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Recié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Aspecto general, Pi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Cardiopulmona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Termoregula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Metabol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utri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eurológic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Renal/homeostasi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Inmun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48008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76944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46280" y="2357280"/>
            <a:ext cx="3338640" cy="3338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64240" y="2487600"/>
            <a:ext cx="3139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RECIMIEN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E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LL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IRCUNFERENCIA CRÁNE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2381400" cy="2476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15960" y="3403440"/>
            <a:ext cx="2962440" cy="185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88000" y="620640"/>
            <a:ext cx="2387520" cy="25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45080" y="3600360"/>
            <a:ext cx="2176560" cy="138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443640" y="3213000"/>
            <a:ext cx="2376360" cy="2257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flej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1" action="ppaction://hlinksldjump"/>
              </a:rPr>
              <a:t>Reflejo de Moro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2" action="ppaction://hlinksldjump"/>
              </a:rPr>
              <a:t>Reflejo de prensión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3" action="ppaction://hlinksldjump"/>
              </a:rPr>
              <a:t>Reflejo de búsqueda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4" action="ppaction://hlinksldjump"/>
              </a:rPr>
              <a:t>Reflejo de la marcha automát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¿Cómo estimulamos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esarrollo sicomo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Fijar la mirada, aunque sea un rato corto en la persona que se pone delante de él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i uno pone un dedo en su manito, deberá poder apretarlo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eguir con la mirada algo que Ud. le muestra y mueve lentamente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Al ponerlo de guatita, vuelve su cabeza al otro lado ó la levanta un poco. 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Responde de alguna forma al oir algún ruido, sea con pestañeo, cesación de la actividad, llanto, etc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0160" y="235584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59360" y="1676520"/>
            <a:ext cx="2752920" cy="1987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59480" y="3801960"/>
            <a:ext cx="15508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LIMENTAC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ME……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92360" y="1287360"/>
            <a:ext cx="46609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781200"/>
            <a:ext cx="6769080" cy="5119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9440" y="2486160"/>
            <a:ext cx="3454200" cy="249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Los &quot;nenes&quot;"/>
          <p:cNvPicPr/>
          <p:nvPr/>
        </p:nvPicPr>
        <p:blipFill>
          <a:blip r:embed="rId2"/>
          <a:stretch/>
        </p:blipFill>
        <p:spPr>
          <a:xfrm>
            <a:off x="5327640" y="23558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ACTORES DE RIES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¿CUÁLES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ATOLOG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2" name="" descr="Imágen: Se ve un recien nacido afectado por espina bifida, que se manifiesta por la salida del contenido del conducto vertebral como si fuera &quot;una hernia&quot; localizada en la espalda del recien nacido"/>
          <p:cNvPicPr/>
          <p:nvPr/>
        </p:nvPicPr>
        <p:blipFill>
          <a:blip r:embed="rId1"/>
          <a:stretch/>
        </p:blipFill>
        <p:spPr>
          <a:xfrm>
            <a:off x="324000" y="3213000"/>
            <a:ext cx="3416040" cy="2581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743280" cy="280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292720" y="4437000"/>
            <a:ext cx="2690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 LES OCURRE????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A esta edad el bebé no realiza muchos movimientos, pero de todos modos es importante tomar medidas para evitar caídas, quemaduras y ahogos, principales accidentes sufridos por las guaguas.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Hacerlo dormir apoyado en el costado derecho o de espalda con la cuna levantada dejando la cabeza a mayor altura que el resto del cuerpo para disminuir el reflujo y evitar que regurgite lech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sacudir ni mover muy fuert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dejarlo solo en un lugar elevado ni en la tin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dejarlo solo con un hermano pequeño o una mascot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 </a:t>
            </a: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Mantenerlo completamente alejado de la luz solar directa y no usar protector solar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sostener líquidos calientes mientras se le tiene en brazos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fumar, ni permitir que otros fumen en el hogar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ACTANT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NCEPTOS GENERA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ONE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cién nacid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0 a 28 dí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ctant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menor 1 a 12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44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ayor 12 a 24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eescola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2 a 6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scolar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6 a 18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dolescent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12 a ………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¡¡¡UFF!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mo enfrentamos un niñ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 son adultos peque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ecen y se desarrolla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ogros y metas definid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pervisión de salud del niño y adolesc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sertos en una familia y socie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ATENCION INTEGRAL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Crecimiento y proporcion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424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STADISTICA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ASA DE NATAL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5.03 NV/1000 HABITANT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RTALIDAD INFANTI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004 7,8 MUERTES &lt;1año/1000 NV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3446280" cy="23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551560" y="3801960"/>
          <a:ext cx="3365280" cy="19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51560" y="3801960"/>
                    <a:ext cx="336528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Times New Roman"/>
              </a:rPr>
              <a:t>CARACTERÍSTICAS DEL DESARROLLO</a:t>
            </a:r>
            <a:br>
              <a:rPr sz="3200"/>
            </a:b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CRECIMIENTO (cuantitativo) – DESARROLLO (cualitativo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Proceso continuo y ordenado, cambios previsibl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Organización basada en los niveles anteriores, es decir, cada fase es un soporte para la función siguiente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Dirección céfalo caudal, de proximal a distal y de actividades globales a específica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l ritmo y la intensidad de las funciones son propias a cada individu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6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UE 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 TODA EDAD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CIMIENT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EDIDAS ANTROPOMÉTRICAS: PESO, TALLA, CIRCUNFERENCIA CRÁNE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SARROLL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HITOS DEL DS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IMENTACIÓN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EVALUACIÓN NUTRICIONAL: DN, RIESGO DN, EUTROFIA, SP U OBESIDAD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TIPO FAMILIA, Nº HIJO, CARACT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ADRE ADOLESCENTE, MADRE SOLTERA, POBREZA, DROGADICCIÓN, SALA CUNA, CONT. INTRADOMICILIA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UTOESTIM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CONCIENCIA DE SI M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MUNICACIÓN EFECTIV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SERTIVIDAD, EMPATÍ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UENAS RELACIONES PERSONAL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APACIDAD DE RESOLVER PROBLEM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EJO ADECUADO DE EMOCION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ILIENC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2:56Z</dcterms:created>
  <dc:creator>thelmy</dc:creator>
  <dc:description/>
  <dc:language>en-US</dc:language>
  <cp:lastModifiedBy>thelmy</cp:lastModifiedBy>
  <dcterms:modified xsi:type="dcterms:W3CDTF">2008-04-24T02:20:55Z</dcterms:modified>
  <cp:revision>4</cp:revision>
  <dc:subject/>
  <dc:title>CRECIMIENTO Y DESARROLLO NORMAL DEL NIÑO</dc:title>
</cp:coreProperties>
</file>