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6.jpeg" ContentType="image/jpeg"/>
  <Override PartName="/ppt/media/image5.jpeg" ContentType="image/jpeg"/>
  <Override PartName="/ppt/media/image25.jpeg" ContentType="image/jpeg"/>
  <Override PartName="/ppt/media/image2.png" ContentType="image/png"/>
  <Override PartName="/ppt/media/image4.jpeg" ContentType="image/jpeg"/>
  <Override PartName="/ppt/media/image10.wmf" ContentType="image/x-wmf"/>
  <Override PartName="/ppt/media/image14.jpeg" ContentType="image/jpeg"/>
  <Override PartName="/ppt/media/image8.png" ContentType="image/png"/>
  <Override PartName="/ppt/media/image27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29.jpeg" ContentType="image/jpeg"/>
  <Override PartName="/ppt/media/image28.jpeg" ContentType="image/jpeg"/>
  <Override PartName="/ppt/media/whoosh.wav" ContentType="audio/x-wav"/>
  <Override PartName="/ppt/media/image3.jpeg" ContentType="image/jpeg"/>
  <Override PartName="/ppt/media/image1.png" ContentType="image/png"/>
  <Override PartName="/ppt/media/image24.png" ContentType="image/png"/>
  <Override PartName="/ppt/media/image11.jpeg" ContentType="image/jpeg"/>
  <Override PartName="/ppt/media/image13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media/image19.png" ContentType="image/png"/>
  <Override PartName="/ppt/media/image20.jpeg" ContentType="image/jpeg"/>
  <Override PartName="/ppt/media/image21.jpeg" ContentType="image/jpeg"/>
  <Override PartName="/ppt/media/image9.png" ContentType="image/png"/>
  <Override PartName="/ppt/media/image2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DFA0-C48D-4C6F-9B0B-EAFA4F1CE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38B8-4D01-46CF-876A-83FFD729C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2016-15B6-4A8D-B6BC-86464EFE4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B347-D34A-47CD-B0BF-770296157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94726-69E5-42FB-A569-B034D25EE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4EE29-3D4D-48B3-87FB-FE996A4D3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382D9-69E0-4279-95DA-01F9ADBA9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3D61F-DF84-439D-9C6F-3F2A30546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51248-57D5-41F7-A3F6-8268B3DE5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D7CD7-68D2-421A-AA07-68F59A471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C0F47-AD64-44FB-BA58-589C6FA28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CB5C-E45A-4284-8291-F83B3A6F8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C8753-CF49-4AD7-81CB-7D2E6A1A8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B60AA-962B-41CE-B3CF-A606CDD98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E8315-4687-46CD-BB23-4585E4A45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04081-4AD6-45A4-A55A-6D5AC0915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6585B-251F-4491-86B2-C284198E2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8550-3704-41DA-8E92-07BCF97F1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B9DE-1E99-425E-A9D2-8CFB176C7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DEA1-AF3D-4F70-A833-1C1BD35B8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EC1D-BE81-4940-9C2D-8F27E1A77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9125-B478-4E30-917E-DE8D14B20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9EEE-5C25-40A1-8A8D-0B5AB47D9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1CD1-339F-4505-A261-0815CA43B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1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f99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3F9C2-ADF8-455A-98E4-93D40A275425}" type="slidenum"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47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f99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016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67B9E-AAB2-4546-82BA-BE80ECDF2332}" type="slidenum"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vidahumana.org/vidafam/aborto/newborn.html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5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016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Verdana"/>
              </a:rPr>
              <a:t>CRECIMIENTO Y DESARROLLO NORMAL DEL NIÑO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DRA. THELMA SUAU C.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DPTO PEDIATRIA Y CIRUGIA INFANTIL SUR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UNIVERSIDAD DE CHILE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94" name="logo U" descr=""/>
          <p:cNvPicPr/>
          <p:nvPr/>
        </p:nvPicPr>
        <p:blipFill>
          <a:blip r:embed="rId1"/>
          <a:stretch/>
        </p:blipFill>
        <p:spPr>
          <a:xfrm>
            <a:off x="4067280" y="549360"/>
            <a:ext cx="80640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RECIEN NACIDO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¿Qué experiencia tienen?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¿Podrían señalar algunas características?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22" name="" descr="newborn-rachel.jpg - 15349 Byt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16360" y="2276640"/>
            <a:ext cx="4000680" cy="26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66ff"/>
                </a:solidFill>
                <a:latin typeface="Times New Roman"/>
              </a:rPr>
              <a:t>¿ A quién estamos esperando?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99"/>
                </a:solidFill>
                <a:latin typeface="Arial"/>
              </a:rPr>
              <a:t>Recién nacido </a:t>
            </a:r>
            <a:r>
              <a:rPr b="0" lang="es-ES_tradnl" sz="2400" spc="-1" strike="noStrike">
                <a:solidFill>
                  <a:srgbClr val="66ccff"/>
                </a:solidFill>
                <a:latin typeface="Arial"/>
              </a:rPr>
              <a:t>normal</a:t>
            </a:r>
            <a:r>
              <a:rPr b="0" lang="es-ES_tradnl" sz="24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336699"/>
                </a:solidFill>
                <a:latin typeface="Arial"/>
              </a:rPr>
              <a:t>&gt;37s, sin malformaciones, ni procesos patológico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99"/>
                </a:solidFill>
                <a:latin typeface="Arial"/>
              </a:rPr>
              <a:t>Desarrollo   intrauterino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99"/>
                </a:solidFill>
                <a:latin typeface="Arial"/>
              </a:rPr>
              <a:t>Nacimiento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6699"/>
                </a:solidFill>
                <a:uFillTx/>
                <a:latin typeface="Arial"/>
              </a:rPr>
              <a:t>Adaptación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99"/>
                </a:solidFill>
                <a:latin typeface="Arial"/>
              </a:rPr>
              <a:t>         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411960" y="1701720"/>
            <a:ext cx="1779480" cy="17812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857920" y="3801960"/>
            <a:ext cx="2755800" cy="19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28" name="" descr="Examen del recién nacido"/>
          <p:cNvPicPr/>
          <p:nvPr/>
        </p:nvPicPr>
        <p:blipFill>
          <a:blip r:embed="rId1"/>
          <a:stretch/>
        </p:blipFill>
        <p:spPr>
          <a:xfrm>
            <a:off x="1403280" y="836640"/>
            <a:ext cx="626436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66ff"/>
                </a:solidFill>
                <a:latin typeface="Times New Roman"/>
              </a:rPr>
              <a:t>Apego, Vínculo  **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6699"/>
                </a:solidFill>
                <a:latin typeface="Arial"/>
                <a:ea typeface="Gulim"/>
              </a:rPr>
              <a:t>la reciprocidad de las relaciones tempranas, la que es una precondición del desarrollo normal, probablemente, en todos los mamíferos, incluyendo a lo humanos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6699"/>
                </a:solidFill>
                <a:latin typeface="Arial"/>
                <a:ea typeface="Gulim"/>
              </a:rPr>
              <a:t>determinadas genéticamente, siendo las figuras de apego las variables determinadas por el ambiente. 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6699"/>
                </a:solidFill>
                <a:latin typeface="Arial"/>
                <a:ea typeface="Gulim"/>
              </a:rPr>
              <a:t>proceso de vinculación como una necesidad primaria, vital para el normal desarrollo tanto físico como psicológico del individuo, 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6699"/>
                </a:solidFill>
                <a:latin typeface="Arial"/>
                <a:ea typeface="Gulim"/>
              </a:rPr>
              <a:t>proceso que se inicia con el deseo de tener un hijo, que se continua desde el nacimiento hasta sus primeros años y sobre el cual pesa la historia vincular de sus padres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66ff"/>
                </a:solidFill>
                <a:latin typeface="Times New Roman"/>
              </a:rPr>
              <a:t>Recién Nacido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6699"/>
                </a:solidFill>
                <a:latin typeface="Arial"/>
              </a:rPr>
              <a:t>Aspecto general, Piel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6699"/>
                </a:solidFill>
                <a:latin typeface="Arial"/>
              </a:rPr>
              <a:t>Cardiopulmonar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6699"/>
                </a:solidFill>
                <a:latin typeface="Arial"/>
              </a:rPr>
              <a:t>Termoregulación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6699"/>
                </a:solidFill>
                <a:latin typeface="Arial"/>
              </a:rPr>
              <a:t>Metabolismo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6699"/>
                </a:solidFill>
                <a:latin typeface="Arial"/>
              </a:rPr>
              <a:t>Nutrición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6699"/>
                </a:solidFill>
                <a:latin typeface="Arial"/>
              </a:rPr>
              <a:t>Neurológico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6699"/>
                </a:solidFill>
                <a:latin typeface="Arial"/>
              </a:rPr>
              <a:t>Renal/homeostasis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6699"/>
                </a:solidFill>
                <a:latin typeface="Arial"/>
              </a:rPr>
              <a:t>Inmunidad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971640" y="549360"/>
            <a:ext cx="7480080" cy="52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187280" y="477720"/>
            <a:ext cx="6769440" cy="56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646280" y="2357280"/>
            <a:ext cx="3338640" cy="33386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664240" y="2487600"/>
            <a:ext cx="313992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RECIEN NACIDO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RECIMIENTO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DESARROLLO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ALIMENTACIÓN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SOCIAL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FACTORES DE RIESGO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PREVENCION DE ACCIDENTE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RECIMIENTO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PESO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ALLA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IRCUNFERENCIA CRÁNEO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042920" y="836640"/>
            <a:ext cx="2381400" cy="24764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515960" y="3403440"/>
            <a:ext cx="2962440" cy="1859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788000" y="620640"/>
            <a:ext cx="2387520" cy="2521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4645080" y="3600360"/>
            <a:ext cx="2176560" cy="13892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6443640" y="3213000"/>
            <a:ext cx="2376360" cy="22575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DESARROLLO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Reflejo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ff"/>
                </a:solidFill>
                <a:uFillTx/>
                <a:latin typeface="Arial"/>
                <a:hlinkClick r:id="rId1" action="ppaction://hlinksldjump"/>
              </a:rPr>
              <a:t>Reflejo de Moro</a:t>
            </a:r>
            <a:r>
              <a:rPr b="1" lang="en-US" sz="3200" spc="-1" strike="noStrike" u="sng">
                <a:solidFill>
                  <a:srgbClr val="003399"/>
                </a:solidFill>
                <a:uFillTx/>
                <a:latin typeface="Arial"/>
              </a:rPr>
              <a:t> 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ff"/>
                </a:solidFill>
                <a:uFillTx/>
                <a:latin typeface="Arial"/>
                <a:hlinkClick r:id="rId2" action="ppaction://hlinksldjump"/>
              </a:rPr>
              <a:t>Reflejo de prensión</a:t>
            </a:r>
            <a:r>
              <a:rPr b="1" lang="en-US" sz="3200" spc="-1" strike="noStrike" u="sng">
                <a:solidFill>
                  <a:srgbClr val="003399"/>
                </a:solidFill>
                <a:uFillTx/>
                <a:latin typeface="Arial"/>
              </a:rPr>
              <a:t> 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ff"/>
                </a:solidFill>
                <a:uFillTx/>
                <a:latin typeface="Arial"/>
                <a:hlinkClick r:id="rId3" action="ppaction://hlinksldjump"/>
              </a:rPr>
              <a:t>Reflejo de búsqueda</a:t>
            </a:r>
            <a:r>
              <a:rPr b="1" lang="en-US" sz="3200" spc="-1" strike="noStrike" u="sng">
                <a:solidFill>
                  <a:srgbClr val="003399"/>
                </a:solidFill>
                <a:uFillTx/>
                <a:latin typeface="Arial"/>
              </a:rPr>
              <a:t> 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ff"/>
                </a:solidFill>
                <a:uFillTx/>
                <a:latin typeface="Arial"/>
                <a:hlinkClick r:id="rId4" action="ppaction://hlinksldjump"/>
              </a:rPr>
              <a:t>Reflejo de la marcha automática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66ff"/>
                </a:solidFill>
                <a:latin typeface="Times New Roman"/>
              </a:rPr>
              <a:t>¿Cómo estimulamos?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99"/>
                </a:solidFill>
                <a:latin typeface="Arial"/>
              </a:rPr>
              <a:t>Desarrollo sicomotor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6699"/>
                </a:solidFill>
                <a:latin typeface="Arial"/>
              </a:rPr>
              <a:t>Fijar la mirada, aunque sea un rato corto en la persona que se pone delante de él.</a:t>
            </a:r>
            <a:r>
              <a:rPr b="1" lang="es-ES" sz="20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6699"/>
                </a:solidFill>
                <a:latin typeface="Arial"/>
              </a:rPr>
              <a:t>Si uno pone un dedo en su manito, deberá poder apretarlo.</a:t>
            </a:r>
            <a:r>
              <a:rPr b="1" lang="es-ES" sz="20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6699"/>
                </a:solidFill>
                <a:latin typeface="Arial"/>
              </a:rPr>
              <a:t>Seguir con la mirada algo que Ud. le muestra y mueve lentamente</a:t>
            </a:r>
            <a:r>
              <a:rPr b="1" lang="es-ES" sz="20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6699"/>
                </a:solidFill>
                <a:latin typeface="Arial"/>
              </a:rPr>
              <a:t>Al ponerlo de guatita, vuelve su cabeza al otro lado ó la levanta un poco. </a:t>
            </a:r>
            <a:r>
              <a:rPr b="1" lang="es-ES" sz="20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6699"/>
                </a:solidFill>
                <a:latin typeface="Arial"/>
              </a:rPr>
              <a:t>Responde de alguna forma al oir algún ruido, sea con pestañeo, cesación de la actividad, llanto, etc.</a:t>
            </a:r>
            <a:r>
              <a:rPr b="1" lang="es-ES" sz="20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6699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370160" y="2355840"/>
            <a:ext cx="3814560" cy="2754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5859360" y="1676520"/>
            <a:ext cx="2752920" cy="19875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6459480" y="3801960"/>
            <a:ext cx="1550880" cy="19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ALIMENTACIÓN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LME…….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492360" y="1287360"/>
            <a:ext cx="466092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332000" y="781200"/>
            <a:ext cx="6769080" cy="51195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SOCIAL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549440" y="2486160"/>
            <a:ext cx="3454200" cy="24937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Los &quot;nenes&quot;"/>
          <p:cNvPicPr/>
          <p:nvPr/>
        </p:nvPicPr>
        <p:blipFill>
          <a:blip r:embed="rId2"/>
          <a:stretch/>
        </p:blipFill>
        <p:spPr>
          <a:xfrm>
            <a:off x="5327640" y="2355840"/>
            <a:ext cx="381492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FACTORES DE RIESGO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¿CUÁLES?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PATOLOGÍA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62" name="" descr="Imágen: Se ve un recien nacido afectado por espina bifida, que se manifiesta por la salida del contenido del conducto vertebral como si fuera &quot;una hernia&quot; localizada en la espalda del recien nacido"/>
          <p:cNvPicPr/>
          <p:nvPr/>
        </p:nvPicPr>
        <p:blipFill>
          <a:blip r:embed="rId1"/>
          <a:stretch/>
        </p:blipFill>
        <p:spPr>
          <a:xfrm>
            <a:off x="324000" y="3213000"/>
            <a:ext cx="3416040" cy="25812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4427640" y="1413000"/>
            <a:ext cx="3743280" cy="28051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5292720" y="4437000"/>
            <a:ext cx="269064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PREVENCION DE ACCIDENTES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 LES OCURRE?????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PREVENCION DE ACCIDENTES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6699"/>
                </a:solidFill>
                <a:latin typeface="Arial"/>
              </a:rPr>
              <a:t>A esta edad el bebé no realiza muchos movimientos, pero de todos modos es importante tomar medidas para evitar caídas, quemaduras y ahogos, principales accidentes sufridos por las guaguas. 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336699"/>
                </a:solidFill>
                <a:latin typeface="Arial"/>
              </a:rPr>
              <a:t>· Hacerlo dormir apoyado en el costado derecho o de espalda con la cuna levantada dejando la cabeza a mayor altura que el resto del cuerpo para disminuir el reflujo y evitar que regurgite leche.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336699"/>
                </a:solidFill>
                <a:latin typeface="Arial"/>
              </a:rPr>
              <a:t>· Nunca sacudir ni mover muy fuerte.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336699"/>
                </a:solidFill>
                <a:latin typeface="Arial"/>
              </a:rPr>
              <a:t>· Nunca dejarlo solo en un lugar elevado ni en la tina.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336699"/>
                </a:solidFill>
                <a:latin typeface="Arial"/>
              </a:rPr>
              <a:t>· No dejarlo solo con un hermano pequeño o una mascota.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336699"/>
                </a:solidFill>
                <a:latin typeface="Arial"/>
              </a:rPr>
              <a:t>  </a:t>
            </a:r>
            <a:br>
              <a:rPr sz="1400"/>
            </a:br>
            <a:r>
              <a:rPr b="1" lang="en-US" sz="1400" spc="-1" strike="noStrike">
                <a:solidFill>
                  <a:srgbClr val="336699"/>
                </a:solidFill>
                <a:latin typeface="Arial"/>
              </a:rPr>
              <a:t>· Mantenerlo completamente alejado de la luz solar directa y no usar protector solar.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336699"/>
                </a:solidFill>
                <a:latin typeface="Arial"/>
              </a:rPr>
              <a:t>· No sostener líquidos calientes mientras se le tiene en brazos.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336699"/>
                </a:solidFill>
                <a:latin typeface="Arial"/>
              </a:rPr>
              <a:t>· No fumar, ni permitir que otros fumen en el hogar.</a:t>
            </a: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LACTANTES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DEFINICIÓN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ONCEPTOS GENERALES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DEFINICIONES: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Recién nacido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:0 a 28 día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Lactantes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: menor 1 a 12 mese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440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mayor 12 a 24 mese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Preescolar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: 2 a 6 año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Escolar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: 6 a 18 año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Adolescente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: 12 a ……….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¡¡¡UFF!!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omo enfrentamos un niño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No son adultos pequeño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recen y se desarrollan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Logros y metas definida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upervisión de salud del niño y adolescente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Insertos en una familia y sociedad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5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ATENCION INTEGRAL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66ff"/>
                </a:solidFill>
                <a:latin typeface="Times New Roman"/>
              </a:rPr>
              <a:t>Crecimiento y proporciones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24000" y="2205000"/>
            <a:ext cx="84247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ESTADISTICAS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TASA DE NATALIDAD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15.03 NV/1000 HABITANTES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MORTALIDAD INFANTIL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2004 7,8 MUERTES &lt;1año/1000 NV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788000" y="1197000"/>
            <a:ext cx="3446280" cy="23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5551560" y="3801960"/>
          <a:ext cx="3365280" cy="198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51560" y="3801960"/>
                    <a:ext cx="3365280" cy="19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ff"/>
                </a:solidFill>
                <a:latin typeface="Times New Roman"/>
              </a:rPr>
              <a:t>CARACTERÍSTICAS DEL DESARROLLO</a:t>
            </a:r>
            <a:br>
              <a:rPr sz="3200"/>
            </a:b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6699"/>
                </a:solidFill>
                <a:latin typeface="Arial"/>
              </a:rPr>
              <a:t>CRECIMIENTO (cuantitativo) – DESARROLLO (cualitativo)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6699"/>
                </a:solidFill>
                <a:latin typeface="Arial"/>
              </a:rPr>
              <a:t>Proceso continuo y ordenado, cambios previsibles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6699"/>
                </a:solidFill>
                <a:latin typeface="Arial"/>
              </a:rPr>
              <a:t>Organización basada en los niveles anteriores, es decir, cada fase es un soporte para la función siguiente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6699"/>
                </a:solidFill>
                <a:latin typeface="Arial"/>
              </a:rPr>
              <a:t>Dirección céfalo caudal, de proximal a distal y de actividades globales a específicas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6699"/>
                </a:solidFill>
                <a:latin typeface="Arial"/>
              </a:rPr>
              <a:t>El ritmo y la intensidad de las funciones son propias a cada individuo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27280" y="167652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427640" y="1197000"/>
            <a:ext cx="44654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QUE EVALUAR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A TODA EDAD: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CRECIMIENTO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: MEDIDAS ANTROPOMÉTRICAS: PESO, TALLA, CIRCUNFERENCIA CRÁNEO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DESARROLLO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: HITOS DEL DSM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ALIMENTACIÓN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: EVALUACIÓN NUTRICIONAL: DN, RIESGO DN, EUTROFIA, SP U OBESIDAD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OCIAL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: TIPO FAMILIA, Nº HIJO, CARACT PADRES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FACTORES DE RIESGO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: MADRE ADOLESCENTE, MADRE SOLTERA, POBREZA, DROGADICCIÓN, SALA CUNA, CONT. INTRADOMICILIARIA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HABILIDADES PARA LA VIDA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AUTOESTIMA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CONCIENCIA DE SI MISMO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COMUNICACIÓN EFECTIVA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ASERTIVIDAD, EMPATÍA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BUENAS RELACIONES PERSONALES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CAPACIDAD DE RESOLVER PROBLEMAS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MANEJO ADECUADO DE EMOCIONES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RESILIENCIA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2T21:12:56Z</dcterms:created>
  <dc:creator>thelmy</dc:creator>
  <dc:description/>
  <dc:language>en-US</dc:language>
  <cp:lastModifiedBy>thelmy</cp:lastModifiedBy>
  <dcterms:modified xsi:type="dcterms:W3CDTF">2008-04-24T02:20:55Z</dcterms:modified>
  <cp:revision>4</cp:revision>
  <dc:subject/>
  <dc:title>CRECIMIENTO Y DESARROLLO NORMAL DEL NIÑO</dc:title>
</cp:coreProperties>
</file>