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jpeg" ContentType="image/jpeg"/>
  <Override PartName="/ppt/media/image26.jpeg" ContentType="image/jpeg"/>
  <Override PartName="/ppt/media/image5.jpeg" ContentType="image/jpeg"/>
  <Override PartName="/ppt/media/image25.jpeg" ContentType="image/jpeg"/>
  <Override PartName="/ppt/media/image2.png" ContentType="image/png"/>
  <Override PartName="/ppt/media/image4.jpeg" ContentType="image/jpeg"/>
  <Override PartName="/ppt/media/image10.wmf" ContentType="image/x-wmf"/>
  <Override PartName="/ppt/media/image14.jpeg" ContentType="image/jpeg"/>
  <Override PartName="/ppt/media/image8.png" ContentType="image/png"/>
  <Override PartName="/ppt/media/image27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29.jpeg" ContentType="image/jpeg"/>
  <Override PartName="/ppt/media/image28.jpeg" ContentType="image/jpeg"/>
  <Override PartName="/ppt/media/whoosh.wav" ContentType="audio/x-wav"/>
  <Override PartName="/ppt/media/image3.jpeg" ContentType="image/jpeg"/>
  <Override PartName="/ppt/media/image1.png" ContentType="image/png"/>
  <Override PartName="/ppt/media/image24.png" ContentType="image/png"/>
  <Override PartName="/ppt/media/image11.jpeg" ContentType="image/jpeg"/>
  <Override PartName="/ppt/media/image13.jpeg" ContentType="image/jpeg"/>
  <Override PartName="/ppt/media/image15.jpeg" ContentType="image/jpeg"/>
  <Override PartName="/ppt/media/image16.jpeg" ContentType="image/jpeg"/>
  <Override PartName="/ppt/media/image17.png" ContentType="image/png"/>
  <Override PartName="/ppt/media/image18.jpeg" ContentType="image/jpeg"/>
  <Override PartName="/ppt/media/image19.png" ContentType="image/png"/>
  <Override PartName="/ppt/media/image20.jpeg" ContentType="image/jpeg"/>
  <Override PartName="/ppt/media/image21.jpeg" ContentType="image/jpeg"/>
  <Override PartName="/ppt/media/image9.png" ContentType="image/png"/>
  <Override PartName="/ppt/media/image2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E45A6-FD97-4DC1-8536-A3DE3096F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4B1FB-2053-448E-A878-3C90B0029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81D07-D176-4C42-9DA2-38A7DD6E6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998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62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370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998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62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B2F37-BCA3-46D0-8DD2-576A99CB4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CA07D-3256-43BE-BEB6-F5615B97D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50B48-B35C-4B61-A375-DA17298A4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26C01-B8F9-4FDA-9AAF-FE3DC3D45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C7468-63A7-4718-8EEF-0B5A4BB31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734E3-78EC-4A35-899C-7290A878C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370160" y="247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CA3AA-20AA-443E-A39A-18EED73F1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C0931-1BE3-4B36-8B4E-8ED73C13C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593BA-ECA5-473F-B6B6-C4B037A6C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7E84F-9692-46B0-9AF5-60F7AA355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73BA2-FA46-44DF-9742-2B6F3B578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7F4E8-95D0-4C5C-BFAA-D04EB0857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FCEB8-6D3B-4F88-B348-DDF6C61F5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998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62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370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998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62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34AD5-4994-4F8C-B18A-57A9A4BE9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4434A-6266-4068-8F23-1144DD37A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308CD-E9BB-487E-A784-5501633C2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BD7F9-DFB4-48A6-BFD1-AA15ECFD1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370160" y="247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5CFE1-96E1-413D-B95E-D1650EACF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2DDB4-0C51-4D91-BB1F-785791322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E4D0D-346F-4421-BF76-A876EAEF6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3601A-4BF5-4395-819F-B5C0AEB74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680" y="0"/>
            <a:ext cx="1728360" cy="6865560"/>
            <a:chOff x="4680" y="0"/>
            <a:chExt cx="1728360" cy="6865560"/>
          </a:xfrm>
        </p:grpSpPr>
        <p:sp>
          <p:nvSpPr>
            <p:cNvPr id="1" name=""/>
            <p:cNvSpPr/>
            <p:nvPr/>
          </p:nvSpPr>
          <p:spPr>
            <a:xfrm>
              <a:off x="4680" y="465120"/>
              <a:ext cx="799560" cy="640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10800000"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933840" y="465120"/>
              <a:ext cx="799200" cy="640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800000"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24000" y="0"/>
              <a:ext cx="1066680" cy="6856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rot="6000000">
              <a:off x="551880" y="590400"/>
              <a:ext cx="723960" cy="571680"/>
            </a:xfrm>
            <a:prstGeom prst="triangle">
              <a:avLst>
                <a:gd name="adj" fmla="val 49995"/>
              </a:avLst>
            </a:prstGeom>
            <a:gradFill rotWithShape="0">
              <a:gsLst>
                <a:gs pos="0">
                  <a:srgbClr val="ff99ff"/>
                </a:gs>
                <a:gs pos="100000">
                  <a:srgbClr val="66ccff"/>
                </a:gs>
              </a:gsLst>
              <a:lin ang="10800000"/>
            </a:gradFill>
            <a:ln w="0">
              <a:noFill/>
            </a:ln>
            <a:effectLst>
              <a:outerShdw dist="107932" dir="2700000" blurRad="0" rotWithShape="0">
                <a:srgbClr val="afb5d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457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4267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723744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A1DD3-CD58-43D8-81D5-DD13244548F9}" type="slidenum"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4680" y="0"/>
            <a:ext cx="1728360" cy="6865560"/>
            <a:chOff x="4680" y="0"/>
            <a:chExt cx="1728360" cy="6865560"/>
          </a:xfrm>
        </p:grpSpPr>
        <p:sp>
          <p:nvSpPr>
            <p:cNvPr id="47" name=""/>
            <p:cNvSpPr/>
            <p:nvPr/>
          </p:nvSpPr>
          <p:spPr>
            <a:xfrm>
              <a:off x="4680" y="465120"/>
              <a:ext cx="799560" cy="640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10800000"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933840" y="465120"/>
              <a:ext cx="799200" cy="640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800000"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24000" y="0"/>
              <a:ext cx="1066680" cy="6856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rot="6000000">
              <a:off x="551880" y="2609640"/>
              <a:ext cx="723960" cy="571680"/>
            </a:xfrm>
            <a:prstGeom prst="triangle">
              <a:avLst>
                <a:gd name="adj" fmla="val 49995"/>
              </a:avLst>
            </a:prstGeom>
            <a:gradFill rotWithShape="0">
              <a:gsLst>
                <a:gs pos="0">
                  <a:srgbClr val="ff99ff"/>
                </a:gs>
                <a:gs pos="100000">
                  <a:srgbClr val="66ccff"/>
                </a:gs>
              </a:gsLst>
              <a:lin ang="10800000"/>
            </a:gradFill>
            <a:ln w="0">
              <a:noFill/>
            </a:ln>
            <a:effectLst>
              <a:outerShdw dist="107932" dir="2700000" blurRad="0" rotWithShape="0">
                <a:srgbClr val="afb5d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016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457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20004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723744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3E4E9-DEE6-4CCD-96D3-ADB942D187D8}" type="slidenum"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vidahumana.org/vidafam/aborto/newborn.html" TargetMode="Externa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" Target="slide25.xml"/><Relationship Id="rId4" Type="http://schemas.openxmlformats.org/officeDocument/2006/relationships/slide" Target="slide4.xml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8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7016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Verdana"/>
              </a:rPr>
              <a:t>CRECIMIENTO Y DESARROLLO NORMAL DEL NIÑO</a:t>
            </a:r>
            <a:endParaRPr b="0" lang="en-US" sz="36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Arial"/>
              </a:rPr>
              <a:t>DRA. THELMA SUAU C.</a:t>
            </a:r>
            <a:endParaRPr b="1" lang="en-US" sz="1600" spc="-1" strike="noStrike">
              <a:solidFill>
                <a:srgbClr val="336699"/>
              </a:solidFill>
              <a:latin typeface="Arial"/>
            </a:endParaRPr>
          </a:p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Arial"/>
              </a:rPr>
              <a:t>DPTO PEDIATRIA Y CIRUGIA INFANTIL SUR</a:t>
            </a:r>
            <a:endParaRPr b="1" lang="en-US" sz="1600" spc="-1" strike="noStrike">
              <a:solidFill>
                <a:srgbClr val="336699"/>
              </a:solidFill>
              <a:latin typeface="Arial"/>
            </a:endParaRPr>
          </a:p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Arial"/>
              </a:rPr>
              <a:t>UNIVERSIDAD DE CHILE</a:t>
            </a:r>
            <a:endParaRPr b="1" lang="en-US" sz="16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94" name="logo U" descr=""/>
          <p:cNvPicPr/>
          <p:nvPr/>
        </p:nvPicPr>
        <p:blipFill>
          <a:blip r:embed="rId1"/>
          <a:stretch/>
        </p:blipFill>
        <p:spPr>
          <a:xfrm>
            <a:off x="4067280" y="549360"/>
            <a:ext cx="806400" cy="151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RECIEN NACIDO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8145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¿Qué experiencia tienen?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¿Podrían señalar algunas características?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22" name="" descr="newborn-rachel.jpg - 15349 Byte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716360" y="2276640"/>
            <a:ext cx="4000680" cy="26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66ff"/>
                </a:solidFill>
                <a:latin typeface="Times New Roman"/>
              </a:rPr>
              <a:t>¿ A quién estamos esperando?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8145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6699"/>
                </a:solidFill>
                <a:latin typeface="Arial"/>
              </a:rPr>
              <a:t>Recién nacido </a:t>
            </a:r>
            <a:r>
              <a:rPr b="0" lang="es-ES_tradnl" sz="2400" spc="-1" strike="noStrike">
                <a:solidFill>
                  <a:srgbClr val="66ccff"/>
                </a:solidFill>
                <a:latin typeface="Arial"/>
              </a:rPr>
              <a:t>normal</a:t>
            </a:r>
            <a:r>
              <a:rPr b="0" lang="es-ES_tradnl" sz="2400" spc="-1" strike="noStrike">
                <a:solidFill>
                  <a:srgbClr val="336699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6699"/>
                </a:solidFill>
                <a:latin typeface="Arial"/>
              </a:rPr>
              <a:t>   </a:t>
            </a:r>
            <a:r>
              <a:rPr b="0" lang="es-ES_tradnl" sz="2400" spc="-1" strike="noStrike">
                <a:solidFill>
                  <a:srgbClr val="336699"/>
                </a:solidFill>
                <a:latin typeface="Arial"/>
              </a:rPr>
              <a:t>&gt;37s, sin malformaciones, ni procesos patológicos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6699"/>
                </a:solidFill>
                <a:latin typeface="Arial"/>
              </a:rPr>
              <a:t>Desarrollo   intrauterino</a:t>
            </a: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6699"/>
                </a:solidFill>
                <a:latin typeface="Arial"/>
              </a:rPr>
              <a:t>Nacimiento</a:t>
            </a: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336699"/>
                </a:solidFill>
                <a:uFillTx/>
                <a:latin typeface="Arial"/>
              </a:rPr>
              <a:t>Adaptación</a:t>
            </a: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6699"/>
                </a:solidFill>
                <a:latin typeface="Arial"/>
              </a:rPr>
              <a:t>         </a:t>
            </a: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411960" y="1701720"/>
            <a:ext cx="1779480" cy="17812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5857920" y="3801960"/>
            <a:ext cx="2755800" cy="19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pic>
        <p:nvPicPr>
          <p:cNvPr id="128" name="" descr="Examen del recién nacido"/>
          <p:cNvPicPr/>
          <p:nvPr/>
        </p:nvPicPr>
        <p:blipFill>
          <a:blip r:embed="rId1"/>
          <a:stretch/>
        </p:blipFill>
        <p:spPr>
          <a:xfrm>
            <a:off x="1403280" y="836640"/>
            <a:ext cx="6264360" cy="50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66ff"/>
                </a:solidFill>
                <a:latin typeface="Times New Roman"/>
              </a:rPr>
              <a:t>Apego, Vínculo  **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336699"/>
                </a:solidFill>
                <a:latin typeface="Arial"/>
                <a:ea typeface="Gulim"/>
              </a:rPr>
              <a:t>la reciprocidad de las relaciones tempranas, la que es una precondición del desarrollo normal, probablemente, en todos los mamíferos, incluyendo a lo humanos.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336699"/>
                </a:solidFill>
                <a:latin typeface="Arial"/>
                <a:ea typeface="Gulim"/>
              </a:rPr>
              <a:t>determinadas genéticamente, siendo las figuras de apego las variables determinadas por el ambiente. 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336699"/>
                </a:solidFill>
                <a:latin typeface="Arial"/>
                <a:ea typeface="Gulim"/>
              </a:rPr>
              <a:t>proceso de vinculación como una necesidad primaria, vital para el normal desarrollo tanto físico como psicológico del individuo, 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336699"/>
                </a:solidFill>
                <a:latin typeface="Arial"/>
                <a:ea typeface="Gulim"/>
              </a:rPr>
              <a:t>proceso que se inicia con el deseo de tener un hijo, que se continua desde el nacimiento hasta sus primeros años y sobre el cual pesa la historia vincular de sus padres.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66ff"/>
                </a:solidFill>
                <a:latin typeface="Times New Roman"/>
              </a:rPr>
              <a:t>Recién Nacido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6699"/>
                </a:solidFill>
                <a:latin typeface="Arial"/>
              </a:rPr>
              <a:t>Aspecto general, Piel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6699"/>
                </a:solidFill>
                <a:latin typeface="Arial"/>
              </a:rPr>
              <a:t>Cardiopulmonar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6699"/>
                </a:solidFill>
                <a:latin typeface="Arial"/>
              </a:rPr>
              <a:t>Termoregulación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6699"/>
                </a:solidFill>
                <a:latin typeface="Arial"/>
              </a:rPr>
              <a:t>Metabolismo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6699"/>
                </a:solidFill>
                <a:latin typeface="Arial"/>
              </a:rPr>
              <a:t>Nutrición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6699"/>
                </a:solidFill>
                <a:latin typeface="Arial"/>
              </a:rPr>
              <a:t>Neurológico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6699"/>
                </a:solidFill>
                <a:latin typeface="Arial"/>
              </a:rPr>
              <a:t>Renal/homeostasis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6699"/>
                </a:solidFill>
                <a:latin typeface="Arial"/>
              </a:rPr>
              <a:t>Inmunidad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971640" y="549360"/>
            <a:ext cx="7480080" cy="523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187280" y="477720"/>
            <a:ext cx="6769440" cy="56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646280" y="2357280"/>
            <a:ext cx="3338640" cy="333864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5664240" y="2487600"/>
            <a:ext cx="3139920" cy="24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RECIEN NACIDO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CRECIMIENTO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2880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288000" indent="-288000"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DESARROLLO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2880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288000" indent="-288000"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ALIMENTACIÓN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2880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288000" indent="-288000"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SOCIAL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2880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288000" indent="-288000"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FACTORES DE RIESGO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2880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288000" indent="-288000"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PREVENCION DE ACCIDENTES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CRECIMIENTO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PESO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ALLA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IRCUNFERENCIA CRÁNEO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042920" y="836640"/>
            <a:ext cx="2381400" cy="24764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1515960" y="3403440"/>
            <a:ext cx="2962440" cy="18590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788000" y="620640"/>
            <a:ext cx="2387520" cy="25210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99" name="" descr=""/>
          <p:cNvPicPr/>
          <p:nvPr/>
        </p:nvPicPr>
        <p:blipFill>
          <a:blip r:embed="rId4"/>
          <a:stretch/>
        </p:blipFill>
        <p:spPr>
          <a:xfrm>
            <a:off x="4645080" y="3600360"/>
            <a:ext cx="2176560" cy="13892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100" name="" descr=""/>
          <p:cNvPicPr/>
          <p:nvPr/>
        </p:nvPicPr>
        <p:blipFill>
          <a:blip r:embed="rId5"/>
          <a:stretch/>
        </p:blipFill>
        <p:spPr>
          <a:xfrm>
            <a:off x="6443640" y="3213000"/>
            <a:ext cx="2376360" cy="225756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DESARROLLO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Reflejos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99ff"/>
                </a:solidFill>
                <a:uFillTx/>
                <a:latin typeface="Arial"/>
                <a:hlinkClick r:id="rId1" action="ppaction://hlinksldjump"/>
              </a:rPr>
              <a:t>Reflejo de Moro</a:t>
            </a:r>
            <a:r>
              <a:rPr b="1" lang="en-US" sz="3200" spc="-1" strike="noStrike" u="sng">
                <a:solidFill>
                  <a:srgbClr val="003399"/>
                </a:solidFill>
                <a:uFillTx/>
                <a:latin typeface="Arial"/>
              </a:rPr>
              <a:t> 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99ff"/>
                </a:solidFill>
                <a:uFillTx/>
                <a:latin typeface="Arial"/>
                <a:hlinkClick r:id="rId2" action="ppaction://hlinksldjump"/>
              </a:rPr>
              <a:t>Reflejo de prensión</a:t>
            </a:r>
            <a:r>
              <a:rPr b="1" lang="en-US" sz="3200" spc="-1" strike="noStrike" u="sng">
                <a:solidFill>
                  <a:srgbClr val="003399"/>
                </a:solidFill>
                <a:uFillTx/>
                <a:latin typeface="Arial"/>
              </a:rPr>
              <a:t> 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99ff"/>
                </a:solidFill>
                <a:uFillTx/>
                <a:latin typeface="Arial"/>
                <a:hlinkClick r:id="rId3" action="ppaction://hlinksldjump"/>
              </a:rPr>
              <a:t>Reflejo de búsqueda</a:t>
            </a:r>
            <a:r>
              <a:rPr b="1" lang="en-US" sz="3200" spc="-1" strike="noStrike" u="sng">
                <a:solidFill>
                  <a:srgbClr val="003399"/>
                </a:solidFill>
                <a:uFillTx/>
                <a:latin typeface="Arial"/>
              </a:rPr>
              <a:t> 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99ff"/>
                </a:solidFill>
                <a:uFillTx/>
                <a:latin typeface="Arial"/>
                <a:hlinkClick r:id="rId4" action="ppaction://hlinksldjump"/>
              </a:rPr>
              <a:t>Reflejo de la marcha automática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66ff"/>
                </a:solidFill>
                <a:latin typeface="Times New Roman"/>
              </a:rPr>
              <a:t>¿Cómo estimulamos?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6699"/>
                </a:solidFill>
                <a:latin typeface="Arial"/>
              </a:rPr>
              <a:t>Desarrollo sicomotor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6699"/>
                </a:solidFill>
                <a:latin typeface="Arial"/>
              </a:rPr>
              <a:t>Fijar la mirada, aunque sea un rato corto en la persona que se pone delante de él.</a:t>
            </a:r>
            <a:r>
              <a:rPr b="1" lang="es-ES" sz="2000" spc="-1" strike="noStrike">
                <a:solidFill>
                  <a:srgbClr val="336699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6699"/>
                </a:solidFill>
                <a:latin typeface="Arial"/>
              </a:rPr>
              <a:t>Si uno pone un dedo en su manito, deberá poder apretarlo.</a:t>
            </a:r>
            <a:r>
              <a:rPr b="1" lang="es-ES" sz="2000" spc="-1" strike="noStrike">
                <a:solidFill>
                  <a:srgbClr val="336699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6699"/>
                </a:solidFill>
                <a:latin typeface="Arial"/>
              </a:rPr>
              <a:t>Seguir con la mirada algo que Ud. le muestra y mueve lentamente</a:t>
            </a:r>
            <a:r>
              <a:rPr b="1" lang="es-ES" sz="2000" spc="-1" strike="noStrike">
                <a:solidFill>
                  <a:srgbClr val="336699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6699"/>
                </a:solidFill>
                <a:latin typeface="Arial"/>
              </a:rPr>
              <a:t>Al ponerlo de guatita, vuelve su cabeza al otro lado ó la levanta un poco. </a:t>
            </a:r>
            <a:r>
              <a:rPr b="1" lang="es-ES" sz="2000" spc="-1" strike="noStrike">
                <a:solidFill>
                  <a:srgbClr val="336699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6699"/>
                </a:solidFill>
                <a:latin typeface="Arial"/>
              </a:rPr>
              <a:t>Responde de alguna forma al oir algún ruido, sea con pestañeo, cesación de la actividad, llanto, etc.</a:t>
            </a:r>
            <a:r>
              <a:rPr b="1" lang="es-ES" sz="2000" spc="-1" strike="noStrike">
                <a:solidFill>
                  <a:srgbClr val="336699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6699"/>
                </a:solidFill>
                <a:latin typeface="Arial"/>
              </a:rPr>
              <a:t> 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370160" y="2355840"/>
            <a:ext cx="3814560" cy="2754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5859360" y="1676520"/>
            <a:ext cx="2752920" cy="198756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6459480" y="3801960"/>
            <a:ext cx="1550880" cy="19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ALIMENTACIÓN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8145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LME……..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3492360" y="1287360"/>
            <a:ext cx="4660920" cy="41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332000" y="781200"/>
            <a:ext cx="6769080" cy="511956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SOCIAL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1549440" y="2486160"/>
            <a:ext cx="3454200" cy="249372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Los &quot;nenes&quot;"/>
          <p:cNvPicPr/>
          <p:nvPr/>
        </p:nvPicPr>
        <p:blipFill>
          <a:blip r:embed="rId2"/>
          <a:stretch/>
        </p:blipFill>
        <p:spPr>
          <a:xfrm>
            <a:off x="5327640" y="2355840"/>
            <a:ext cx="3814920" cy="27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FACTORES DE RIESGO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¿CUÁLES?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PATOLOGÍA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62" name="" descr="Imágen: Se ve un recien nacido afectado por espina bifida, que se manifiesta por la salida del contenido del conducto vertebral como si fuera &quot;una hernia&quot; localizada en la espalda del recien nacido"/>
          <p:cNvPicPr/>
          <p:nvPr/>
        </p:nvPicPr>
        <p:blipFill>
          <a:blip r:embed="rId1"/>
          <a:stretch/>
        </p:blipFill>
        <p:spPr>
          <a:xfrm>
            <a:off x="324000" y="3213000"/>
            <a:ext cx="3416040" cy="258120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4427640" y="1413000"/>
            <a:ext cx="3743280" cy="280512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3"/>
          <a:stretch/>
        </p:blipFill>
        <p:spPr>
          <a:xfrm>
            <a:off x="5292720" y="4437000"/>
            <a:ext cx="2690640" cy="21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ff"/>
                </a:solidFill>
                <a:latin typeface="Times New Roman"/>
              </a:rPr>
              <a:t>PREVENCION DE ACCIDENTES</a:t>
            </a: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 LES OCURRE?????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ff"/>
                </a:solidFill>
                <a:latin typeface="Times New Roman"/>
              </a:rPr>
              <a:t>PREVENCION DE ACCIDENTES</a:t>
            </a: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36699"/>
                </a:solidFill>
                <a:latin typeface="Arial"/>
              </a:rPr>
              <a:t>A esta edad el bebé no realiza muchos movimientos, pero de todos modos es importante tomar medidas para evitar caídas, quemaduras y ahogos, principales accidentes sufridos por las guaguas. </a:t>
            </a:r>
            <a:br>
              <a:rPr sz="1400"/>
            </a:br>
            <a:br>
              <a:rPr sz="1400"/>
            </a:br>
            <a:r>
              <a:rPr b="1" lang="en-US" sz="1400" spc="-1" strike="noStrike">
                <a:solidFill>
                  <a:srgbClr val="336699"/>
                </a:solidFill>
                <a:latin typeface="Arial"/>
              </a:rPr>
              <a:t>· Hacerlo dormir apoyado en el costado derecho o de espalda con la cuna levantada dejando la cabeza a mayor altura que el resto del cuerpo para disminuir el reflujo y evitar que regurgite leche.</a:t>
            </a:r>
            <a:br>
              <a:rPr sz="1400"/>
            </a:br>
            <a:br>
              <a:rPr sz="1400"/>
            </a:br>
            <a:r>
              <a:rPr b="1" lang="en-US" sz="1400" spc="-1" strike="noStrike">
                <a:solidFill>
                  <a:srgbClr val="336699"/>
                </a:solidFill>
                <a:latin typeface="Arial"/>
              </a:rPr>
              <a:t>· Nunca sacudir ni mover muy fuerte.</a:t>
            </a:r>
            <a:br>
              <a:rPr sz="1400"/>
            </a:br>
            <a:br>
              <a:rPr sz="1400"/>
            </a:br>
            <a:r>
              <a:rPr b="1" lang="en-US" sz="1400" spc="-1" strike="noStrike">
                <a:solidFill>
                  <a:srgbClr val="336699"/>
                </a:solidFill>
                <a:latin typeface="Arial"/>
              </a:rPr>
              <a:t>· Nunca dejarlo solo en un lugar elevado ni en la tina.</a:t>
            </a:r>
            <a:br>
              <a:rPr sz="1400"/>
            </a:br>
            <a:br>
              <a:rPr sz="1400"/>
            </a:br>
            <a:r>
              <a:rPr b="1" lang="en-US" sz="1400" spc="-1" strike="noStrike">
                <a:solidFill>
                  <a:srgbClr val="336699"/>
                </a:solidFill>
                <a:latin typeface="Arial"/>
              </a:rPr>
              <a:t>· No dejarlo solo con un hermano pequeño o una mascota.</a:t>
            </a:r>
            <a:br>
              <a:rPr sz="1400"/>
            </a:br>
            <a:br>
              <a:rPr sz="1400"/>
            </a:br>
            <a:r>
              <a:rPr b="1" lang="en-US" sz="1400" spc="-1" strike="noStrike">
                <a:solidFill>
                  <a:srgbClr val="336699"/>
                </a:solidFill>
                <a:latin typeface="Arial"/>
              </a:rPr>
              <a:t>  </a:t>
            </a:r>
            <a:br>
              <a:rPr sz="1400"/>
            </a:br>
            <a:r>
              <a:rPr b="1" lang="en-US" sz="1400" spc="-1" strike="noStrike">
                <a:solidFill>
                  <a:srgbClr val="336699"/>
                </a:solidFill>
                <a:latin typeface="Arial"/>
              </a:rPr>
              <a:t>· Mantenerlo completamente alejado de la luz solar directa y no usar protector solar.</a:t>
            </a:r>
            <a:br>
              <a:rPr sz="1400"/>
            </a:br>
            <a:br>
              <a:rPr sz="1400"/>
            </a:br>
            <a:r>
              <a:rPr b="1" lang="en-US" sz="1400" spc="-1" strike="noStrike">
                <a:solidFill>
                  <a:srgbClr val="336699"/>
                </a:solidFill>
                <a:latin typeface="Arial"/>
              </a:rPr>
              <a:t>· No sostener líquidos calientes mientras se le tiene en brazos.</a:t>
            </a:r>
            <a:br>
              <a:rPr sz="1400"/>
            </a:br>
            <a:br>
              <a:rPr sz="1400"/>
            </a:br>
            <a:r>
              <a:rPr b="1" lang="en-US" sz="1400" spc="-1" strike="noStrike">
                <a:solidFill>
                  <a:srgbClr val="336699"/>
                </a:solidFill>
                <a:latin typeface="Arial"/>
              </a:rPr>
              <a:t>· No fumar, ni permitir que otros fumen en el hogar.</a:t>
            </a:r>
            <a:endParaRPr b="1" lang="en-US" sz="1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LACTANTES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DEFINICIÓN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CONCEPTOS GENERALES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DEFINICIONES: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Recién nacido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:0 a 28 días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Lactantes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: menor 1 a 12 meses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3" marL="1440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mayor 12 a 24 meses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Preescolar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: 2 a 6 años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Escolar 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: 6 a 18 años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Adolescente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: 12 a ………..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	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¡¡¡UFF!!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Como enfrentamos un niño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No son adultos pequeños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recen y se desarrollan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Logros y metas definidas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upervisión de salud del niño y adolescente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Insertos en una familia y sociedad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358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"/>
              </a:rPr>
              <a:t>ATENCION INTEGRAL</a:t>
            </a: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66ff"/>
                </a:solidFill>
                <a:latin typeface="Times New Roman"/>
              </a:rPr>
              <a:t>Crecimiento y proporciones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324000" y="2205000"/>
            <a:ext cx="842472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ESTADISTICAS</a:t>
            </a: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8145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TASA DE NATALIDAD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15.03 NV/1000 HABITANTES</a:t>
            </a: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MORTALIDAD INFANTIL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2004 7,8 MUERTES &lt;1año/1000 NV</a:t>
            </a: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4788000" y="1197000"/>
            <a:ext cx="3446280" cy="23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5551560" y="3801960"/>
          <a:ext cx="3365280" cy="1989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551560" y="3801960"/>
                    <a:ext cx="3365280" cy="198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66ff"/>
                </a:solidFill>
                <a:latin typeface="Times New Roman"/>
              </a:rPr>
              <a:t>CARACTERÍSTICAS DEL DESARROLLO</a:t>
            </a:r>
            <a:br>
              <a:rPr sz="3200"/>
            </a:b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8145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6699"/>
                </a:solidFill>
                <a:latin typeface="Arial"/>
              </a:rPr>
              <a:t>CRECIMIENTO (cuantitativo) – DESARROLLO (cualitativo).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6699"/>
                </a:solidFill>
                <a:latin typeface="Arial"/>
              </a:rPr>
              <a:t>Proceso continuo y ordenado, cambios previsibles.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6699"/>
                </a:solidFill>
                <a:latin typeface="Arial"/>
              </a:rPr>
              <a:t>Organización basada en los niveles anteriores, es decir, cada fase es un soporte para la función siguiente.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6699"/>
                </a:solidFill>
                <a:latin typeface="Arial"/>
              </a:rPr>
              <a:t>Dirección céfalo caudal, de proximal a distal y de actividades globales a específicas.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6699"/>
                </a:solidFill>
                <a:latin typeface="Arial"/>
              </a:rPr>
              <a:t>El ritmo y la intensidad de las funciones son propias a cada individuo.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27280" y="167652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4427640" y="1197000"/>
            <a:ext cx="446544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QUE EVALUAR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A TODA EDAD: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CRECIMIENTO</a:t>
            </a: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: MEDIDAS ANTROPOMÉTRICAS: PESO, TALLA, CIRCUNFERENCIA CRÁNEO.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DESARROLLO</a:t>
            </a: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: HITOS DEL DSM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ALIMENTACIÓN</a:t>
            </a: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: EVALUACIÓN NUTRICIONAL: DN, RIESGO DN, EUTROFIA, SP U OBESIDAD.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SOCIAL</a:t>
            </a: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: TIPO FAMILIA, Nº HIJO, CARACT PADRES.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FACTORES DE RIESGO</a:t>
            </a: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: MADRE ADOLESCENTE, MADRE SOLTERA, POBREZA, DROGADICCIÓN, SALA CUNA, CONT. INTRADOMICILIARIA.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ff"/>
                </a:solidFill>
                <a:latin typeface="Times New Roman"/>
              </a:rPr>
              <a:t>HABILIDADES PARA LA VIDA</a:t>
            </a: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AUTOESTIMA </a:t>
            </a:r>
            <a:r>
              <a:rPr b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 CONCIENCIA DE SI MISMO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COMUNICACIÓN EFECTIVA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ASERTIVIDAD, EMPATÍA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BUENAS RELACIONES PERSONALES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CAPACIDAD DE RESOLVER PROBLEMAS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MANEJO ADECUADO DE EMOCIONES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RESILIENCIA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2T21:12:56Z</dcterms:created>
  <dc:creator>thelmy</dc:creator>
  <dc:description/>
  <dc:language>en-US</dc:language>
  <cp:lastModifiedBy>thelmy</cp:lastModifiedBy>
  <dcterms:modified xsi:type="dcterms:W3CDTF">2008-04-24T02:20:55Z</dcterms:modified>
  <cp:revision>4</cp:revision>
  <dc:subject/>
  <dc:title>CRECIMIENTO Y DESARROLLO NORMAL DEL NIÑO</dc:title>
</cp:coreProperties>
</file>