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FRENAD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8A0-AF78-4073-8162-E399F1AD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849-4DBA-4BC9-A6CF-84DFCDDA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39D-72AC-4D2E-B309-F5DBFEF2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114-0B07-4082-B2CA-970C6650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7B12-B63F-4BFA-9CB6-C391971E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3FEE-3E39-4147-B6E8-65959925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3273-20AE-43F2-808C-95426014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3ED6-3E5C-4B27-990E-6E3312F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10C4-58AA-4B8C-BBBE-C93850B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E408-67E0-4D23-849D-DB1F98CA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D7FA-BDA7-4F34-9A8F-08B187F0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0E8-B376-403A-8FF4-AD38E346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0AD9-7E27-4D99-978C-B1A42BA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916-C257-49BC-B42A-D4DC19A5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1850-CB67-421D-9B21-9C7629F5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340F-C24C-4786-A3B1-87D6DC42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38F-90FD-40E1-AE8E-D8989917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CBE-4A1F-49D6-8FFC-96619A64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D13-E29C-4E89-A78D-AE59864E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977-D787-4496-B4C6-96C9499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6A0-A38B-48B6-BD69-CEA892FA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567-7E25-4636-B54C-11A67B6C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D17-F2C6-4700-A367-AC572B0C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2F1-9788-4236-BE71-4316D4E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97D5-C034-413D-BD00-BCD1F93AC51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34D-DBA9-4446-9A40-B0874C1289F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audio" Target="../media/FRENAD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973440" y="1341360"/>
            <a:ext cx="10117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996666"/>
                </a:solidFill>
                <a:latin typeface="Arial"/>
              </a:rPr>
              <a:t>CONSEJER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MACARENA V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ualidades de un consejero profesion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ctitud positiva no exigente y que no espera recipr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ntendimiento emp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alidez y autent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laridad y transpa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ctual y atin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onsej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: Consejería es la forma profesional de acompañamiento a una persona para ayudarle a clarificar su situación y decidir las acciones que tomar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ósito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Profundizar conocimientos teórico prácticos en los profesionales de la salud para optimizar sus capacidades de comunicación y empa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onsejer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bjetivos generales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nocer acerca del proceso de comunicación interperso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ar destrezas de comun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nocer habilidades de consejer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plicar eficientemente técnicas de consejer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criminar aquellos casos en que no sea indicado el abordaje por consejería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ordinarse en equipo multiprofesional para referir aquellos casos que sean resorte de un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Naturaleza de la relación de consejer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s una relación que se desarrolla, retrocede, se modula y finalmente c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Transferenc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ositiva :el paciente  ve al consejero como si fuera el padre/madre perdonalo todo,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Negativa:Todo lo contr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ff"/>
                </a:solidFill>
                <a:latin typeface="Arial"/>
              </a:rPr>
              <a:t>CONSEJERÍA Y AUTOCONOCIMI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Nos ayuda a reconocer nuestros lí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Permite el uso consciente de nosostros mismos- Nos da claridad y pr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Nos permite distinguir entre nuestros problemas y los de la otr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Principios básicos de Consejer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aciente sabe lo que es mejor para el/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No se debe interpr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Dar consejos rara vez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aciente y el profesional pertenecen a mundos difer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scuchar es la base de la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as tecnicas de enfermería no se deben sobreu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onsejería se puede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ff"/>
                </a:solidFill>
                <a:latin typeface="Arial"/>
              </a:rPr>
              <a:t>CONSIDERACIONES SOBRE SERVICIOS DE CONSEJERÍ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sponsabilidad del conse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fiden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v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pt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gar de reunión Comunicación antes,entre y después de las s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mo dirigirse a la persona y vice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ración de la s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ma de 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996666"/>
                </a:solidFill>
                <a:latin typeface="Arial"/>
              </a:rPr>
              <a:t>DERECHOS DEL PACIENTE EN CONSEJERÍ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poner de ayuda eficiente y sin riesgo de dañ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husar la ayuda ( a menos que haya riesgo para su v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der optar entre hablar y ca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cret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husar la participación de familiares y am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r parte activa en 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996666"/>
                </a:solidFill>
                <a:latin typeface="Arial"/>
              </a:rPr>
              <a:t>DERECHOS DEL PACIENTE EN CONSEJERÍA (2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Intentar desarrollo personal y resolución de conflictos por si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Disponer de algún mecanismo para atención de ur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Solicitar segunda opi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Terminar el proceso de Consej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3:22:06Z</dcterms:created>
  <dc:creator>Facultad de Medicina</dc:creator>
  <dc:description/>
  <dc:language>en-US</dc:language>
  <cp:lastModifiedBy>Facultad de Medicina</cp:lastModifiedBy>
  <dcterms:modified xsi:type="dcterms:W3CDTF">2009-05-13T21:34:33Z</dcterms:modified>
  <cp:revision>3</cp:revision>
  <dc:subject/>
  <dc:title>Diapositiva 1</dc:title>
</cp:coreProperties>
</file>