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FRENAD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D194-3894-46A3-A16E-F6124BEB8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0024-D1FD-4051-9FFB-EDE97E5A0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9869-20FA-46F3-AAF1-35805B52B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700E-D3A6-4AEB-A0F7-BA92BFD0C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91C19-36D5-42B9-A4D4-65BE506A9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22B5F-6F5B-4676-9159-DC0016C1D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6F499-3B09-47FA-A86F-E5451BAD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B61C6-7D13-4A38-86CD-0841C6A63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CB73D-090B-4221-8E1C-503A5351F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31F39-1542-4EA1-93AC-0BCA5D8A3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DF579-DC50-4292-B627-8F3729C3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400A-5F5C-4C59-A295-1251A3297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5DADF-AF74-4A07-AB24-5B08821F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493C6-9AD0-4801-9A29-0704EF21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BD2EE-B15F-443D-8301-12013EA76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9C0A3-C456-45B5-B8F0-B0218E5B6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EA220-4FDF-454F-BBDB-77559F7B7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EAB7-E5BE-4B79-8E35-8BD1B8B8B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0164-A825-42D3-96BC-16F1FDA1D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D9D0-94B4-4E88-AFCA-B64426CA9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60FA-B937-44D9-92D3-516BDD0D7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0544-9DEC-4498-BAF1-6B99A97F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09E6-A797-40AD-9737-63AEFECC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C04C-9DB3-4A6D-A23D-5417F1CE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E1A1F-A489-4707-B33E-8B96189774EE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AAF08-B16E-4279-828F-7A61CD1F45FC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FRENADA.WAV"/><Relationship Id="rId2" Type="http://schemas.openxmlformats.org/officeDocument/2006/relationships/audio" Target="../media/FRENADA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-973440" y="1341360"/>
            <a:ext cx="101170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996666"/>
                </a:solidFill>
                <a:latin typeface="Arial"/>
              </a:rPr>
              <a:t>CONSEJERIA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MACARENA VAL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" dur="1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" dur="1250" fill="hold">
                                          <p:stCondLst>
                                            <p:cond delay="125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" dur="125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5" dur="1250" fill="hold">
                                          <p:stCondLst>
                                            <p:cond delay="375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996666"/>
                </a:solidFill>
                <a:latin typeface="Arial"/>
              </a:rPr>
              <a:t>Cualidades de un consejero profesiona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Actitud positiva no exigente y que no espera reciproc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Entendimiento empá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Calidez y autentic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Claridad y transpar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Actual y ating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996666"/>
                </a:solidFill>
                <a:latin typeface="Arial"/>
              </a:rPr>
              <a:t>Consejeri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Definición</a:t>
            </a: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: Consejería es la forma profesional de acompañamiento a una persona para ayudarle a clarificar su situación y decidir las acciones que tomará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Propósito:</a:t>
            </a: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 Profundizar conocimientos teórico prácticos en los profesionales de la salud para optimizar sus capacidades de comunicación y empat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FREN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FREN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996666"/>
                </a:solidFill>
                <a:latin typeface="Arial"/>
              </a:rPr>
              <a:t>Consejerí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Objetivos generales</a:t>
            </a: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.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Conocer acerca del proceso de comunicación interpersona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Desarrollar destrezas de comunicació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Conocer habilidades de consejerí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Aplicar eficientemente técnicas de consejerí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Discriminar aquellos casos en que no sea indicado el abordaje por consejería,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Coordinarse en equipo multiprofesional para referir aquellos casos que sean resorte de un especial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996666"/>
                </a:solidFill>
                <a:latin typeface="Arial"/>
              </a:rPr>
              <a:t>Naturaleza de la relación de consejerí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Es una relación que se desarrolla, retrocede, se modula y finalmente cre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Transferenci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Char char="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Positiva :el paciente  ve al consejero como si fuera el padre/madre perdonalo todo, posi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Char char="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Negativa:Todo lo contr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ffffff"/>
                </a:solidFill>
                <a:latin typeface="Arial"/>
              </a:rPr>
              <a:t>CONSEJERÍA Y AUTOCONOCIMIENT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996666"/>
                </a:solidFill>
                <a:latin typeface="Arial"/>
              </a:rPr>
              <a:t>Nos ayuda a reconocer nuestros lím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996666"/>
                </a:solidFill>
                <a:latin typeface="Arial"/>
              </a:rPr>
              <a:t>Permite el uso consciente de nosostros mismos- Nos da claridad y preci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996666"/>
                </a:solidFill>
                <a:latin typeface="Arial"/>
              </a:rPr>
              <a:t>Nos permite distinguir entre nuestros problemas y los de la otra perso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996666"/>
                </a:solidFill>
                <a:latin typeface="Arial"/>
              </a:rPr>
              <a:t>Principios básicos de Consejerí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El paciente sabe lo que es mejor para el/e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No se debe interpre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Dar consejos rara vez ayu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El paciente y el profesional pertenecen a mundos difer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Escuchar es la base de la ayu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Las tecnicas de enfermería no se deben sobreus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Consejería se puede apr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ffffff"/>
                </a:solidFill>
                <a:latin typeface="Arial"/>
              </a:rPr>
              <a:t>CONSIDERACIONES SOBRE SERVICIOS DE CONSEJERÍA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esponsabilidad del consej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onfidenci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rivac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pto/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Lugar de reunión Comunicación antes,entre y después de las ses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omo dirigirse a la persona y vicever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uración de la se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Frecu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oma de 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996666"/>
                </a:solidFill>
                <a:latin typeface="Arial"/>
              </a:rPr>
              <a:t>DERECHOS DEL PACIENTE EN CONSEJERÍA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isponer de ayuda eficiente y sin riesgo de dañ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husar la ayuda ( a menos que haya riesgo para su vid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oder optar entre hablar y cal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creto profes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husar la participación de familiares y amig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omar parte activa en el proce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996666"/>
                </a:solidFill>
                <a:latin typeface="Arial"/>
              </a:rPr>
              <a:t>DERECHOS DEL PACIENTE EN CONSEJERÍA (2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996666"/>
                </a:solidFill>
                <a:latin typeface="Arial"/>
              </a:rPr>
              <a:t>Intentar desarrollo personal y resolución de conflictos por si m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996666"/>
                </a:solidFill>
                <a:latin typeface="Arial"/>
              </a:rPr>
              <a:t>Disponer de algún mecanismo para atención de urg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996666"/>
                </a:solidFill>
                <a:latin typeface="Arial"/>
              </a:rPr>
              <a:t>Solicitar segunda opin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996666"/>
                </a:solidFill>
                <a:latin typeface="Arial"/>
              </a:rPr>
              <a:t>Terminar el proceso de Consejer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3:22:06Z</dcterms:created>
  <dc:creator>Facultad de Medicina</dc:creator>
  <dc:description/>
  <dc:language>en-US</dc:language>
  <cp:lastModifiedBy>Facultad de Medicina</cp:lastModifiedBy>
  <dcterms:modified xsi:type="dcterms:W3CDTF">2009-05-13T21:34:33Z</dcterms:modified>
  <cp:revision>3</cp:revision>
  <dc:subject/>
  <dc:title>Diapositiva 1</dc:title>
</cp:coreProperties>
</file>