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FRENAD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1E3-8391-4012-B60D-2C54E925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952D-6C49-41C3-AAA5-1122A06A8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093-8837-49EC-90FC-3CF1AFF0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5A35-24E8-4E0D-8B04-1C0F309C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17B8-1D81-4C10-9B43-1683308B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1F9B-6F4C-4D73-9F88-705D9868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FBE6-A6D5-4EBD-B7F1-8855194C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4434-1221-4671-8F3A-C536131C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C3B9-FF68-404A-B115-FB89068A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E09A-5426-47DA-9C1B-079AA896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D6C7-5D17-4050-88AD-6249BFAD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98E-418A-4213-B1E8-F8F11D91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7FD4-0310-4A82-87C6-38C319BF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6182-A7B8-4DFE-9675-271A092E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CEA77-698C-4D74-B8D9-FDB9A86C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FE21-67FC-41D4-BDE5-EDFACC52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65D8-BE44-4734-9895-C0EBA8FB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A9C7-171F-43E0-9317-583CF4A7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273-50A5-4522-8717-712DF0CB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19D6-430E-4215-A3E6-349CDB94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5C9E-099F-4190-8D6C-12B72C5C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C624-E50B-4FC0-9AF2-AF9A3D6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DE7-9F3D-4F06-88AD-2253690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039-91D2-4951-9ACD-E64BD157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9244-1297-46FA-8FC2-BAF7F484B28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DE23-60D8-4120-8DA2-C5F209B16B0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audio" Target="../media/FRENAD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-973440" y="1341360"/>
            <a:ext cx="10117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MACARENA VAL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" dur="1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" dur="1250" fill="hold">
                                          <p:stCondLst>
                                            <p:cond delay="12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125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5" dur="1250" fill="hold">
                                          <p:stCondLst>
                                            <p:cond delay="375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ualidades de un consejero profesion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itud positiva no exigente y que no espera recipro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ntendimiento empá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alidez y autent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laridad y transpa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Actual y atin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Definición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: Consejería es la forma profesional de acompañamiento a una persona para ayudarle a clarificar su situación y decidir las acciones que tomar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Propósito: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 Profundizar conocimientos teórico prácticos en los profesionales de la salud para optimizar sus capacidades de comunicación y empa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Objetivos generales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acerca del proceso de comunicación interperson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esarrollar destrezas de comunicació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nocer habilidade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plicar eficientemente técnicas de consejerí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Discriminar aquellos casos en que no sea indicado el abordaje por consejería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oordinarse en equipo multiprofesional para referir aquellos casos que sean resorte de un especi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Naturaleza de la relación de consejerí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 una relación que se desarrolla, retrocede, se modula y finalmente c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Transfere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Positiva :el paciente  ve al consejero como si fuera el padre/madre perdonalo todo, posi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egativa:Todo lo contr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ff"/>
                </a:solidFill>
                <a:latin typeface="Arial"/>
              </a:rPr>
              <a:t>CONSEJERÍA Y AUTOCONOCIMIENTO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ayuda a reconocer nuestros lí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Permite el uso consciente de nosostros mismos- Nos da claridad y preci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Nos permite distinguir entre nuestros problemas y los de la otra pers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996666"/>
                </a:solidFill>
                <a:latin typeface="Arial"/>
              </a:rPr>
              <a:t>Principios básicos de Consejerí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sabe lo que es mejor para el/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No se debe interpre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Dar consejos rara vez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l paciente y el profesional pertenecen a mundos difer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Escuchar es la base de la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Las tecnicas de enfermería no se deben sobreus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Consejería se puede apre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ff"/>
                </a:solidFill>
                <a:latin typeface="Arial"/>
              </a:rPr>
              <a:t>CONSIDERACIONES SOBRE SERVICIOS DE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sponsabilidad del consej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fidenci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riv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pto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gar de reunión Comunicación antes,entre y después de las s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mo dirigirse a la persona y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ración de la s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Frecu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oma de 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996666"/>
                </a:solidFill>
                <a:latin typeface="Arial"/>
              </a:rPr>
              <a:t>DERECHOS DEL PACIENTE EN CONSEJERÍ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poner de ayuda eficiente y sin riesgo de dañ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ayuda ( a menos que haya riesgo para su vi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der optar entre hablar y cal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creto profe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husar la participación de familiares y am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omar parte activa en 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996666"/>
                </a:solidFill>
                <a:latin typeface="Arial"/>
              </a:rPr>
              <a:t>DERECHOS DEL PACIENTE EN CONSEJERÍA (2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Intentar desarrollo personal y resolución de conflictos por si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Disponer de algún mecanismo para atención de ur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Solicitar segunda opin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996666"/>
                </a:solidFill>
                <a:latin typeface="Arial"/>
              </a:rPr>
              <a:t>Terminar el proceso de Conseje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23:22:06Z</dcterms:created>
  <dc:creator>Facultad de Medicina</dc:creator>
  <dc:description/>
  <dc:language>en-US</dc:language>
  <cp:lastModifiedBy>Facultad de Medicina</cp:lastModifiedBy>
  <dcterms:modified xsi:type="dcterms:W3CDTF">2009-05-13T21:34:33Z</dcterms:modified>
  <cp:revision>3</cp:revision>
  <dc:subject/>
  <dc:title>Diapositiva 1</dc:title>
</cp:coreProperties>
</file>