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238-108F-4F88-A4FB-89F7E19D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892-6DC2-4B19-8166-E8773A58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6BB1-77F3-43C6-AE28-65FFCB49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9FF-17E8-4268-A7ED-A68ED6A0F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1A7-AF9C-4DD9-B97D-6DF349C68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4A95-58CE-4798-8C7C-F09C86A7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C5F-0440-4062-909A-C5CED0EA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2FA6-E43B-494A-B1D4-A5932283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6649-83C6-4BE3-933B-37DFCDCE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D3DE-CD89-4275-A1BA-00B2813E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7B81-4ED2-40EF-A480-2B653D27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0F50-5BBB-47AE-BC7C-0D171EC6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ECF-D652-4C4D-AF2E-AEE4641D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75E4-4811-44AF-9A89-7B0BC03D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4C5A-5E2E-41CE-B4F9-90A6AED9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BE16-FD8F-450D-83F0-8EA2D2A1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0DBE-7D9C-4CB2-BE33-296184FC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E63-E15D-4CA8-A3D4-3424FC4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143-F6EF-4B60-9B34-E94CBCB3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CE9-95D9-4ED4-99FC-0048EED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AE4B-0DC3-4BCE-A2ED-909910C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5D1-2F51-403B-9A8B-CA2A244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9B6-4EBC-44F6-A6E2-7F29616D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6D5-54B7-40F2-B979-215FF85A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EA5-6D5D-404E-BB62-042C4031B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E2A4-6007-4B08-84E8-206A569725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aiz griega “ krinein” que significa desafí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enómeno limitado en el tiemp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in desenlace determinado al momento del inic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ltera el equilibrio psicológico prev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66ff"/>
                </a:solidFill>
                <a:latin typeface="Times New Roman"/>
              </a:rPr>
              <a:t>5.- Crisis que reflejan psicopatología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ya consolidada: en estos casos la respuesta sintomática o la exacerbación de rasgos caracterológicos es desproporcionada al estímulo extern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6.- </a:t>
            </a: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Urgencias psiquiátricas propiamente tales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ituaciones en las que el funcionamiento de un paciente con psicopatología severa se ha alterado y no es en este momento capaz de responsabilizarse de si mismo o de sus actos Ej suicidas, homici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Teoría de la Intervención en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persona en crisis esta muy abierta a cambiar mucho en un período corto de tiempo; por lo mismo puede ser ayudado en forma más rápida y efectiva por otra persona. El equilibrio emotivo, antes cerrado, se abre a la influencia externa. Todo lo anterior puede ser usado para ayudar al sujeto a recuperar o mejorar su nivel previo de funcionamiento emocional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Tipos de Interven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Apoyo gener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escuche al paciente, dejelo hablar, no descalifique ni desmienta sus afirmaciones, esté con el/ella. Cuando la persona comience a recuperarse: apóyelo y refuerce contenidos de realidad, conteste honestamente a sus preguntas, comparta francamente “su” visión de la situ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Manejo ambient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 flexibilice las demandas y exigencias que recaen sobre el paciente en la medida de lo posible; ofrezca ayudarlo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Aproximación genérica: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asado en su conocimiento de las etapas del duelo intervenga hacia una solución adaptativa de la cri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Aproximación Individual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:Especialista en Salud Men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Principios básicos de una intervención en 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servar la función del individuo en familia y comunidad dentro de lo po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yudar a resolver problemas y así estimular el crecimiento emocional de la persona en crisis ( apoyo social evaluativo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vitar consecuencias mayores, ej. hospitalizació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Manejo de crisis en situaciones repentinas o traumátic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 al paciente la expresion de sus emociones intensas y contradictori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Permitirle el detallar su percepción del suceso traumático, reconstruyendo los difererntes aspec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Explorar las consecuencias para el paciente de la situación- Posibles cambios que se pueden gener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cc66"/>
                </a:solidFill>
                <a:latin typeface="Times New Roman"/>
              </a:rPr>
              <a:t>Crisis Anticipatorias frente a    Cambios Vital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Definición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frente a situaciones en que la persona prevee o está comenzando y sobre las cuales no tiene mayor grado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Ej.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Despido laboral, embarazo, enfermedad crónic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cc"/>
                </a:solidFill>
                <a:latin typeface="Times New Roman"/>
              </a:rPr>
              <a:t>Estrategia general: Guia anticipator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Desarrollar en el paciente una noción lo más exacta posible de los cambios que vienen y explorar con el las consecuencias psiccológicas de estos cambios, dar información sobre la normatividad del estado, identificar redes de apoy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cc66"/>
                </a:solidFill>
                <a:latin typeface="Times New Roman"/>
              </a:rPr>
              <a:t>Crisis de Maduración y/o Evolutiva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0099"/>
                </a:solidFill>
                <a:latin typeface="Times New Roman"/>
              </a:rPr>
              <a:t>Defini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 crisis que simbolizan fases de desarrollo interno del individuo durante su ciclo vit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9933"/>
                </a:solidFill>
                <a:latin typeface="Times New Roman"/>
              </a:rPr>
              <a:t>Ej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. Conflictos de autoridad con los padres, mantención de relación de parej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66"/>
                </a:solidFill>
                <a:latin typeface="Times New Roman"/>
              </a:rPr>
              <a:t>Estrategia general de intervención</a:t>
            </a: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Conceptualizar en conjunto la temática subyacente a la crisis ( dependencia independencia, capacidad de intimidad, etc.)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Times New Roman"/>
              </a:rPr>
              <a:t>Explorar medios nuevos de condu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Acciones posibles para NO especialis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Actitud de ayuda y comprensión huma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relación empátic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* escuchar atent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ambi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Intervención genérica en cri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Desarrollo histórico de la  teoría de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Freud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señaló la importancia de los sucesos vitales en el desencadenamiento de una reacción emocio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Erickson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ntrodujo los conceptos de ciclo vital y crisis normativas en la vida hechos que debe enfrentar para crec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Lindemann y Caplan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formularon teoría específica de la crisis y describieron las etapas de la elaboración del duel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99"/>
                </a:solidFill>
                <a:latin typeface="Times New Roman"/>
              </a:rPr>
              <a:t>Holmes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uantificó la importancia de los cambios vitales como factor desencadenante de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Enfrentarse,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Existir,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cc00cc"/>
                </a:solidFill>
                <a:latin typeface="Times New Roman"/>
              </a:rPr>
              <a:t>Teoría de la Crisi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s-ES_tradnl" sz="3200" spc="-1" strike="noStrike">
                <a:solidFill>
                  <a:srgbClr val="990099"/>
                </a:solidFill>
                <a:latin typeface="Times New Roman"/>
              </a:rPr>
              <a:t>Técnicas de Intervención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se convierten en Instrumentos indispensables para todo profesional de salu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352680" y="205740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Crisis Emocion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Una situación de peligro emocional es aquella que amenaza el equilibrio psicológico de un individu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uede deberse a cambios en el medio ambiente físico, social o bi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e hacen insuficientes los medios normales de enfrentami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ducta adaptativa se refiere a todos los procesos psicológicos que sirven para mantener o reestablecer el equilibrio psicológic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a conducta adaptativa puede resolver o agravar un problema según como se uti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Evolución posible de una Crisis Emocional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Line 3"/>
          <p:cNvSpPr/>
          <p:nvPr/>
        </p:nvSpPr>
        <p:spPr>
          <a:xfrm flipV="1">
            <a:off x="5105520" y="2437920"/>
            <a:ext cx="17524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V="1">
            <a:off x="5191200" y="3657240"/>
            <a:ext cx="1295280" cy="304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5105520" y="4191120"/>
            <a:ext cx="1523880" cy="3045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105520" y="4495680"/>
            <a:ext cx="1523880" cy="1219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WordArt 7"/>
          <p:cNvSpPr txBox="1"/>
          <p:nvPr/>
        </p:nvSpPr>
        <p:spPr>
          <a:xfrm>
            <a:off x="1066680" y="3657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ituac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mbio Vit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2819520" y="3962520"/>
            <a:ext cx="5331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WordArt 9"/>
          <p:cNvSpPr txBox="1"/>
          <p:nvPr/>
        </p:nvSpPr>
        <p:spPr>
          <a:xfrm>
            <a:off x="3352680" y="3429000"/>
            <a:ext cx="183852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teración d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librio Ind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idu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858000" y="1752480"/>
            <a:ext cx="1752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uperación en un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jor nivel 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ncionami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6486480" y="3048120"/>
            <a:ext cx="2352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tabilización en el niv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equilibrio prev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6334200" y="4191120"/>
            <a:ext cx="28098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mpeoramiento c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rición de enfer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d física, psicológ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psicosomátic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6858000" y="57150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ert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cc66"/>
                </a:solidFill>
                <a:latin typeface="Times New Roman"/>
              </a:rPr>
              <a:t>Factores que influyen en el desenlace de una cri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actor de Personalid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diciones Físicas del Individu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Recursos Sociales y sistema de Comunicación del Medi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ffcc66"/>
                </a:solidFill>
                <a:latin typeface="Times New Roman"/>
              </a:rPr>
              <a:t>Etapas en el desarrollo de una Cri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.-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: Tensión por Insuficiencia de Recursos Efectiv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Aumenta Tensión y Angust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Búsqueda de Opiniones y Consej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II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 Mas ansiedad     sentimientos negativ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Nuevos enfrentamien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Regresión: Nivel funcionamiento más segur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- Disminución de criterios de éxi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33"/>
                </a:solidFill>
                <a:latin typeface="Times New Roman"/>
              </a:rPr>
              <a:t>Etapa IV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.-:Cambios de personalidad, Adicciones a sustancias químicas, Enfermeda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5638680" y="4267080"/>
            <a:ext cx="76320" cy="76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(1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1.- </a:t>
            </a:r>
            <a:r>
              <a:rPr b="0" lang="es-ES_tradnl" sz="3200" spc="-1" strike="noStrike">
                <a:solidFill>
                  <a:srgbClr val="ff9933"/>
                </a:solidFill>
                <a:latin typeface="Times New Roman"/>
              </a:rPr>
              <a:t>Crisis frente a situaciones externa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Conflicto laboral, hijo enferm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2.-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Crisis Anticipatorias frente a cambio vitales Normativ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: hitos normales en el ciclo vital que son necesario franquear en pos de crecer y desarrollarse Ej noviazgo, primer embaraz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cc66"/>
                </a:solidFill>
                <a:latin typeface="Times New Roman"/>
              </a:rPr>
              <a:t>Desarrollo de Tipologías (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s-ES_tradnl" sz="2800" spc="-1" strike="noStrike">
                <a:solidFill>
                  <a:srgbClr val="cc0066"/>
                </a:solidFill>
                <a:latin typeface="Times New Roman"/>
              </a:rPr>
              <a:t>Reacción a Trauma Intenso o Agud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Reacción emocional precipitada por una situación externa inesperada e incontrol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4.- </a:t>
            </a:r>
            <a:r>
              <a:rPr b="0" lang="es-ES_tradnl" sz="2800" spc="-1" strike="noStrike">
                <a:solidFill>
                  <a:srgbClr val="cc00cc"/>
                </a:solidFill>
                <a:latin typeface="Times New Roman"/>
              </a:rPr>
              <a:t>Reacción a Situación de Maduración o Cambio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risis que simbolizan fases del desarrollo interno del individuo durante su ciclo vit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2:52:37Z</dcterms:created>
  <dc:creator>v</dc:creator>
  <dc:description/>
  <dc:language>en-US</dc:language>
  <cp:lastModifiedBy>Facultad de Medicina</cp:lastModifiedBy>
  <cp:lastPrinted>2003-10-01T02:40:26Z</cp:lastPrinted>
  <dcterms:modified xsi:type="dcterms:W3CDTF">2009-05-13T18:53:30Z</dcterms:modified>
  <cp:revision>53</cp:revision>
  <dc:subject/>
  <dc:title>Intervención en Crisis</dc:title>
</cp:coreProperties>
</file>