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CEE-570C-4299-811D-DBE69D91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E88-95B6-483E-B5AA-39C63EFA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CF2-5CB7-45BB-A7FB-C2CB15A2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C04C-1710-445B-9410-CE3CA0EA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0187-2AA6-4A7D-A4CF-95162EC8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8B47-2525-47C5-A898-A01C1849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6041-C6A1-4912-90C7-946A4F49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0A6E-88AF-4756-86C3-7C7D9236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60ED-B16D-4657-8B15-9B5D1068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E94E-74A4-4248-B547-9162719C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6DC6-15B4-4CA6-BD98-905020A3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DD8-9E20-4086-A395-6A21A5FD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8F9F-42D8-4A69-9A67-66F7D77E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82FE-69F3-41B8-B77C-8CC70C16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466C-7254-41E5-B6CC-96629D58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C05C-172F-41D6-91BE-6F9F2BF1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F74A-9DBB-4BA2-A0E1-1D25632D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F93-9AD3-4E1C-95A3-20A1539C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F3FC-1143-437E-B01B-D7466AEB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05F-3199-4C51-B51F-18F69751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58B9-2902-4A25-9F5D-28F7C87F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3EC-AD25-462C-86AB-7CB856FF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242-A922-49BF-9FC8-8E941FB3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C60-259E-4225-A6D7-318AE2EE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CAF7-D055-481B-A59B-5DD305740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19E6-0617-4F21-B15C-E4D730DF44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Cri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aiz griega “ krinein” que significa desafí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enómeno limitado en el tiemp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in desenlace determinado al momento del inic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ltera el equilibrio psicológico prev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Desarrollo de tipologías (3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66ff"/>
                </a:solidFill>
                <a:latin typeface="Times New Roman"/>
              </a:rPr>
              <a:t>5.- Crisis que reflejan psicopatología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ya consolidada: en estos casos la respuesta sintomática o la exacerbación de rasgos caracterológicos es desproporcionada al estímulo extern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6.- </a:t>
            </a: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Urgencias psiquiátricas propiamente tales: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ituaciones en las que el funcionamiento de un paciente con psicopatología severa se ha alterado y no es en este momento capaz de responsabilizarse de si mismo o de sus actos Ej suicidas, homicid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Teoría de la Intervención en Cri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Una persona en crisis esta muy abierta a cambiar mucho en un período corto de tiempo; por lo mismo puede ser ayudado en forma más rápida y efectiva por otra persona. El equilibrio emotivo, antes cerrado, se abre a la influencia externa. Todo lo anterior puede ser usado para ayudar al sujeto a recuperar o mejorar su nivel previo de funcionamiento emocional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Tipos de Intervenció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cc"/>
                </a:solidFill>
                <a:latin typeface="Times New Roman"/>
              </a:rPr>
              <a:t>Apoyo gener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: escuche al paciente, dejelo hablar, no descalifique ni desmienta sus afirmaciones, esté con el/ella. Cuando la persona comience a recuperarse: apóyelo y refuerce contenidos de realidad, conteste honestamente a sus preguntas, comparta francamente “su” visión de la situ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99"/>
                </a:solidFill>
                <a:latin typeface="Times New Roman"/>
              </a:rPr>
              <a:t>Manejo ambient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: flexibilice las demandas y exigencias que recaen sobre el paciente en la medida de lo posible; ofrezca ayudarlo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66"/>
                </a:solidFill>
                <a:latin typeface="Times New Roman"/>
              </a:rPr>
              <a:t>Aproximación genérica: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asado en su conocimiento de las etapas del duelo intervenga hacia una solución adaptativa de la cri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Aproximación Individu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:Especialista en Salud Ment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Principios básicos de una intervención en Cri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servar la función del individuo en familia y comunidad dentro de lo posi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yudar a resolver problemas y así estimular el crecimiento emocional de la persona en crisis ( apoyo social evaluativ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vitar consecuencias mayores, ej. hospitaliz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cc66"/>
                </a:solidFill>
                <a:latin typeface="Times New Roman"/>
              </a:rPr>
              <a:t>Manejo de crisis en situaciones repentinas o traumátic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Permitir al paciente la expresion de sus emociones intensas y contradictor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Permitirle el detallar su percepción del suceso traumático, reconstruyendo los difererntes aspec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Explorar las consecuencias para el paciente de la situación- Posibles cambios que se pueden gener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cc66"/>
                </a:solidFill>
                <a:latin typeface="Times New Roman"/>
              </a:rPr>
              <a:t>Crisis Anticipatorias frente a    Cambios Vita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66"/>
                </a:solidFill>
                <a:latin typeface="Times New Roman"/>
              </a:rPr>
              <a:t>Definición 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frente a situaciones en que la persona prevee o está comenzando y sobre las cuales no tiene mayor grado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99"/>
                </a:solidFill>
                <a:latin typeface="Times New Roman"/>
              </a:rPr>
              <a:t>Ej.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 Despido laboral, embarazo, enfermedad crón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cc"/>
                </a:solidFill>
                <a:latin typeface="Times New Roman"/>
              </a:rPr>
              <a:t>Estrategia general: Guia anticipator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Desarrollar en el paciente una noción lo más exacta posible de los cambios que vienen y explorar con el las consecuencias psiccológicas de estos cambios, dar información sobre la normatividad del estado, identificar redes de apoy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cc66"/>
                </a:solidFill>
                <a:latin typeface="Times New Roman"/>
              </a:rPr>
              <a:t>Crisis de Maduración y/o Evolutiva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99"/>
                </a:solidFill>
                <a:latin typeface="Times New Roman"/>
              </a:rPr>
              <a:t>Definición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: crisis que simbolizan fases de desarrollo interno del individuo durante su ciclo vit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9933"/>
                </a:solidFill>
                <a:latin typeface="Times New Roman"/>
              </a:rPr>
              <a:t>Ej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. Conflictos de autoridad con los padres, mantención de relación de parej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66"/>
                </a:solidFill>
                <a:latin typeface="Times New Roman"/>
              </a:rPr>
              <a:t>Estrategia general de intervención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Conceptualizar en conjunto la temática subyacente a la crisis ( dependencia independencia, capacidad de intimidad, etc.)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Explorar medios nuevos de condu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Acciones posibles para NO especialist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.- Actitud de ayuda y comprensión huma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* relación empát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* escuchar atentamen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vención ambien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vención genérica en cri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Desarrollo histórico de la  teoría de crisis emocional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Freud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señaló la importancia de los sucesos vitales en el desencadenamiento de una reacción emoci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66"/>
                </a:solidFill>
                <a:latin typeface="Times New Roman"/>
              </a:rPr>
              <a:t>Erickson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trodujo los conceptos de ciclo vital y crisis normativas en la vida hechos que debe enfrentar para crec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cc"/>
                </a:solidFill>
                <a:latin typeface="Times New Roman"/>
              </a:rPr>
              <a:t>Lindemann y Caplan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formularon teoría específica de la crisis y describieron las etapas de la elaboración del duel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99"/>
                </a:solidFill>
                <a:latin typeface="Times New Roman"/>
              </a:rPr>
              <a:t>Holmes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uantificó la importancia de los cambios vitales como factor desencadenante de enferme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Cri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33"/>
                </a:solidFill>
                <a:latin typeface="Times New Roman"/>
              </a:rPr>
              <a:t>Enfrentarse,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Existir,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cc00cc"/>
                </a:solidFill>
                <a:latin typeface="Times New Roman"/>
              </a:rPr>
              <a:t>Teoría de la Crisi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y </a:t>
            </a:r>
            <a:r>
              <a:rPr b="0" lang="es-ES_tradnl" sz="3200" spc="-1" strike="noStrike">
                <a:solidFill>
                  <a:srgbClr val="990099"/>
                </a:solidFill>
                <a:latin typeface="Times New Roman"/>
              </a:rPr>
              <a:t>Técnicas de Intervención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se convierten en Instrumentos indispensables para todo profesional de salu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352680" y="205740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Crisis Emocion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Una situación de peligro emocional es aquella que amenaza el equilibrio psicológico de un individu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 deberse a cambios en el medio ambiente físico, social o biológic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hacen insuficientes los medios normales de enfrentamient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ducta adaptativa se refiere a todos los procesos psicológicos que sirven para mantener o reestablecer el equilibrio psicológic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conducta adaptativa puede resolver o agravar un problema según como se utili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Evolución posible de una Crisis Emocional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 flipV="1">
            <a:off x="5105520" y="2437920"/>
            <a:ext cx="1752480" cy="1219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Line 4"/>
          <p:cNvSpPr/>
          <p:nvPr/>
        </p:nvSpPr>
        <p:spPr>
          <a:xfrm flipV="1">
            <a:off x="5191200" y="3657240"/>
            <a:ext cx="129528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5105520" y="4191120"/>
            <a:ext cx="152388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5105520" y="4495680"/>
            <a:ext cx="1523880" cy="1219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1066680" y="3657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tuac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mbio Vit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3352680" y="3429000"/>
            <a:ext cx="183852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teración de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quilibrio Ind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idu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6858000" y="1752480"/>
            <a:ext cx="1752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peración en un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jor nivel 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ncionamie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6486480" y="3048120"/>
            <a:ext cx="2352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tabilización en el niv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equilibrio prev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6334200" y="4191120"/>
            <a:ext cx="280980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eoramiento co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parición de enfer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d física, psicológ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 psicosomát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" name="WordArt 14"/>
          <p:cNvSpPr txBox="1"/>
          <p:nvPr/>
        </p:nvSpPr>
        <p:spPr>
          <a:xfrm>
            <a:off x="6858000" y="57150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ert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Factores que influyen en el desenlace de una cri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actor de Personalid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diciones Físicas del Individu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cursos Sociales y sistema de Comunicación del Med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Times New Roman"/>
              </a:rPr>
              <a:t>Etapas en el desarrollo de una Crisi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Etapa I.-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: Tensión por Insuficiencia de Recursos Efectiv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Etapa II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-: Aumenta Tensión y Angust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úsqueda de Opiniones y Consej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Etapa III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-: Mas ansiedad     sentimientos negativ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- Nuevos enfrentamien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- Regresión: Nivel funcionamiento más segur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- Disminución de criterios de éxi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Etapa IV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-:Cambios de personalidad, Adicciones a sustancias químicas, Enferme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5638680" y="4267080"/>
            <a:ext cx="76320" cy="76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Desarrollo de Tipologías(1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.- </a:t>
            </a:r>
            <a:r>
              <a:rPr b="0" lang="es-ES_tradnl" sz="3200" spc="-1" strike="noStrike">
                <a:solidFill>
                  <a:srgbClr val="ff9933"/>
                </a:solidFill>
                <a:latin typeface="Times New Roman"/>
              </a:rPr>
              <a:t>Crisis frente a situaciones externa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: Conflicto laboral, hijo enferm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2.-</a:t>
            </a: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Crisis Anticipatorias frente a cambio vitales Normativo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: hitos normales en el ciclo vital que son necesario franquear en pos de crecer y desarrollarse Ej noviazgo, primer embaraz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Desarrollo de Tipologías (2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3.- </a:t>
            </a:r>
            <a:r>
              <a:rPr b="0" lang="es-ES_tradnl" sz="2800" spc="-1" strike="noStrike">
                <a:solidFill>
                  <a:srgbClr val="cc0066"/>
                </a:solidFill>
                <a:latin typeface="Times New Roman"/>
              </a:rPr>
              <a:t>Reacción a Trauma Intenso o Agudo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eacción emocional precipitada por una situación externa inesperada e incontrol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4.- </a:t>
            </a:r>
            <a:r>
              <a:rPr b="0" lang="es-ES_tradnl" sz="2800" spc="-1" strike="noStrike">
                <a:solidFill>
                  <a:srgbClr val="cc00cc"/>
                </a:solidFill>
                <a:latin typeface="Times New Roman"/>
              </a:rPr>
              <a:t>Reacción a Situación de Maduración o Cambio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risis que simbolizan fases del desarrollo interno del individuo durante su ciclo vit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2:52:37Z</dcterms:created>
  <dc:creator>v</dc:creator>
  <dc:description/>
  <dc:language>en-US</dc:language>
  <cp:lastModifiedBy>Facultad de Medicina</cp:lastModifiedBy>
  <cp:lastPrinted>2003-10-01T02:40:26Z</cp:lastPrinted>
  <dcterms:modified xsi:type="dcterms:W3CDTF">2009-05-13T18:53:30Z</dcterms:modified>
  <cp:revision>53</cp:revision>
  <dc:subject/>
  <dc:title>Intervención en Crisis</dc:title>
</cp:coreProperties>
</file>