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617-9EFA-4C2B-9CB4-F6BEFF31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263-B741-4C1A-996C-FEEA26F4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ED8-A7BB-4281-9B57-C474D586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97E-0525-4348-955D-7D3EC5B8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D7E9-1D52-42D6-8583-B82B9523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0E8E-B24B-460B-ADCA-AF2BC5FA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5C0D-2813-45E7-AF51-6DD239FF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1378-8FD8-4D90-BDF8-5677B1CD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6A1C-F4E7-4C00-9708-35F2EEC8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CFEC-1266-41FE-8225-5A64DC52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60C6-75A2-47D3-A1A8-D64F532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147-6C35-46F7-8832-B1DC1120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785F-5C01-4EF0-8C19-68EE3131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FED4-66F0-4C19-A979-33139AF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EDD8-95D8-4F60-962E-541BCC4C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FE24-A0E7-492A-9DCA-5807959E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6CA7-4F0A-4C66-8169-82F5698C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B18-A3AB-4FE4-8696-710C513D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E61-CE73-46A7-B13E-7D43D249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670-E33A-4977-98A7-B050FD61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E8E-70D4-43B3-98D5-59B12015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A10-D5B2-48EE-8822-9E242DC6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979-1ADB-4001-B338-B497B47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AF6-FD9B-418E-BCB8-20E5E5C8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E4AC-0F89-4433-AD9B-60571E8F8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1468-A2DA-4B01-82C8-C222C67DDA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aiz griega “ krinein” que significa desafí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enómeno limitado en el tiemp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in desenlace determinado al momento del inic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tera el equilibrio psicológico prev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 (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ff"/>
                </a:solidFill>
                <a:latin typeface="Times New Roman"/>
              </a:rPr>
              <a:t>5.- Crisis que reflejan psicopatología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ya consolidada: en estos casos la respuesta sintomática o la exacerbación de rasgos caracterológicos es desproporcionada al estímulo exter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6.- </a:t>
            </a: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Urgencias psiquiátricas propiamente tales: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tuaciones en las que el funcionamiento de un paciente con psicopatología severa se ha alterado y no es en este momento capaz de responsabilizarse de si mismo o de sus actos Ej suicidas, homicid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Teoría de la Intervención en Cri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Una persona en crisis esta muy abierta a cambiar mucho en un período corto de tiempo; por lo mismo puede ser ayudado en forma más rápida y efectiva por otra persona. El equilibrio emotivo, antes cerrado, se abre a la influencia externa. Todo lo anterior puede ser usado para ayudar al sujeto a recuperar o mejorar su nivel previo de funcionamiento emocional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Tipos de Intervenció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Apoyo gener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 escuche al paciente, dejelo hablar, no descalifique ni desmienta sus afirmaciones, esté con el/ella. Cuando la persona comience a recuperarse: apóyelo y refuerce contenidos de realidad, conteste honestamente a sus preguntas, comparta francamente “su” visión de la situ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99"/>
                </a:solidFill>
                <a:latin typeface="Times New Roman"/>
              </a:rPr>
              <a:t>Manejo ambient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 flexibilice las demandas y exigencias que recaen sobre el paciente en la medida de lo posible; ofrezca ayudarlo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Aproximación genérica: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asado en su conocimiento de las etapas del duelo intervenga hacia una solución adaptativa de la cri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Aproximación Individu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Especialista en Salud Ment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Principios básicos de una intervención en 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ervar la función del individuo en familia y comunidad dentro de lo posi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yudar a resolver problemas y así estimular el crecimiento emocional de la persona en crisis ( apoyo social evaluativ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vitar consecuencias mayores, ej. hospitaliz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c66"/>
                </a:solidFill>
                <a:latin typeface="Times New Roman"/>
              </a:rPr>
              <a:t>Manejo de crisis en situaciones repentinas o traumátic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mitir al paciente la expresion de sus emociones intensas y contradicto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mitirle el detallar su percepción del suceso traumático, reconstruyendo los difererntes aspec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Explorar las consecuencias para el paciente de la situación- Posibles cambios que se pueden gener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c66"/>
                </a:solidFill>
                <a:latin typeface="Times New Roman"/>
              </a:rPr>
              <a:t>Crisis Anticipatorias frente a    Cambios Vita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66"/>
                </a:solidFill>
                <a:latin typeface="Times New Roman"/>
              </a:rPr>
              <a:t>Definición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frente a situaciones en que la persona prevee o está comenzando y sobre las cuales no tiene mayor grado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99"/>
                </a:solidFill>
                <a:latin typeface="Times New Roman"/>
              </a:rPr>
              <a:t>Ej.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Despido laboral, embarazo, enfermedad crón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cc"/>
                </a:solidFill>
                <a:latin typeface="Times New Roman"/>
              </a:rPr>
              <a:t>Estrategia general: Guia anticipato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Desarrollar en el paciente una noción lo más exacta posible de los cambios que vienen y explorar con el las consecuencias psiccológicas de estos cambios, dar información sobre la normatividad del estado, identificar redes de apoy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cc66"/>
                </a:solidFill>
                <a:latin typeface="Times New Roman"/>
              </a:rPr>
              <a:t>Crisis de Maduración y/o Evolutiva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99"/>
                </a:solidFill>
                <a:latin typeface="Times New Roman"/>
              </a:rPr>
              <a:t>Definición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crisis que simbolizan fases de desarrollo interno del individuo durante su ciclo vit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9933"/>
                </a:solidFill>
                <a:latin typeface="Times New Roman"/>
              </a:rPr>
              <a:t>Ej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. Conflictos de autoridad con los padres, mantención de relación de parej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66"/>
                </a:solidFill>
                <a:latin typeface="Times New Roman"/>
              </a:rPr>
              <a:t>Estrategia general de intervención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Conceptualizar en conjunto la temática subyacente a la crisis ( dependencia independencia, capacidad de intimidad, etc.)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Explorar medios nuevos de condu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Acciones posibles para NO especialist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.- Actitud de ayuda y comprensión huma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* relación empá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* escuchar atentam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vención ambi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vención genérica en cri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Desarrollo histórico de la  teoría de crisis emociona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Freud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eñaló la importancia de los sucesos vitales en el desencadenamiento de una reacción emoc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Erickson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rodujo los conceptos de ciclo vital y crisis normativas en la vida hechos que debe enfrentar para crec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Lindemann y Caplan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formularon teoría específica de la crisis y describieron las etapas de la elaboración del duel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99"/>
                </a:solidFill>
                <a:latin typeface="Times New Roman"/>
              </a:rPr>
              <a:t>Holmes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uantificó la importancia de los cambios vitales como factor desencadenante de enferme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33"/>
                </a:solidFill>
                <a:latin typeface="Times New Roman"/>
              </a:rPr>
              <a:t>Enfrentarse,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Existir,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cc00cc"/>
                </a:solidFill>
                <a:latin typeface="Times New Roman"/>
              </a:rPr>
              <a:t>Teoría de la Crisi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990099"/>
                </a:solidFill>
                <a:latin typeface="Times New Roman"/>
              </a:rPr>
              <a:t>Técnicas de Intervención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se convierten en Instrumentos indispensables para todo profesional de sal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352680" y="205740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 Emocion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Una situación de peligro emocional es aquella que amenaza el equilibrio psicológico de un individu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 deberse a cambios en el medio ambiente físico, social o biológ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hacen insuficientes los medios normales de enfrentamient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ducta adaptativa se refiere a todos los procesos psicológicos que sirven para mantener o reestablecer el equilibrio psicológ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conducta adaptativa puede resolver o agravar un problema según como se util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Evolución posible de una Crisis Emociona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 flipV="1">
            <a:off x="5105520" y="2437920"/>
            <a:ext cx="175248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5191200" y="3657240"/>
            <a:ext cx="129528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5105520" y="4191120"/>
            <a:ext cx="152388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105520" y="4495680"/>
            <a:ext cx="152388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1066680" y="3657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tuac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mbio Vit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3352680" y="3429000"/>
            <a:ext cx="183852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eración de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quilibrio Ind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du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858000" y="1752480"/>
            <a:ext cx="1752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eración en un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jor nivel 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nciona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6486480" y="3048120"/>
            <a:ext cx="2352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tabilización en el niv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quilibrio prev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6334200" y="4191120"/>
            <a:ext cx="28098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eoramiento co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arición de enfer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d física, psicológ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 psicosomát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6858000" y="57150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ert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Factores que influyen en el desenlace de una cri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actor de Persona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diciones Físicas del Individu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cursos Sociales y sistema de Comunicación del Med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Times New Roman"/>
              </a:rPr>
              <a:t>Etapas en el desarrollo de una Crisi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.-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: Tensión por Insuficiencia de Recursos Efectiv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I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 Aumenta Tensión y Angust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úsqueda de Opiniones y Consej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II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 Mas ansiedad     sentimientos negativ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Nuevos enfrentamien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Regresión: Nivel funcionamiento más segu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Disminución de criterios de éxi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V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Cambios de personalidad, Adicciones a sustancias químicas, Enferme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5638680" y="4267080"/>
            <a:ext cx="76320" cy="76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(1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.- </a:t>
            </a:r>
            <a:r>
              <a:rPr b="0" lang="es-ES_tradnl" sz="3200" spc="-1" strike="noStrike">
                <a:solidFill>
                  <a:srgbClr val="ff9933"/>
                </a:solidFill>
                <a:latin typeface="Times New Roman"/>
              </a:rPr>
              <a:t>Crisis frente a situaciones externa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Conflicto laboral, hijo enferm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2.-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Crisis Anticipatorias frente a cambio vitales Normativo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hitos normales en el ciclo vital que son necesario franquear en pos de crecer y desarrollarse Ej noviazgo, primer embaraz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 (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3.- </a:t>
            </a: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Reacción a Trauma Intenso o Agudo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acción emocional precipitada por una situación externa inesperada e incontrol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4.- </a:t>
            </a: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Reacción a Situación de Maduración o Cambio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risis que simbolizan fases del desarrollo interno del individuo durante su ciclo vit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2:52:37Z</dcterms:created>
  <dc:creator>v</dc:creator>
  <dc:description/>
  <dc:language>en-US</dc:language>
  <cp:lastModifiedBy>Facultad de Medicina</cp:lastModifiedBy>
  <cp:lastPrinted>2003-10-01T02:40:26Z</cp:lastPrinted>
  <dcterms:modified xsi:type="dcterms:W3CDTF">2009-05-13T18:53:30Z</dcterms:modified>
  <cp:revision>53</cp:revision>
  <dc:subject/>
  <dc:title>Intervención en Crisis</dc:title>
</cp:coreProperties>
</file>