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C2E2B-66F4-4A64-8ACE-F3431FAB4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09843-19A4-4B5A-AE13-76248F613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551B8-5FD3-4AB4-BF9F-655C5B35B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19165-84B1-4D95-A5BA-187866929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696F4-4DE8-4842-9028-725345608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F976F-C849-4D9B-B178-2B5DB5C70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116F4-9FD4-4203-BBC7-B7BF3509A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1CDD3-8AF7-47D6-A338-009EFD035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0B2BC-EEEA-42F4-8AE2-5958C5EE4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CD7AC-F814-4D60-9038-F734ED2C5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51852-D86A-42A4-998B-35C06C006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EE07C-36DF-4DCF-85BA-482FC0F9D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C25D3-377F-469E-AD7B-1892CA3ED75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solidFill>
            <a:srgbClr val="009999"/>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Violencia Intrafamili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14440"/>
            <a:ext cx="6400800" cy="1523880"/>
          </a:xfrm>
          <a:prstGeom prst="rect">
            <a:avLst/>
          </a:prstGeom>
          <a:noFill/>
          <a:ln w="0">
            <a:noFill/>
          </a:ln>
        </p:spPr>
        <p:txBody>
          <a:bodyPr lIns="90000" rIns="90000" tIns="46800" bIns="46800" anchor="t">
            <a:noAutofit/>
          </a:bodyPr>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lga Toro Devi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sicólog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gister en Salud Públic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ZO 2009</a:t>
            </a:r>
            <a:endParaRPr b="0" lang="en-US" sz="1200" spc="-1" strike="noStrike">
              <a:solidFill>
                <a:srgbClr val="000000"/>
              </a:solidFill>
              <a:latin typeface="Arial"/>
            </a:endParaRPr>
          </a:p>
        </p:txBody>
      </p:sp>
      <p:pic>
        <p:nvPicPr>
          <p:cNvPr id="43" name="" descr=""/>
          <p:cNvPicPr/>
          <p:nvPr/>
        </p:nvPicPr>
        <p:blipFill>
          <a:blip r:embed="rId1"/>
          <a:stretch/>
        </p:blipFill>
        <p:spPr>
          <a:xfrm>
            <a:off x="1116000" y="404640"/>
            <a:ext cx="590400" cy="1008360"/>
          </a:xfrm>
          <a:prstGeom prst="rect">
            <a:avLst/>
          </a:prstGeom>
          <a:ln w="0">
            <a:noFill/>
          </a:ln>
        </p:spPr>
      </p:pic>
      <p:sp>
        <p:nvSpPr>
          <p:cNvPr id="44" name=""/>
          <p:cNvSpPr/>
          <p:nvPr/>
        </p:nvSpPr>
        <p:spPr>
          <a:xfrm>
            <a:off x="1042920" y="1412280"/>
            <a:ext cx="215424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宋体"/>
              </a:rPr>
              <a:t>UNIVERSIDAD DE CH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宋体"/>
              </a:rPr>
              <a:t>FACULTAD DE MEDICI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宋体"/>
              </a:rPr>
              <a:t>ESCUELA  DE ENFERMERÍ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físic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fiere a las manifestaciones de violencia dirigidas al cuerpo de la otra persona y comprende diversas conductas, entre ellas, empujones, tirones de pelo, cachetadas, golpes con puños, golpes con objetos, patadas, palizas, quemaduras, etc.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psicológico o emocional</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aquellas conductas que por acción u omisión, se orientan a causar temor, intimidar y controlar la conducta, los sentimientos y pensamientos de la persona agredida. Se pueden distinguir los insultos, garabatos, las descalificaciones, amenazas, extorsiones, manipulaciones, el control y restricciones de la libertad personal, el abandono, etc.</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sexual</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iste en la imposición de actos de orden sexual, contra la voluntad del ot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incluyen las relaciones sexuales forzadas, la violación marital, el acoso o asedio sexual, la exposición a actividades sexuales no deseadas, la manipulación a través de la sexualidad.</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8544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buso financiero o violencia económica</a:t>
            </a:r>
            <a:endParaRPr b="0" lang="en-US" sz="4000" spc="-1" strike="noStrike">
              <a:solidFill>
                <a:srgbClr val="000000"/>
              </a:solidFill>
              <a:latin typeface="Arial"/>
            </a:endParaRPr>
          </a:p>
        </p:txBody>
      </p:sp>
      <p:sp>
        <p:nvSpPr>
          <p:cNvPr id="6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fiere a las conductas orientadas a privar al otro de sus necesidades básicas como una forma de control,  y puede manifestarse a través de la privación económica, la extorsión, la apropiación de bienes y diner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1)</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prevalencia conyugal en distintas regiones de Chile oscila entre un 42,2% y un 55,3%. La mitad de las mujeres chilenas viven o han vivido situaciones de violencia en la pareja alguna vez en su vida.</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udios OMS-SENAM y U. de Chile 2001, 2003, 2004 y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2)</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de cada 10 niños chilenos son víctimas de violencia física de parte de sus padres y el 34,2% de ellos sufre agresiones consideradas grave (Encuesta a una muestra representativa de alumnos de 8vo. Básico, U. de Chile-UNICEF, 199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73,6% de los niños y niñas viven o han vivido una situación de violencia física o psicológica de parte de sus padres o cuidadores (UNICEF, 2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25,4% de niños y niñas víctimas de violencia física gra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7,2% de los niños que había</a:t>
            </a:r>
            <a:r>
              <a:rPr b="0" lang="es-ES_tradnl" sz="3200" spc="-1" strike="noStrike">
                <a:solidFill>
                  <a:srgbClr val="000000"/>
                </a:solidFill>
                <a:latin typeface="Arial"/>
              </a:rPr>
              <a:t> </a:t>
            </a:r>
            <a:r>
              <a:rPr b="0" lang="es-ES" sz="3200" spc="-1" strike="noStrike">
                <a:solidFill>
                  <a:srgbClr val="000000"/>
                </a:solidFill>
                <a:latin typeface="Arial"/>
              </a:rPr>
              <a:t>recibido violencia física quedó con le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 sz="3200" spc="-1" strike="noStrike">
                <a:solidFill>
                  <a:srgbClr val="000000"/>
                </a:solidFill>
                <a:latin typeface="Arial"/>
              </a:rPr>
              <a:t>1,2% de los niños que había</a:t>
            </a:r>
            <a:r>
              <a:rPr b="0" lang="es-ES_tradnl" sz="3200" spc="-1" strike="noStrike">
                <a:solidFill>
                  <a:srgbClr val="000000"/>
                </a:solidFill>
                <a:latin typeface="Arial"/>
              </a:rPr>
              <a:t> </a:t>
            </a:r>
            <a:r>
              <a:rPr b="0" lang="es-ES" sz="3200" spc="-1" strike="noStrike">
                <a:solidFill>
                  <a:srgbClr val="000000"/>
                </a:solidFill>
                <a:latin typeface="Arial"/>
              </a:rPr>
              <a:t>recibido violencia física grave </a:t>
            </a:r>
            <a:r>
              <a:rPr b="0" lang="es-ES_tradnl" sz="3200" spc="-1" strike="noStrike">
                <a:solidFill>
                  <a:srgbClr val="000000"/>
                </a:solidFill>
                <a:latin typeface="Arial"/>
              </a:rPr>
              <a:t> </a:t>
            </a:r>
            <a:r>
              <a:rPr b="0" lang="es-ES" sz="3200" spc="-1" strike="noStrike">
                <a:solidFill>
                  <a:srgbClr val="000000"/>
                </a:solidFill>
                <a:latin typeface="Arial"/>
              </a:rPr>
              <a:t>debió ir al hospital</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1)</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plano de </a:t>
            </a:r>
            <a:r>
              <a:rPr b="0" i="1" lang="en-US" sz="2400" spc="-1" strike="noStrike">
                <a:solidFill>
                  <a:srgbClr val="000000"/>
                </a:solidFill>
                <a:latin typeface="Arial"/>
              </a:rPr>
              <a:t>salud físic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ermedades ginecológicas: dolor crónico pelviano, flujo vaginal, persistente, sangrado genital de origen disfuncional.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o y dependencia de alcohol y sustancia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ermedades de transmisión sexual (ETS) y SID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ños corporales: daños más permanentes como quemaduras, mordidas, hematomas, heridas (lesiones con arma blan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2)</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jas somáticas poco definidas: cefalea crónica, dolor  abdominal, pélvico y muscular, fatiga crónic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ios repentinos de peso.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nte el embarazo: aumento del tabaquismo, aborto, control prenatal tardío, retardo de crecimiento, hemorragias del feto, muerte fetal y muerte matern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3)</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plano de la </a:t>
            </a:r>
            <a:r>
              <a:rPr b="0" i="1" lang="es-ES" sz="2400" spc="-1" strike="noStrike">
                <a:solidFill>
                  <a:srgbClr val="000000"/>
                </a:solidFill>
                <a:latin typeface="Arial"/>
              </a:rPr>
              <a:t>salud mental</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stornos Mentales: trastornos del ánimo, depresiones severas, trastornos obsesivos-compulsivos, trastornos por conversión, trastornos de pánico, trastornos en la conducta alimentaria, trastornos en el sueño, episodios psicóticos, entre otro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índrome de estrés post-traumático.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do y ansiedad.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fini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pos de viole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agnitud del proble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daños a la salu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s explicativos de la conducta violen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ecológico o ecosistémic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acterísticas y Estrategias de Intervención en la violencia hacia la muj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ctores protectores ante la violencia intrafamiliar.</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ntimientos de vergüenza.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ducta extremadamente dependiente.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uresis y encopresi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conduc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icidio.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title"/>
          </p:nvPr>
        </p:nvSpPr>
        <p:spPr>
          <a:xfrm>
            <a:off x="457200" y="304560"/>
            <a:ext cx="8229600" cy="1143000"/>
          </a:xfrm>
          <a:prstGeom prst="rect">
            <a:avLst/>
          </a:prstGeom>
          <a:noFill/>
          <a:ln w="442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4)</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plano de la </a:t>
            </a:r>
            <a:r>
              <a:rPr b="0" i="1" lang="es-ES_tradnl" sz="2400" spc="-1" strike="noStrike">
                <a:solidFill>
                  <a:srgbClr val="000000"/>
                </a:solidFill>
                <a:latin typeface="Arial"/>
              </a:rPr>
              <a:t>salud sexual</a:t>
            </a:r>
            <a:r>
              <a:rPr b="0" lang="es-ES_tradnl" sz="2400" spc="-1" strike="noStrike">
                <a:solidFill>
                  <a:srgbClr val="000000"/>
                </a:solidFill>
                <a:latin typeface="Arial"/>
              </a:rPr>
              <a: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barazos no deseados.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funciones sexuales, Fobias sexuales y de la sexualidad en general.</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ligación ejercida por parte del varón de la práctica de aborto.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hibición del uso de anticonceptivo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ihinibición, sobreexposición, hipersexualización.</a:t>
            </a:r>
            <a:endParaRPr b="0" lang="en-US" sz="2400" spc="-1" strike="noStrike">
              <a:solidFill>
                <a:srgbClr val="000000"/>
              </a:solidFill>
              <a:latin typeface="Arial"/>
            </a:endParaRPr>
          </a:p>
        </p:txBody>
      </p:sp>
      <p:sp>
        <p:nvSpPr>
          <p:cNvPr id="85" name="PlaceHolder 2"/>
          <p:cNvSpPr>
            <a:spLocks noGrp="1"/>
          </p:cNvSpPr>
          <p:nvPr>
            <p:ph type="title"/>
          </p:nvPr>
        </p:nvSpPr>
        <p:spPr>
          <a:xfrm>
            <a:off x="457200" y="274320"/>
            <a:ext cx="8229600" cy="1143000"/>
          </a:xfrm>
          <a:prstGeom prst="rect">
            <a:avLst/>
          </a:prstGeom>
          <a:noFill/>
          <a:ln w="442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09320"/>
            <a:ext cx="8229600" cy="2210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ODELOS EXPLICATIVOS DE LA CONDUCTA VIOLENTA:</a:t>
            </a:r>
            <a:br>
              <a:rPr sz="4400"/>
            </a:br>
            <a:r>
              <a:rPr b="0" lang="es-ES_tradnl" sz="4400" spc="-1" strike="noStrike">
                <a:solidFill>
                  <a:srgbClr val="000000"/>
                </a:solidFill>
                <a:latin typeface="Arial"/>
              </a:rPr>
              <a:t>una descripción crític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1)</a:t>
            </a:r>
            <a:endParaRPr b="0" lang="en-US" sz="3600" spc="-1" strike="noStrike">
              <a:solidFill>
                <a:srgbClr val="000000"/>
              </a:solidFill>
              <a:latin typeface="Arial"/>
            </a:endParaRPr>
          </a:p>
        </p:txBody>
      </p:sp>
      <p:sp>
        <p:nvSpPr>
          <p:cNvPr id="8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Biológico: primeras explicaciones específicas sobre la conducta criminal violenta.</a:t>
            </a:r>
            <a:endParaRPr b="0" lang="en-US" sz="28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oría Biocriminogenética: A) Cesar Lombroso (1835-1909), postuló que el delincuente es un tipo antropológico determinado por anomalías físicas. B) Par de cromosomas XY que determina el sexo masculino determina nivel de agresividad de los individuos.</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Neurológica: ciertas formas de daño cerebral a nivel del sistema límbico.</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Endocrinológica: influencia de la testosterona.</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Bioquímica: estrés permanente, adicción a la propia secreción de adrenalina.</a:t>
            </a:r>
            <a:endParaRPr b="0" lang="en-US" sz="2000" spc="-1" strike="noStrike">
              <a:solidFill>
                <a:srgbClr val="000000"/>
              </a:solidFill>
              <a:latin typeface="Arial"/>
            </a:endParaRPr>
          </a:p>
          <a:p>
            <a:pPr lvl="2" marL="1523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2)</a:t>
            </a: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Psiquiátrico: determinado por las características de personalidad y por condiciones psicopatológicas.</a:t>
            </a:r>
            <a:endParaRPr b="0" lang="en-US" sz="2800" spc="-1" strike="noStrike">
              <a:solidFill>
                <a:srgbClr val="000000"/>
              </a:solidFill>
              <a:latin typeface="Arial"/>
            </a:endParaRPr>
          </a:p>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Sociológico: Straus y Gelles (década del 70) plantean que la VIF está sustentada en la trama de estructuras sociales: instituciones patriarcales y sexismo. Hay prescripciones culturales en la relación entre hombres y muj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3)</a:t>
            </a:r>
            <a:endParaRPr b="0" lang="en-US" sz="3600" spc="-1" strike="noStrike">
              <a:solidFill>
                <a:srgbClr val="000000"/>
              </a:solidFill>
              <a:latin typeface="Arial"/>
            </a:endParaRPr>
          </a:p>
        </p:txBody>
      </p:sp>
      <p:sp>
        <p:nvSpPr>
          <p:cNvPr id="9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812880" indent="-812880">
              <a:lnSpc>
                <a:spcPct val="80000"/>
              </a:lnSpc>
              <a:spcBef>
                <a:spcPts val="700"/>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s Psicológicos:</a:t>
            </a:r>
            <a:endParaRPr b="0" lang="en-US" sz="2800" spc="-1" strike="noStrike">
              <a:solidFill>
                <a:srgbClr val="000000"/>
              </a:solidFill>
              <a:latin typeface="Arial"/>
            </a:endParaRPr>
          </a:p>
          <a:p>
            <a:pPr lvl="2" marL="1523880" indent="-609480">
              <a:lnSpc>
                <a:spcPct val="80000"/>
              </a:lnSpc>
              <a:spcBef>
                <a:spcPts val="601"/>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psicoanalítico: Responsabiliza a la mujer golpeada asumiéndola como masoquista y desresponsabiliza al hombre golpeador al etiquetarlo psicopatológicamente de sádico y de víctima de sus relaciones parentales tempranas.</a:t>
            </a:r>
            <a:endParaRPr b="0" lang="en-US" sz="2400" spc="-1" strike="noStrike">
              <a:solidFill>
                <a:srgbClr val="000000"/>
              </a:solidFill>
              <a:latin typeface="Arial"/>
            </a:endParaRPr>
          </a:p>
          <a:p>
            <a:pPr lvl="2" marL="15238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609480">
              <a:lnSpc>
                <a:spcPct val="80000"/>
              </a:lnSpc>
              <a:spcBef>
                <a:spcPts val="601"/>
              </a:spcBef>
              <a:buClr>
                <a:srgbClr val="000000"/>
              </a:buClr>
              <a:buFont typeface="Arial"/>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humanista: El agresor busca ejercer influencias significativas sobre los eventos de sus vidas. Con “darse cuenta” (insight) y la expresión verbal, es posible un cambio de actitud. El enfoque minimiza la gravedad del problema.</a:t>
            </a:r>
            <a:endParaRPr b="0" lang="en-US" sz="2400" spc="-1" strike="noStrike">
              <a:solidFill>
                <a:srgbClr val="000000"/>
              </a:solidFill>
              <a:latin typeface="Arial"/>
            </a:endParaRPr>
          </a:p>
          <a:p>
            <a:pPr lvl="2" marL="15238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4)</a:t>
            </a:r>
            <a:endParaRPr b="0" lang="en-US" sz="36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523880" indent="-609480">
              <a:lnSpc>
                <a:spcPct val="90000"/>
              </a:lnSpc>
              <a:spcBef>
                <a:spcPts val="601"/>
              </a:spcBef>
              <a:buClr>
                <a:srgbClr val="000000"/>
              </a:buClr>
              <a:buFont typeface="Arial"/>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interpersonal o sistémico: el foco son los aspectos interaccionales de la conducta violenta. La pareja debe asumir la concepción circular de la comunicación violenta. No considera las distintas posiciones de poder. Altamente riesgosa la terapia de pareja o familia, para la víctima.</a:t>
            </a: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609480">
              <a:lnSpc>
                <a:spcPct val="90000"/>
              </a:lnSpc>
              <a:spcBef>
                <a:spcPts val="601"/>
              </a:spcBef>
              <a:buClr>
                <a:srgbClr val="000000"/>
              </a:buClr>
              <a:buFont typeface="Arial"/>
              <a:buAutoNum type="romanUcPeriod" startAt="4"/>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s cognitivo-conductual: La conducta violenta es aprendida, desde modelos culturales, sociales u otros significativos. Es posible la resocialización.</a:t>
            </a: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ECOLÓGICO O ECOSISTÉMICO</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sde los aportes y limitaciones de los diferentes modelos explicativos surgió la necesidad de buscar un modelo integral que fuera capaz de considerar los diversos fact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rie Bronfenbrenner (1979): La ecología del desarrollo huma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5634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ECOLÓGICO O ECOSISTÉMICO</a:t>
            </a:r>
            <a:endParaRPr b="0" lang="en-US" sz="3200" spc="-1" strike="noStrike">
              <a:solidFill>
                <a:srgbClr val="000000"/>
              </a:solidFill>
              <a:latin typeface="Arial"/>
            </a:endParaRPr>
          </a:p>
        </p:txBody>
      </p:sp>
      <p:sp>
        <p:nvSpPr>
          <p:cNvPr id="98" name=""/>
          <p:cNvSpPr/>
          <p:nvPr/>
        </p:nvSpPr>
        <p:spPr>
          <a:xfrm>
            <a:off x="152280" y="1066680"/>
            <a:ext cx="8839440" cy="55627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209680" y="1828800"/>
            <a:ext cx="6705720" cy="4267080"/>
          </a:xfrm>
          <a:prstGeom prst="ellipse">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3886200" y="2209680"/>
            <a:ext cx="4876920" cy="3429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6320" y="35496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CR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ciedad y Cultura</a:t>
            </a:r>
            <a:endParaRPr b="0" lang="en-US" sz="1800" spc="-1" strike="noStrike">
              <a:solidFill>
                <a:srgbClr val="000000"/>
              </a:solidFill>
              <a:latin typeface="Arial"/>
            </a:endParaRPr>
          </a:p>
        </p:txBody>
      </p:sp>
      <p:sp>
        <p:nvSpPr>
          <p:cNvPr id="102" name=""/>
          <p:cNvSpPr/>
          <p:nvPr/>
        </p:nvSpPr>
        <p:spPr>
          <a:xfrm>
            <a:off x="2286000" y="3505320"/>
            <a:ext cx="190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tituciones</a:t>
            </a:r>
            <a:endParaRPr b="0" lang="en-US" sz="1800" spc="-1" strike="noStrike">
              <a:solidFill>
                <a:srgbClr val="000000"/>
              </a:solidFill>
              <a:latin typeface="Arial"/>
            </a:endParaRPr>
          </a:p>
        </p:txBody>
      </p:sp>
      <p:sp>
        <p:nvSpPr>
          <p:cNvPr id="103" name=""/>
          <p:cNvSpPr/>
          <p:nvPr/>
        </p:nvSpPr>
        <p:spPr>
          <a:xfrm>
            <a:off x="4648320" y="3549600"/>
            <a:ext cx="264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CR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laciones Cara a Cara</a:t>
            </a:r>
            <a:endParaRPr b="0" lang="en-US" sz="1800" spc="-1" strike="noStrike">
              <a:solidFill>
                <a:srgbClr val="000000"/>
              </a:solidFill>
              <a:latin typeface="Arial"/>
            </a:endParaRPr>
          </a:p>
        </p:txBody>
      </p:sp>
      <p:sp>
        <p:nvSpPr>
          <p:cNvPr id="104" name=""/>
          <p:cNvSpPr/>
          <p:nvPr/>
        </p:nvSpPr>
        <p:spPr>
          <a:xfrm>
            <a:off x="5181480" y="4495680"/>
            <a:ext cx="2362320" cy="838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 Individ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1)</a:t>
            </a:r>
            <a:endParaRPr b="0" lang="en-US" sz="28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ACR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refiere a las formas de organización social, los sistemas de creencias y los estilos de vida que prevalecen en una cultura y subcultura en particu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ociedad Patriarc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Define lo que es ser varón y mujer de manera estereotip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952560" y="990720"/>
            <a:ext cx="3238560" cy="5029200"/>
          </a:xfrm>
          <a:prstGeom prst="rect">
            <a:avLst/>
          </a:prstGeom>
          <a:ln w="0">
            <a:noFill/>
          </a:ln>
        </p:spPr>
      </p:pic>
      <p:pic>
        <p:nvPicPr>
          <p:cNvPr id="48" name="" descr=""/>
          <p:cNvPicPr/>
          <p:nvPr/>
        </p:nvPicPr>
        <p:blipFill>
          <a:blip r:embed="rId2"/>
          <a:stretch/>
        </p:blipFill>
        <p:spPr>
          <a:xfrm>
            <a:off x="4915080" y="990720"/>
            <a:ext cx="3238200" cy="5029200"/>
          </a:xfrm>
          <a:prstGeom prst="rect">
            <a:avLst/>
          </a:prstGeom>
          <a:ln w="0">
            <a:noFill/>
          </a:ln>
        </p:spPr>
      </p:pic>
      <p:sp>
        <p:nvSpPr>
          <p:cNvPr id="49" name=""/>
          <p:cNvSpPr/>
          <p:nvPr/>
        </p:nvSpPr>
        <p:spPr>
          <a:xfrm>
            <a:off x="1221480" y="417600"/>
            <a:ext cx="68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MPAÑAS EN CONTRA DE LA VIOLENCIA INTRAFAMILI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2)</a:t>
            </a:r>
            <a:endParaRPr b="0" lang="en-US" sz="28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X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tá compuesto por el nivel más próximo de la comunidad, que incluye a las instituciones mediadoras entre el nivel de la cultura y el nivel individu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cuela, Iglesia, Medios de comunicación, Organismos judiciales y de seguridad, Instituciones laborales, Instituciones de Salud, Instituciones recreativa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3)</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ICR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refiere a las relaciones cara a cara de la red vincular más próxima de las person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famili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este nivel se incluye un nivel INDIVIDUAL con cuatro dimensiones psicológicas: cognitiva, conductual, psicodinámica e interac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4)</a:t>
            </a:r>
            <a:endParaRPr b="0" lang="en-US" sz="28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vel INDIVIDUAL: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cognitiva: forma de percibir y conceptualizar el mundo.</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conductual: repertorio de comportamiento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psicodinámica: dinámica intrapsíquica, emociones, ansiedades y conflictos concientes y manifestaciones del inconciente.</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interaccional: pautas de relación y comunicación interpers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pectiva interaccional: </a:t>
            </a:r>
            <a:br>
              <a:rPr sz="2800"/>
            </a:br>
            <a:r>
              <a:rPr b="0" lang="es-ES_tradnl" sz="2800" spc="-1" strike="noStrike">
                <a:solidFill>
                  <a:srgbClr val="000000"/>
                </a:solidFill>
                <a:latin typeface="Arial"/>
              </a:rPr>
              <a:t>Circuito de Abuso Familiar</a:t>
            </a:r>
            <a:r>
              <a:rPr b="0" lang="es-ES_tradnl" sz="4000" spc="-1" strike="noStrike">
                <a:solidFill>
                  <a:srgbClr val="000000"/>
                </a:solidFill>
                <a:latin typeface="Arial"/>
              </a:rPr>
              <a:t> </a:t>
            </a:r>
            <a:r>
              <a:rPr b="0" lang="es-ES_tradnl" sz="1800" spc="-1" strike="noStrike">
                <a:solidFill>
                  <a:srgbClr val="000000"/>
                </a:solidFill>
                <a:latin typeface="Arial"/>
              </a:rPr>
              <a:t>(Ravazzola, C., 1997)</a:t>
            </a:r>
            <a:endParaRPr b="0" lang="en-US" sz="1800" spc="-1" strike="noStrike">
              <a:solidFill>
                <a:srgbClr val="000000"/>
              </a:solidFill>
              <a:latin typeface="Arial"/>
            </a:endParaRPr>
          </a:p>
        </p:txBody>
      </p:sp>
      <p:graphicFrame>
        <p:nvGraphicFramePr>
          <p:cNvPr id="114" name=""/>
          <p:cNvGraphicFramePr/>
          <p:nvPr/>
        </p:nvGraphicFramePr>
        <p:xfrm>
          <a:off x="76320" y="1295280"/>
          <a:ext cx="8991360" cy="5189760"/>
        </p:xfrm>
        <a:graphic>
          <a:graphicData uri="http://schemas.openxmlformats.org/drawingml/2006/table">
            <a:tbl>
              <a:tblPr/>
              <a:tblGrid>
                <a:gridCol w="2479680"/>
                <a:gridCol w="6511680"/>
              </a:tblGrid>
              <a:tr h="113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OR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Abusador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Abusad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testigo – Context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8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DE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ersona abusadora no puede controlars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ersona abusada es inferi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amilia debe mantenerse unida a cualquier cos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cuestiones familiares no deben intervenir los de afuer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CION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provocaciones y los malos tratos son elementos frecuentes y “naturales” o “normalizados” en las conversacion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3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rigidizadas. Se consideran por encima de las personas. Mantienen una organización con jerarquías fijas naturalizada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533520" y="1066680"/>
            <a:ext cx="3962160" cy="5105520"/>
          </a:xfrm>
          <a:prstGeom prst="rect">
            <a:avLst/>
          </a:prstGeom>
          <a:ln w="0">
            <a:noFill/>
          </a:ln>
        </p:spPr>
      </p:pic>
      <p:sp>
        <p:nvSpPr>
          <p:cNvPr id="116" name=""/>
          <p:cNvSpPr/>
          <p:nvPr/>
        </p:nvSpPr>
        <p:spPr>
          <a:xfrm>
            <a:off x="3887280" y="457200"/>
            <a:ext cx="160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AUSA</a:t>
            </a:r>
            <a:endParaRPr b="0" lang="en-US" sz="3200" spc="-1" strike="noStrike">
              <a:solidFill>
                <a:srgbClr val="000000"/>
              </a:solidFill>
              <a:latin typeface="Arial"/>
            </a:endParaRPr>
          </a:p>
        </p:txBody>
      </p:sp>
      <p:pic>
        <p:nvPicPr>
          <p:cNvPr id="117" name="" descr=""/>
          <p:cNvPicPr/>
          <p:nvPr/>
        </p:nvPicPr>
        <p:blipFill>
          <a:blip r:embed="rId2"/>
          <a:stretch/>
        </p:blipFill>
        <p:spPr>
          <a:xfrm>
            <a:off x="4724280" y="1066680"/>
            <a:ext cx="4038840" cy="510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OLENCIA HACIA LA MUJER</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hile, casi la mitad de las mujeres reconoce haber sufrido episodios de violencia durante su vida, el 90% de los casos ha sido ejercida por sus parejas o ex parejas, y, cada semana al menos una mujer es asesinada por su pareja o ex pare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OLENCIA HACIA LA MUJER</a:t>
            </a: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un fenómeno social que ocurre en un grupo familiar, sea éste el resultado de una unión consensual o legal, y que consiste en el uso de medios instrumentales por parte del cónyuge o pareja para intimidar psicológica, física, intelectual y/o moralmente a su pareja, con el objeto de disipar según su arbitrio y necesidad, la vida familia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Larraín,S., 1992)</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clo de la violencia doméstica </a:t>
            </a: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
        <p:nvSpPr>
          <p:cNvPr id="123" name=""/>
          <p:cNvSpPr/>
          <p:nvPr/>
        </p:nvSpPr>
        <p:spPr>
          <a:xfrm>
            <a:off x="1295280" y="1600200"/>
            <a:ext cx="2210040" cy="251460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DI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UMUL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 TENSIONES</a:t>
            </a:r>
            <a:endParaRPr b="0" lang="en-US" sz="1800" spc="-1" strike="noStrike">
              <a:solidFill>
                <a:srgbClr val="000000"/>
              </a:solidFill>
              <a:latin typeface="Arial"/>
            </a:endParaRPr>
          </a:p>
        </p:txBody>
      </p:sp>
      <p:sp>
        <p:nvSpPr>
          <p:cNvPr id="124" name=""/>
          <p:cNvSpPr/>
          <p:nvPr/>
        </p:nvSpPr>
        <p:spPr>
          <a:xfrm>
            <a:off x="3581280" y="4191120"/>
            <a:ext cx="2210040" cy="251460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DUCT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REPENTID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Ó LUNA DE MIEL</a:t>
            </a:r>
            <a:endParaRPr b="0" lang="en-US" sz="1800" spc="-1" strike="noStrike">
              <a:solidFill>
                <a:srgbClr val="000000"/>
              </a:solidFill>
              <a:latin typeface="Arial"/>
            </a:endParaRPr>
          </a:p>
        </p:txBody>
      </p:sp>
      <p:sp>
        <p:nvSpPr>
          <p:cNvPr id="125" name=""/>
          <p:cNvSpPr/>
          <p:nvPr/>
        </p:nvSpPr>
        <p:spPr>
          <a:xfrm>
            <a:off x="5715000" y="1600200"/>
            <a:ext cx="2209680" cy="2514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RISIS 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PISODIO AGUDO</a:t>
            </a:r>
            <a:endParaRPr b="0" lang="en-US" sz="1800" spc="-1" strike="noStrike">
              <a:solidFill>
                <a:srgbClr val="000000"/>
              </a:solidFill>
              <a:latin typeface="Arial"/>
            </a:endParaRPr>
          </a:p>
        </p:txBody>
      </p:sp>
      <p:sp>
        <p:nvSpPr>
          <p:cNvPr id="126" name=""/>
          <p:cNvSpPr/>
          <p:nvPr/>
        </p:nvSpPr>
        <p:spPr>
          <a:xfrm rot="14694000">
            <a:off x="1968840" y="465948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rot="20619600">
            <a:off x="3885840" y="198072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7315800">
            <a:off x="6159600" y="473616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Estadio de acumulación de tensiones</a:t>
            </a:r>
            <a:r>
              <a:rPr b="0" lang="es-ES_tradnl" sz="2800" spc="-1" strike="noStrike">
                <a:solidFill>
                  <a:srgbClr val="000000"/>
                </a:solidFill>
                <a:latin typeface="Arial"/>
              </a:rPr>
              <a:t>: se producen agresiones psicológicas o físicas menores. La mujer golpeada intenta estrategias anteriormente exitosas para postergar la crisis. Llega un momento en que la tensión es insosteni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risis o episodio agudo</a:t>
            </a:r>
            <a:r>
              <a:rPr b="0" lang="es-ES_tradnl" sz="2800" spc="-1" strike="noStrike">
                <a:solidFill>
                  <a:srgbClr val="000000"/>
                </a:solidFill>
                <a:latin typeface="Arial"/>
              </a:rPr>
              <a:t>: Pérdida del control. Sólo el agresor puede poner fin a esta fase. La mujer entra en fase de shoc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i="1" lang="es-ES_tradnl" sz="2800" spc="-1" strike="noStrike">
                <a:solidFill>
                  <a:srgbClr val="000000"/>
                </a:solidFill>
                <a:latin typeface="Arial"/>
              </a:rPr>
              <a:t>Conducta arrepentida o luna de miel</a:t>
            </a:r>
            <a:r>
              <a:rPr b="0" lang="es-ES_tradnl" sz="2800" spc="-1" strike="noStrike">
                <a:solidFill>
                  <a:srgbClr val="000000"/>
                </a:solidFill>
                <a:latin typeface="Arial"/>
              </a:rPr>
              <a:t>: Arrepentimiento y demostración de afecto por parte del golpeador.</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clo de la violencia doméstica </a:t>
            </a: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n proceso de ascenso paulatino de la intensidad, frecuencia y duración de la agresión de cada ciclo consecutivo</a:t>
            </a:r>
            <a:endParaRPr b="0" lang="en-US" sz="3200" spc="-1" strike="noStrike">
              <a:solidFill>
                <a:srgbClr val="000000"/>
              </a:solidFill>
              <a:latin typeface="Arial"/>
            </a:endParaRPr>
          </a:p>
        </p:txBody>
      </p:sp>
      <p:sp>
        <p:nvSpPr>
          <p:cNvPr id="132" name=""/>
          <p:cNvSpPr/>
          <p:nvPr/>
        </p:nvSpPr>
        <p:spPr>
          <a:xfrm>
            <a:off x="533520" y="533520"/>
            <a:ext cx="8229600" cy="114300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calada de violencia </a:t>
            </a:r>
            <a:br>
              <a:rPr sz="4000"/>
            </a:b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Todas las formas de abuso que tienen lugar al interior de la familia y entre sus miembros. El abuso se refiere a toda conducta de un miembro de la familia que, por acción u omisión, ocasiona daño físico y/o psicológico a otro miembro de la familia (Larraín, 1995; Corsi, 1995; Larraín y Walker, 19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ísticas del hombre que ejerce violencia hacia su pareja:</a:t>
            </a:r>
            <a:endParaRPr b="0" lang="en-US" sz="3200" spc="-1" strike="noStrike">
              <a:solidFill>
                <a:srgbClr val="000000"/>
              </a:solidFill>
              <a:latin typeface="Arial"/>
            </a:endParaRPr>
          </a:p>
        </p:txBody>
      </p:sp>
      <p:sp>
        <p:nvSpPr>
          <p:cNvPr id="13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egación o miniminización de la viol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ternalización de la responsabilida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edo de depend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rnalización de un modelo masculino tradi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resión inadecuada de sus emocion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islamiento social y emo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bre control de impulso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riencias infantiles de viol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ja autoestim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o de conductas disociada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epción rígida y estructurada de la rea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valuación por Ejes Diagnósticos:</a:t>
            </a:r>
            <a:endParaRPr b="0" lang="en-US" sz="36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Viol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So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Sintomát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Persona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Juríd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Interacc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Gén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Violencia</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lucidar las características de la violencia en todas sus dimens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explora: relación de violencia, los tipos y su severidad; las características de los episodios, la data, los ciclos, indicadores de riesgo de homicidio o lesión grave, grado de conciencia y auto-explicac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define gravedad: Leve-Moderada-Seve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Sintomático</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agar síntomas psíquicos y/o somát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unción diagnóstic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presiv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 Ansie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Somatomorf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umo de psicofárma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Social</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des Socia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islamiento social-emociona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 primaria débi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 primaria y secundaria de apoy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ursos socio-económicos: dependencia económica, trabajo remunerado, condición socioeconómica, et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blemáticas de Salud de carácter grave, crónico o discapacitante de algún miembro de la fami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Personalidad</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ervación de rasgos de personalidad, estilos de funcionamiento de la persona y de su pareja, que se asocian a una estructura permanente en el tiempo, que podrían trascender a la problemática de violen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ye evaluación de dimensiones cognitiva, conductual, psicodinámica e interaccional (recursos y habilidades personales, patología psiquiátrica, trastorno de personalidad, vínculo terapéu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Jurídico</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izar desde el punto de vista de los derechos y el marco jurídico existen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ting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s no constitutivos de deli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s constitutivos de del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Arial"/>
              </a:rPr>
              <a:t>Casos constitutivos de delito</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quellos casos en que la/el profesional se encuentre con una situación de violencia, maltrato físico, lesiones calificadas de menos graves, graves o gravísimas a las que se asimilan las mutilaciones, la denuncia será de conocimiento en primer término del Ministerio Público, a quien corresponde dar curso a la investigación criminal destinada a determinar la existencia del del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Interaccional</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terminar dinámicas particulares de la relación de parej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uta relacio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trones de simetría y complementarie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acterísticas de los límites en el sistema famil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Género</a:t>
            </a:r>
            <a:endParaRPr b="0" lang="en-US" sz="4400" spc="-1" strike="noStrike">
              <a:solidFill>
                <a:srgbClr val="000000"/>
              </a:solidFill>
              <a:latin typeface="Arial"/>
            </a:endParaRPr>
          </a:p>
        </p:txBody>
      </p:sp>
      <p:sp>
        <p:nvSpPr>
          <p:cNvPr id="152"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aluar la especificidad de la representación cultural de los roles femeninos y masculin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RNA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Violencia Intrafamiliar es toda conducta que por acción u omisión cometa algún miembro de la familia contra otro abusando de su relación de poder, ya sea dentro del hogar o fuera de éste y que perjudique su bienestar, su integridad física o psicológica, su libertad y su derecho a un pleno desarrol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14018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NTERVENCIONES DE PRIMER ORDEN</a:t>
            </a:r>
            <a:endParaRPr b="0" lang="en-US" sz="4000" spc="-1" strike="noStrike">
              <a:solidFill>
                <a:srgbClr val="000000"/>
              </a:solidFill>
              <a:latin typeface="Arial"/>
            </a:endParaRPr>
          </a:p>
        </p:txBody>
      </p:sp>
      <p:sp>
        <p:nvSpPr>
          <p:cNvPr id="15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construir un motivo de consulta en VIF.</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 de Intervenció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complementarias:</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otección.</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de protección en caso de riesgo vital.</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en caso de riesgo de suicidio.</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en caso de riesgo de homicidio.</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cedimientos judicial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NTERVENCIÓN GRUPAL en Atención Primaria</a:t>
            </a:r>
            <a:endParaRPr b="0" lang="en-US" sz="4000" spc="-1" strike="noStrike">
              <a:solidFill>
                <a:srgbClr val="000000"/>
              </a:solidFill>
              <a:latin typeface="Arial"/>
            </a:endParaRPr>
          </a:p>
        </p:txBody>
      </p:sp>
      <p:sp>
        <p:nvSpPr>
          <p:cNvPr id="156"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normalización de la violen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visión de los roles de género que validan la violen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significación de la experiencia abusiv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de la autoesti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ir el aislamiento emocional y so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jorar el reconocimiento y expresión de emociones y sentimien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ar la autonomía y la responsabilid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mpliar el repertorio interaccion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55412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TERVENCION INDIVIDUAL en Atención Primaria</a:t>
            </a:r>
            <a:endParaRPr b="0" lang="en-US" sz="4400" spc="-1" strike="noStrike">
              <a:solidFill>
                <a:srgbClr val="000000"/>
              </a:solidFill>
              <a:latin typeface="Arial"/>
            </a:endParaRPr>
          </a:p>
        </p:txBody>
      </p:sp>
      <p:sp>
        <p:nvSpPr>
          <p:cNvPr id="15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porcionar a la consultante un espacio de contención y estructu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vorecer la toma de conciencia de la situación de violencia y de la forma en la cual la consultante participa de lo que le ocur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iminar o disminuir las manifestaciones de abu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ar habilidades psicoemocionales que permitan la resolución de la situación de abu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OTRAS INTERVENCIONES en Atención Primaria</a:t>
            </a:r>
            <a:endParaRPr b="0" lang="en-US" sz="4000" spc="-1" strike="noStrike">
              <a:solidFill>
                <a:srgbClr val="000000"/>
              </a:solidFill>
              <a:latin typeface="Arial"/>
            </a:endParaRPr>
          </a:p>
        </p:txBody>
      </p:sp>
      <p:sp>
        <p:nvSpPr>
          <p:cNvPr id="16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ervenciones familia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sita domicili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siones de control y segui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ordinación interinstitucional y trabajo en 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ulta y apoyo So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social-juríd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tamiento farmacolog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052640" y="38160"/>
            <a:ext cx="7038720" cy="6743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409760" y="76320"/>
            <a:ext cx="6324480" cy="6781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4400" spc="-1" strike="noStrike">
                <a:solidFill>
                  <a:srgbClr val="000000"/>
                </a:solidFill>
                <a:latin typeface="Arial"/>
              </a:rPr>
              <a:t>¿QUÉ PUEDEN HACER LOS PROFESINALES DE LA SALUD CON RESPECTO A LA VIOL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680"/>
            <a:ext cx="8077320" cy="178272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s formas de proceder contribuyen a la opresión de las víctimas…¡evítelas!</a:t>
            </a:r>
            <a:endParaRPr b="0" lang="en-US" sz="4000" spc="-1" strike="noStrike">
              <a:solidFill>
                <a:srgbClr val="000000"/>
              </a:solidFill>
              <a:latin typeface="Arial"/>
            </a:endParaRPr>
          </a:p>
        </p:txBody>
      </p:sp>
      <p:sp>
        <p:nvSpPr>
          <p:cNvPr id="165" name="PlaceHolder 2"/>
          <p:cNvSpPr>
            <a:spLocks noGrp="1"/>
          </p:cNvSpPr>
          <p:nvPr>
            <p:ph/>
          </p:nvPr>
        </p:nvSpPr>
        <p:spPr>
          <a:xfrm>
            <a:off x="457200" y="228564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iolación de la información confiden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revista de la víctima (adulto) delante de la famil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arles a los colegas los antecedentes confidenciales sin consentimiento de la afec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lamar a la policía sin consentimiento o información de la afec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ivalizar o subestimar el abus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tomar en serio el peligro que la persona s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r>
              <a:rPr b="0" lang="es-ES_tradnl" sz="4400" spc="-1" strike="noStrike">
                <a:solidFill>
                  <a:srgbClr val="000000"/>
                </a:solidFill>
                <a:latin typeface="Arial"/>
              </a:rPr>
              <a:t>¡evítela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poner que si ha tolerado tantos años de abuso, no puede ser tan ma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iderar normal la opr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reaccionar cuando le revela el abu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eptar que la intimidación es normal en las rel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eer que el abuso es el resultado natural de la desobediencia de la person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r>
              <a:rPr b="0" lang="es-ES_tradnl" sz="4400" spc="-1" strike="noStrike">
                <a:solidFill>
                  <a:srgbClr val="000000"/>
                </a:solidFill>
                <a:latin typeface="Arial"/>
              </a:rPr>
              <a:t>¡evítelas!</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gnorar su necesidad de segur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reconocer que se siente en pelig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ólo indicarle calma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icarle el divor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tigar a la persona por no hacer lo que se le ind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lpar a la víctima, preguntarle qué hizo para provocar el abus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a Ley 20.066</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do maltrato que afecte la vida o la integridad física o síquica de quien tenga o haya tenido la calidad de cónyuge del ofensor o una relación de convivencia con él; o sea, pariente del ofensor, su cónyuge o su actual conviviente, o bien, cuando esta conducta ocurre entre los padres de un hijo común, o sobre un menor de edad o discapacitado que se encuentre bajo el cuidado o dependencia de cualquiera de los integrantes del grupo famil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304560"/>
            <a:ext cx="8229600" cy="144756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stas acciones de salud promueven las relaciones no-violentas…¡úselas!</a:t>
            </a:r>
            <a:endParaRPr b="0" lang="en-US" sz="3600" spc="-1" strike="noStrike">
              <a:solidFill>
                <a:srgbClr val="000000"/>
              </a:solidFill>
              <a:latin typeface="Arial"/>
            </a:endParaRPr>
          </a:p>
        </p:txBody>
      </p:sp>
      <p:sp>
        <p:nvSpPr>
          <p:cNvPr id="171" name="PlaceHolder 2"/>
          <p:cNvSpPr>
            <a:spLocks noGrp="1"/>
          </p:cNvSpPr>
          <p:nvPr>
            <p:ph/>
          </p:nvPr>
        </p:nvSpPr>
        <p:spPr>
          <a:xfrm>
            <a:off x="457200" y="175248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personal de salud pue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licitar capacitación acerca de la prevención y control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cutar los programas de prevención y control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alizar vigilancia epidemiológica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borar material educativo para los diversos grupos objetivo de la pobl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acitar y educar a monitores comunitarios en prevención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laborar en la coordinación de los recursos comunitari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orcionar atención humani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304920"/>
            <a:ext cx="8229600" cy="9144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Arial"/>
              </a:rPr>
              <a:t>…</a:t>
            </a:r>
            <a:r>
              <a:rPr b="0" lang="es-ES_tradnl" sz="3600" spc="-1" strike="noStrike">
                <a:solidFill>
                  <a:srgbClr val="000000"/>
                </a:solidFill>
                <a:latin typeface="Arial"/>
              </a:rPr>
              <a:t>úselas! </a:t>
            </a:r>
            <a:br>
              <a:rPr sz="3600"/>
            </a:br>
            <a:endParaRPr b="0" lang="en-US" sz="3600" spc="-1" strike="noStrike">
              <a:solidFill>
                <a:srgbClr val="000000"/>
              </a:solidFill>
              <a:latin typeface="Arial"/>
            </a:endParaRPr>
          </a:p>
        </p:txBody>
      </p:sp>
      <p:sp>
        <p:nvSpPr>
          <p:cNvPr id="173"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encargados de programas de salud pue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rrollar programas preventivos en los diferentes niveles de la red asistenc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blecer protocolos de atención y referencia específic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mover la anticoncepción de emergenc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ilitar las instalaciones a las personas o grupos organizados de apoyo a las vícti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ar intersectorialmente el problema de la violencia en las comun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aluar el resultado e impacto de las diversas interven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1859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MOCIÓN DE FACTORES PROTECTORES EN LA PRÁCTICA CLÍNICA (1)</a:t>
            </a:r>
            <a:endParaRPr b="0" lang="en-US" sz="4000" spc="-1" strike="noStrike">
              <a:solidFill>
                <a:srgbClr val="000000"/>
              </a:solidFill>
              <a:latin typeface="Arial"/>
            </a:endParaRPr>
          </a:p>
        </p:txBody>
      </p:sp>
      <p:sp>
        <p:nvSpPr>
          <p:cNvPr id="175"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poyo emocional durante el embar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utocuidado durante el embar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paración integral para el par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paración para la crianza, guías anticipatori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poyo al desarrollo de vínculos tempranos, apoyo a la lactancia mater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1859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MOCIÓN DE FACTORES PROTECTORES EN LA PRÁCTICA CLÍNICA (2)</a:t>
            </a:r>
            <a:endParaRPr b="0" lang="en-US" sz="4000" spc="-1" strike="noStrike">
              <a:solidFill>
                <a:srgbClr val="000000"/>
              </a:solidFill>
              <a:latin typeface="Arial"/>
            </a:endParaRPr>
          </a:p>
        </p:txBody>
      </p:sp>
      <p:sp>
        <p:nvSpPr>
          <p:cNvPr id="177"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imulación psicomotora a niños y niñ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imulación a la participación comunit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actores protectores psicosociales: autoestima, asertividad, conducta de búsqueda de ayud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ducación en afectividad y sexua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9446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bliografía sugerida:</a:t>
            </a:r>
            <a:endParaRPr b="0" lang="en-US" sz="4400" spc="-1" strike="noStrike">
              <a:solidFill>
                <a:srgbClr val="000000"/>
              </a:solidFill>
              <a:latin typeface="Arial"/>
            </a:endParaRPr>
          </a:p>
        </p:txBody>
      </p:sp>
      <p:sp>
        <p:nvSpPr>
          <p:cNvPr id="179" name="PlaceHolder 2"/>
          <p:cNvSpPr>
            <a:spLocks noGrp="1"/>
          </p:cNvSpPr>
          <p:nvPr>
            <p:ph/>
          </p:nvPr>
        </p:nvSpPr>
        <p:spPr>
          <a:xfrm>
            <a:off x="457200" y="1371240"/>
            <a:ext cx="8229600" cy="5257800"/>
          </a:xfrm>
          <a:prstGeom prst="rect">
            <a:avLst/>
          </a:prstGeom>
          <a:noFill/>
          <a:ln w="38160">
            <a:solidFill>
              <a:srgbClr val="000000"/>
            </a:solidFill>
            <a:miter/>
          </a:ln>
        </p:spPr>
        <p:txBody>
          <a:bodyPr lIns="90000" rIns="90000" tIns="46800" bIns="46800" anchor="t">
            <a:normAutofit/>
          </a:bodyPr>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5). </a:t>
            </a:r>
            <a:r>
              <a:rPr b="0" i="1" lang="es-ES_tradnl" sz="1800" spc="-1" strike="noStrike">
                <a:solidFill>
                  <a:srgbClr val="000000"/>
                </a:solidFill>
                <a:latin typeface="Arial"/>
              </a:rPr>
              <a:t>Violencia Intrafamiliar. Detección, Diagnóstico y Tratamiento.</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5). </a:t>
            </a:r>
            <a:r>
              <a:rPr b="0" i="1" lang="es-ES_tradnl" sz="1800" spc="-1" strike="noStrike">
                <a:solidFill>
                  <a:srgbClr val="000000"/>
                </a:solidFill>
                <a:latin typeface="Arial"/>
              </a:rPr>
              <a:t>Intervención Psicosocial de Grupo para la atención de mujeres que viven Violencia Intrafamiliar.</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ddou, F.; Kunstman, G.; Maturana, H.; Méndez, C.L.; Montenegro, H. (1995). </a:t>
            </a:r>
            <a:r>
              <a:rPr b="0" i="1" lang="es-ES_tradnl" sz="1800" spc="-1" strike="noStrike">
                <a:solidFill>
                  <a:srgbClr val="000000"/>
                </a:solidFill>
                <a:latin typeface="Arial"/>
              </a:rPr>
              <a:t>Violencia en sus distintos ámbitos de expresión</a:t>
            </a:r>
            <a:r>
              <a:rPr b="0" lang="es-ES_tradnl" sz="1800" spc="-1" strike="noStrike">
                <a:solidFill>
                  <a:srgbClr val="000000"/>
                </a:solidFill>
                <a:latin typeface="Arial"/>
              </a:rPr>
              <a:t>. Santiago de Chile: Dolmen Ediciones S.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si, J. (1995). </a:t>
            </a:r>
            <a:r>
              <a:rPr b="0" i="1" lang="es-ES_tradnl" sz="1800" spc="-1" strike="noStrike">
                <a:solidFill>
                  <a:srgbClr val="000000"/>
                </a:solidFill>
                <a:latin typeface="Arial"/>
              </a:rPr>
              <a:t>Violencia masculina en la pareja: una aproximación al diagnóstico y a los modelos de intervención</a:t>
            </a:r>
            <a:r>
              <a:rPr b="0" lang="es-ES_tradnl" sz="1800" spc="-1" strike="noStrike">
                <a:solidFill>
                  <a:srgbClr val="000000"/>
                </a:solidFill>
                <a:latin typeface="Arial"/>
              </a:rPr>
              <a:t>. Buenos Aires: Editorial Paidó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vazzola, C. (1997). </a:t>
            </a:r>
            <a:r>
              <a:rPr b="0" i="1" lang="es-ES_tradnl" sz="1800" spc="-1" strike="noStrike">
                <a:solidFill>
                  <a:srgbClr val="000000"/>
                </a:solidFill>
                <a:latin typeface="Arial"/>
              </a:rPr>
              <a:t>Historias Infames: el maltrato en las relaciones</a:t>
            </a:r>
            <a:r>
              <a:rPr b="0" lang="es-ES_tradnl" sz="1800" spc="-1" strike="noStrike">
                <a:solidFill>
                  <a:srgbClr val="000000"/>
                </a:solidFill>
                <a:latin typeface="Arial"/>
              </a:rPr>
              <a:t>. Buenos Aires: Editorial Paidó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entro Clínico y de Investigación Corporación La Morada y Fondo de Población Naciones Unidas (2007). </a:t>
            </a:r>
            <a:r>
              <a:rPr b="0" i="1" lang="es-ES_tradnl" sz="1800" spc="-1" strike="noStrike">
                <a:solidFill>
                  <a:srgbClr val="000000"/>
                </a:solidFill>
                <a:latin typeface="Arial"/>
              </a:rPr>
              <a:t>Proyecto Modelo de Atención Nivel Secundario en Violencia hacia la Mujer</a:t>
            </a:r>
            <a:r>
              <a:rPr b="0" lang="es-ES_tradnl" sz="1800" spc="-1" strike="noStrike">
                <a:solidFill>
                  <a:srgbClr val="000000"/>
                </a:solidFill>
                <a:latin typeface="Arial"/>
              </a:rPr>
              <a:t>. Chile: Corporación La Morada y UNFP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4). </a:t>
            </a:r>
            <a:r>
              <a:rPr b="0" i="1" lang="es-ES_tradnl" sz="1800" spc="-1" strike="noStrike">
                <a:solidFill>
                  <a:srgbClr val="000000"/>
                </a:solidFill>
                <a:latin typeface="Arial"/>
              </a:rPr>
              <a:t>Cómo contribuir a prevenir y controlar la violencia.</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0). </a:t>
            </a:r>
            <a:r>
              <a:rPr b="0" i="1" lang="es-ES_tradnl" sz="1800" spc="-1" strike="noStrike">
                <a:solidFill>
                  <a:srgbClr val="000000"/>
                </a:solidFill>
                <a:latin typeface="Arial"/>
              </a:rPr>
              <a:t>Plan Nacional de Salud Mental y Psiquiatría 2000-2010</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n las definiciones destacar tres criterios fundamentale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relación entre las personas implicadas</a:t>
            </a:r>
            <a:r>
              <a:rPr b="0" lang="es-ES_tradnl" sz="2800" spc="-1" strike="noStrike">
                <a:solidFill>
                  <a:srgbClr val="000000"/>
                </a:solidFill>
                <a:latin typeface="Arial"/>
              </a:rPr>
              <a:t>: amplía concepto tradicional de familia, es necesario aceptar relaciones según la relación íntima y personal, así como de cuidad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naturaleza de los actos de violencia</a:t>
            </a:r>
            <a:r>
              <a:rPr b="0" lang="es-ES_tradnl" sz="2800" spc="-1" strike="noStrike">
                <a:solidFill>
                  <a:srgbClr val="000000"/>
                </a:solidFill>
                <a:latin typeface="Arial"/>
              </a:rPr>
              <a:t>: por acción o por omisió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Distinguir entre “AGRESIÓN” (derecho del propio territorio) y “VIOLENCIA” (invasión de otro territori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intensidad y frecuencia de las agresiones</a:t>
            </a:r>
            <a:r>
              <a:rPr b="0" lang="es-ES_trad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 partir de estos criterios se establecen tres categorías:</a:t>
            </a:r>
            <a:endParaRPr b="0" lang="en-US" sz="4000" spc="-1" strike="noStrike">
              <a:solidFill>
                <a:srgbClr val="000000"/>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doméstica, conyugal ó hacia la parej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ltrato Infanti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hacia el adulto mayor.</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ipos de violencia</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ís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icológ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x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egligencia y abando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económ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c. de Medicina</cp:lastModifiedBy>
  <dcterms:modified xsi:type="dcterms:W3CDTF">2009-03-27T12:21:53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