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F4622E-321E-4D1C-AA4E-4372E60597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DFA209-29A2-47E0-9D09-9188855BC9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D01FED-DD45-4418-B42E-96E7DEF25C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C3202B-D846-4209-B0D4-BCCC10EFF7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F4F096-044B-4435-9DDB-4F8B95EEA0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D159AF-019E-4CBC-A04D-1E3AF46B42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2C7CC1-4E0F-4804-B26D-34BA90354D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A93F6C-D85A-48FA-A809-C89DF6CD9C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1A7C69-F792-499E-B864-3AC6C72BAE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9113F9-1363-4E75-AF14-D681B1990D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59BAC-CE64-4EF4-967D-F998E7EF56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2ABDF-8D39-4023-BF06-89E81F3886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2EA77-999F-4332-B5B3-AD40266709E2}"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3360"/>
            <a:ext cx="7772400" cy="1469880"/>
          </a:xfrm>
          <a:prstGeom prst="rect">
            <a:avLst/>
          </a:prstGeom>
          <a:solidFill>
            <a:srgbClr val="009999"/>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Violencia Intrafamiliar</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4114440"/>
            <a:ext cx="6400800" cy="1523880"/>
          </a:xfrm>
          <a:prstGeom prst="rect">
            <a:avLst/>
          </a:prstGeom>
          <a:noFill/>
          <a:ln w="0">
            <a:noFill/>
          </a:ln>
        </p:spPr>
        <p:txBody>
          <a:bodyPr lIns="90000" rIns="90000" tIns="46800" bIns="46800" anchor="t">
            <a:noAutofit/>
          </a:bodyPr>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Olga Toro Devia</a:t>
            </a:r>
            <a:endParaRPr b="0" lang="en-US" sz="1600" spc="-1" strike="noStrike">
              <a:solidFill>
                <a:srgbClr val="000000"/>
              </a:solidFill>
              <a:latin typeface="Arial"/>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sicóloga</a:t>
            </a:r>
            <a:endParaRPr b="0" lang="en-US" sz="1600" spc="-1" strike="noStrike">
              <a:solidFill>
                <a:srgbClr val="000000"/>
              </a:solidFill>
              <a:latin typeface="Arial"/>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Magister en Salud Pública</a:t>
            </a:r>
            <a:endParaRPr b="0" lang="en-US" sz="1600" spc="-1" strike="noStrike">
              <a:solidFill>
                <a:srgbClr val="000000"/>
              </a:solidFill>
              <a:latin typeface="Arial"/>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ARZO 2009</a:t>
            </a:r>
            <a:endParaRPr b="0" lang="en-US" sz="1200" spc="-1" strike="noStrike">
              <a:solidFill>
                <a:srgbClr val="000000"/>
              </a:solidFill>
              <a:latin typeface="Arial"/>
            </a:endParaRPr>
          </a:p>
        </p:txBody>
      </p:sp>
      <p:pic>
        <p:nvPicPr>
          <p:cNvPr id="43" name="" descr=""/>
          <p:cNvPicPr/>
          <p:nvPr/>
        </p:nvPicPr>
        <p:blipFill>
          <a:blip r:embed="rId1"/>
          <a:stretch/>
        </p:blipFill>
        <p:spPr>
          <a:xfrm>
            <a:off x="1116000" y="404640"/>
            <a:ext cx="590400" cy="1008360"/>
          </a:xfrm>
          <a:prstGeom prst="rect">
            <a:avLst/>
          </a:prstGeom>
          <a:ln w="0">
            <a:noFill/>
          </a:ln>
        </p:spPr>
      </p:pic>
      <p:sp>
        <p:nvSpPr>
          <p:cNvPr id="44" name=""/>
          <p:cNvSpPr/>
          <p:nvPr/>
        </p:nvSpPr>
        <p:spPr>
          <a:xfrm>
            <a:off x="1042920" y="1412280"/>
            <a:ext cx="2154240" cy="550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宋体"/>
              </a:rPr>
              <a:t>UNIVERSIDAD DE CHIL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宋体"/>
              </a:rPr>
              <a:t>FACULTAD DE MEDICIN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宋体"/>
              </a:rPr>
              <a:t>ESCUELA  DE ENFERMERÍA</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Abuso físico</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refiere a las manifestaciones de violencia dirigidas al cuerpo de la otra persona y comprende diversas conductas, entre ellas, empujones, tirones de pelo, cachetadas, golpes con puños, golpes con objetos, patadas, palizas, quemaduras, etc. </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2400" spc="-1" strike="noStrike">
                <a:solidFill>
                  <a:srgbClr val="000000"/>
                </a:solidFill>
                <a:latin typeface="Arial"/>
              </a:rPr>
              <a:t>(Martínez, V, Walker, C. y cols., 199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Abuso psicológico o emocional</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on aquellas conductas que por acción u omisión, se orientan a causar temor, intimidar y controlar la conducta, los sentimientos y pensamientos de la persona agredida. Se pueden distinguir los insultos, garabatos, las descalificaciones, amenazas, extorsiones, manipulaciones, el control y restricciones de la libertad personal, el abandono, etc.</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Martínez, V, Walker, C. y cols., 1997)</a:t>
            </a:r>
            <a:endParaRPr b="0" lang="en-US" sz="24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Abuso sexual</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nsiste en la imposición de actos de orden sexual, contra la voluntad del otr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Se incluyen las relaciones sexuales forzadas, la violación marital, el acoso o asedio sexual, la exposición a actividades sexuales no deseadas, la manipulación a través de la sexualidad.</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Martínez, V, Walker, C. y cols., 1997)</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68544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Abuso financiero o violencia económica</a:t>
            </a:r>
            <a:endParaRPr b="0" lang="en-US" sz="4000" spc="-1" strike="noStrike">
              <a:solidFill>
                <a:srgbClr val="000000"/>
              </a:solidFill>
              <a:latin typeface="Arial"/>
            </a:endParaRPr>
          </a:p>
        </p:txBody>
      </p:sp>
      <p:sp>
        <p:nvSpPr>
          <p:cNvPr id="69"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refiere a las conductas orientadas a privar al otro de sus necesidades básicas como una forma de control,  y puede manifestarse a través de la privación económica, la extorsión, la apropiación de bienes y dinero,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MAGNITUD DEL PROBLEMA (1)</a:t>
            </a:r>
            <a:endParaRPr b="0" lang="en-US" sz="40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a prevalencia conyugal en distintas regiones de Chile oscila entre un 42,2% y un 55,3%. La mitad de las mujeres chilenas viven o han vivido situaciones de violencia en la pareja alguna vez en su vida.</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Estudios OMS-SENAM y U. de Chile 2001, 2003, 2004 y 200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MAGNITUD DEL PROBLEMA (2)</a:t>
            </a:r>
            <a:endParaRPr b="0" lang="en-US" sz="40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6 de cada 10 niños chilenos son víctimas de violencia física de parte de sus padres y el 34,2% de ellos sufre agresiones consideradas grave (Encuesta a una muestra representativa de alumnos de 8vo. Básico, U. de Chile-UNICEF, 1994).</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n 73,6% de los niños y niñas viven o han vivido una situación de violencia física o psicológica de parte de sus padres o cuidadores (UNICEF, 20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457200" y="1981080"/>
            <a:ext cx="8229600" cy="41450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Un 25,4% de niños y niñas víctimas de violencia física gra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7,2% de los niños que había</a:t>
            </a:r>
            <a:r>
              <a:rPr b="0" lang="es-ES_tradnl" sz="3200" spc="-1" strike="noStrike">
                <a:solidFill>
                  <a:srgbClr val="000000"/>
                </a:solidFill>
                <a:latin typeface="Arial"/>
              </a:rPr>
              <a:t> </a:t>
            </a:r>
            <a:r>
              <a:rPr b="0" lang="es-ES" sz="3200" spc="-1" strike="noStrike">
                <a:solidFill>
                  <a:srgbClr val="000000"/>
                </a:solidFill>
                <a:latin typeface="Arial"/>
              </a:rPr>
              <a:t>recibido violencia física quedó con lesio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 sz="3200" spc="-1" strike="noStrike">
                <a:solidFill>
                  <a:srgbClr val="000000"/>
                </a:solidFill>
                <a:latin typeface="Arial"/>
              </a:rPr>
              <a:t>1,2% de los niños que había</a:t>
            </a:r>
            <a:r>
              <a:rPr b="0" lang="es-ES_tradnl" sz="3200" spc="-1" strike="noStrike">
                <a:solidFill>
                  <a:srgbClr val="000000"/>
                </a:solidFill>
                <a:latin typeface="Arial"/>
              </a:rPr>
              <a:t> </a:t>
            </a:r>
            <a:r>
              <a:rPr b="0" lang="es-ES" sz="3200" spc="-1" strike="noStrike">
                <a:solidFill>
                  <a:srgbClr val="000000"/>
                </a:solidFill>
                <a:latin typeface="Arial"/>
              </a:rPr>
              <a:t>recibido violencia física grave </a:t>
            </a:r>
            <a:r>
              <a:rPr b="0" lang="es-ES_tradnl" sz="3200" spc="-1" strike="noStrike">
                <a:solidFill>
                  <a:srgbClr val="000000"/>
                </a:solidFill>
                <a:latin typeface="Arial"/>
              </a:rPr>
              <a:t> </a:t>
            </a:r>
            <a:r>
              <a:rPr b="0" lang="es-ES" sz="3200" spc="-1" strike="noStrike">
                <a:solidFill>
                  <a:srgbClr val="000000"/>
                </a:solidFill>
                <a:latin typeface="Arial"/>
              </a:rPr>
              <a:t>debió ir al hospital</a:t>
            </a:r>
            <a:endParaRPr b="0" lang="en-US" sz="32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2"/>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MAGNITUD DEL PROBLEMA (3)</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4428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os daños a la salud (1)</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el plano de </a:t>
            </a:r>
            <a:r>
              <a:rPr b="0" i="1" lang="en-US" sz="2400" spc="-1" strike="noStrike">
                <a:solidFill>
                  <a:srgbClr val="000000"/>
                </a:solidFill>
                <a:latin typeface="Arial"/>
              </a:rPr>
              <a:t>salud física: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fermedades ginecológicas: dolor crónico pelviano, flujo vaginal, persistente, sangrado genital de origen disfuncional.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uso y dependencia de alcohol y sustancias.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fermedades de transmisión sexual (ETS) y SIDA.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ños corporales: daños más permanentes como quemaduras, mordidas, hematomas, heridas (lesiones con arma blanc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4428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os daños a la salud (2)</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jas somáticas poco definidas: cefalea crónica, dolor  abdominal, pélvico y muscular, fatiga crónica.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mbios repentinos de peso.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ante el embarazo: aumento del tabaquismo, aborto, control prenatal tardío, retardo de crecimiento, hemorragias del feto, muerte fetal y muerte materna.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4428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os daños a la salud (3)</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el plano de la </a:t>
            </a:r>
            <a:r>
              <a:rPr b="0" i="1" lang="es-ES" sz="2400" spc="-1" strike="noStrike">
                <a:solidFill>
                  <a:srgbClr val="000000"/>
                </a:solidFill>
                <a:latin typeface="Arial"/>
              </a:rPr>
              <a:t>salud mental</a:t>
            </a:r>
            <a:r>
              <a:rPr b="0" lang="es-E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rastornos Mentales: trastornos del ánimo, depresiones severas, trastornos obsesivos-compulsivos, trastornos por conversión, trastornos de pánico, trastornos en la conducta alimentaria, trastornos en el sueño, episodios psicóticos, entre otros. </a:t>
            </a:r>
            <a:br>
              <a:rPr sz="2400"/>
            </a:br>
            <a:r>
              <a:rPr b="0" lang="es-E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índrome de estrés post-traumático. </a:t>
            </a:r>
            <a:br>
              <a:rPr sz="2400"/>
            </a:br>
            <a:r>
              <a:rPr b="0" lang="es-E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iedo y ansiedad. </a:t>
            </a:r>
            <a:br>
              <a:rPr sz="2400"/>
            </a:br>
            <a:r>
              <a:rPr b="0" lang="es-E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ontenido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finició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ipos de violenci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agnitud del problem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os daños a la salu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odelos explicativos de la conducta violenta.</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odelo ecológico o ecosistémico</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racterísticas y Estrategias de Intervención en la violencia hacia la muj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Factores protectores ante la violencia intrafamiliar.</a:t>
            </a: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ntimientos de vergüenza. </a:t>
            </a:r>
            <a:br>
              <a:rPr sz="2400"/>
            </a:br>
            <a:r>
              <a:rPr b="0" lang="es-E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ducta extremadamente dependiente. </a:t>
            </a:r>
            <a:br>
              <a:rPr sz="2400"/>
            </a:br>
            <a:r>
              <a:rPr b="0" lang="es-E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uresis y encopresis. </a:t>
            </a:r>
            <a:br>
              <a:rPr sz="2400"/>
            </a:br>
            <a:r>
              <a:rPr b="0" lang="es-E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rastornos de conduct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uicidio.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2"/>
          <p:cNvSpPr>
            <a:spLocks noGrp="1"/>
          </p:cNvSpPr>
          <p:nvPr>
            <p:ph type="title"/>
          </p:nvPr>
        </p:nvSpPr>
        <p:spPr>
          <a:xfrm>
            <a:off x="457200" y="304560"/>
            <a:ext cx="8229600" cy="1143000"/>
          </a:xfrm>
          <a:prstGeom prst="rect">
            <a:avLst/>
          </a:prstGeom>
          <a:noFill/>
          <a:ln w="4428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os daños a la salud (4)</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el plano de la </a:t>
            </a:r>
            <a:r>
              <a:rPr b="0" i="1" lang="es-ES_tradnl" sz="2400" spc="-1" strike="noStrike">
                <a:solidFill>
                  <a:srgbClr val="000000"/>
                </a:solidFill>
                <a:latin typeface="Arial"/>
              </a:rPr>
              <a:t>salud sexual</a:t>
            </a:r>
            <a:r>
              <a:rPr b="0" lang="es-ES_tradnl" sz="2400" spc="-1" strike="noStrike">
                <a:solidFill>
                  <a:srgbClr val="000000"/>
                </a:solidFill>
                <a:latin typeface="Arial"/>
              </a:rPr>
              <a:t>:</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mbarazos no deseados. </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sfunciones sexuales, Fobias sexuales y de la sexualidad en general.</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bligación ejercida por parte del varón de la práctica de aborto. </a:t>
            </a:r>
            <a:br>
              <a:rPr sz="2400"/>
            </a:br>
            <a:r>
              <a:rPr b="0" lang="es-ES" sz="2400" spc="-1" strike="noStrike">
                <a:solidFill>
                  <a:srgbClr val="000000"/>
                </a:solidFill>
                <a:latin typeface="Arial"/>
              </a:rPr>
              <a:t> </a:t>
            </a: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hibición del uso de anticonceptivos. </a:t>
            </a:r>
            <a:br>
              <a:rPr sz="2400"/>
            </a:br>
            <a:r>
              <a:rPr b="0" lang="es-ES" sz="2400" spc="-1" strike="noStrike">
                <a:solidFill>
                  <a:srgbClr val="000000"/>
                </a:solidFill>
                <a:latin typeface="Arial"/>
              </a:rPr>
              <a:t> </a:t>
            </a: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sihinibición, sobreexposición, hipersexualización.</a:t>
            </a:r>
            <a:endParaRPr b="0" lang="en-US" sz="2400" spc="-1" strike="noStrike">
              <a:solidFill>
                <a:srgbClr val="000000"/>
              </a:solidFill>
              <a:latin typeface="Arial"/>
            </a:endParaRPr>
          </a:p>
        </p:txBody>
      </p:sp>
      <p:sp>
        <p:nvSpPr>
          <p:cNvPr id="85" name="PlaceHolder 2"/>
          <p:cNvSpPr>
            <a:spLocks noGrp="1"/>
          </p:cNvSpPr>
          <p:nvPr>
            <p:ph type="title"/>
          </p:nvPr>
        </p:nvSpPr>
        <p:spPr>
          <a:xfrm>
            <a:off x="457200" y="274320"/>
            <a:ext cx="8229600" cy="1143000"/>
          </a:xfrm>
          <a:prstGeom prst="rect">
            <a:avLst/>
          </a:prstGeom>
          <a:noFill/>
          <a:ln w="4428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os daños a la salud (5)</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09320"/>
            <a:ext cx="8229600" cy="221004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MODELOS EXPLICATIVOS DE LA CONDUCTA VIOLENTA:</a:t>
            </a:r>
            <a:br>
              <a:rPr sz="4400"/>
            </a:br>
            <a:r>
              <a:rPr b="0" lang="es-ES_tradnl" sz="4400" spc="-1" strike="noStrike">
                <a:solidFill>
                  <a:srgbClr val="000000"/>
                </a:solidFill>
                <a:latin typeface="Arial"/>
              </a:rPr>
              <a:t>una descripción crític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Porqué el ser humano es violento? (1)</a:t>
            </a:r>
            <a:endParaRPr b="0" lang="en-US" sz="3600" spc="-1" strike="noStrike">
              <a:solidFill>
                <a:srgbClr val="000000"/>
              </a:solidFill>
              <a:latin typeface="Arial"/>
            </a:endParaRPr>
          </a:p>
        </p:txBody>
      </p:sp>
      <p:sp>
        <p:nvSpPr>
          <p:cNvPr id="88"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a:bodyPr>
          <a:p>
            <a:pPr marL="812880" indent="-812880">
              <a:lnSpc>
                <a:spcPct val="90000"/>
              </a:lnSpc>
              <a:spcBef>
                <a:spcPts val="7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odelo Biológico: primeras explicaciones específicas sobre la conducta criminal violenta.</a:t>
            </a:r>
            <a:endParaRPr b="0" lang="en-US" sz="2800" spc="-1" strike="noStrike">
              <a:solidFill>
                <a:srgbClr val="000000"/>
              </a:solidFill>
              <a:latin typeface="Arial"/>
            </a:endParaRPr>
          </a:p>
          <a:p>
            <a:pPr lvl="2" marL="1523880" indent="-609480">
              <a:lnSpc>
                <a:spcPct val="90000"/>
              </a:lnSpc>
              <a:spcBef>
                <a:spcPts val="499"/>
              </a:spcBef>
              <a:buClr>
                <a:srgbClr val="000000"/>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eoría Biocriminogenética: A) Cesar Lombroso (1835-1909), postuló que el delincuente es un tipo antropológico determinado por anomalías físicas. B) Par de cromosomas XY que determina el sexo masculino determina nivel de agresividad de los individuos.</a:t>
            </a:r>
            <a:endParaRPr b="0" lang="en-US" sz="2000" spc="-1" strike="noStrike">
              <a:solidFill>
                <a:srgbClr val="000000"/>
              </a:solidFill>
              <a:latin typeface="Arial"/>
            </a:endParaRPr>
          </a:p>
          <a:p>
            <a:pPr lvl="2" marL="1523880" indent="-609480">
              <a:lnSpc>
                <a:spcPct val="90000"/>
              </a:lnSpc>
              <a:spcBef>
                <a:spcPts val="499"/>
              </a:spcBef>
              <a:buClr>
                <a:srgbClr val="000000"/>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osición Neurológica: ciertas formas de daño cerebral a nivel del sistema límbico.</a:t>
            </a:r>
            <a:endParaRPr b="0" lang="en-US" sz="2000" spc="-1" strike="noStrike">
              <a:solidFill>
                <a:srgbClr val="000000"/>
              </a:solidFill>
              <a:latin typeface="Arial"/>
            </a:endParaRPr>
          </a:p>
          <a:p>
            <a:pPr lvl="2" marL="1523880" indent="-609480">
              <a:lnSpc>
                <a:spcPct val="90000"/>
              </a:lnSpc>
              <a:spcBef>
                <a:spcPts val="499"/>
              </a:spcBef>
              <a:buClr>
                <a:srgbClr val="000000"/>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osición Endocrinológica: influencia de la testosterona.</a:t>
            </a:r>
            <a:endParaRPr b="0" lang="en-US" sz="2000" spc="-1" strike="noStrike">
              <a:solidFill>
                <a:srgbClr val="000000"/>
              </a:solidFill>
              <a:latin typeface="Arial"/>
            </a:endParaRPr>
          </a:p>
          <a:p>
            <a:pPr lvl="2" marL="1523880" indent="-609480">
              <a:lnSpc>
                <a:spcPct val="90000"/>
              </a:lnSpc>
              <a:spcBef>
                <a:spcPts val="499"/>
              </a:spcBef>
              <a:buClr>
                <a:srgbClr val="000000"/>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osición Bioquímica: estrés permanente, adicción a la propia secreción de adrenalina.</a:t>
            </a:r>
            <a:endParaRPr b="0" lang="en-US" sz="2000" spc="-1" strike="noStrike">
              <a:solidFill>
                <a:srgbClr val="000000"/>
              </a:solidFill>
              <a:latin typeface="Arial"/>
            </a:endParaRPr>
          </a:p>
          <a:p>
            <a:pPr lvl="2" marL="15238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Porqué el ser humano es violento? (2)</a:t>
            </a:r>
            <a:endParaRPr b="0" lang="en-US" sz="36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812880" indent="-812880">
              <a:lnSpc>
                <a:spcPct val="90000"/>
              </a:lnSpc>
              <a:spcBef>
                <a:spcPts val="700"/>
              </a:spcBef>
              <a:buClr>
                <a:srgbClr val="000000"/>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odelo Psiquiátrico: determinado por las características de personalidad y por condiciones psicopatológicas.</a:t>
            </a:r>
            <a:endParaRPr b="0" lang="en-US" sz="2800" spc="-1" strike="noStrike">
              <a:solidFill>
                <a:srgbClr val="000000"/>
              </a:solidFill>
              <a:latin typeface="Arial"/>
            </a:endParaRPr>
          </a:p>
          <a:p>
            <a:pPr marL="812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12880" indent="-812880">
              <a:lnSpc>
                <a:spcPct val="90000"/>
              </a:lnSpc>
              <a:spcBef>
                <a:spcPts val="700"/>
              </a:spcBef>
              <a:buClr>
                <a:srgbClr val="000000"/>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odelo Sociológico: Straus y Gelles (década del 70) plantean que la VIF está sustentada en la trama de estructuras sociales: instituciones patriarcales y sexismo. Hay prescripciones culturales en la relación entre hombres y muje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Porqué el ser humano es violento? (3)</a:t>
            </a:r>
            <a:endParaRPr b="0" lang="en-US" sz="3600" spc="-1" strike="noStrike">
              <a:solidFill>
                <a:srgbClr val="000000"/>
              </a:solidFill>
              <a:latin typeface="Arial"/>
            </a:endParaRPr>
          </a:p>
        </p:txBody>
      </p:sp>
      <p:sp>
        <p:nvSpPr>
          <p:cNvPr id="92"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812880" indent="-812880">
              <a:lnSpc>
                <a:spcPct val="80000"/>
              </a:lnSpc>
              <a:spcBef>
                <a:spcPts val="700"/>
              </a:spcBef>
              <a:buClr>
                <a:srgbClr val="000000"/>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odelos Psicológicos:</a:t>
            </a:r>
            <a:endParaRPr b="0" lang="en-US" sz="2800" spc="-1" strike="noStrike">
              <a:solidFill>
                <a:srgbClr val="000000"/>
              </a:solidFill>
              <a:latin typeface="Arial"/>
            </a:endParaRPr>
          </a:p>
          <a:p>
            <a:pPr lvl="2" marL="1523880" indent="-609480">
              <a:lnSpc>
                <a:spcPct val="80000"/>
              </a:lnSpc>
              <a:spcBef>
                <a:spcPts val="601"/>
              </a:spcBef>
              <a:buClr>
                <a:srgbClr val="000000"/>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foque psicoanalítico: Responsabiliza a la mujer golpeada asumiéndola como masoquista y desresponsabiliza al hombre golpeador al etiquetarlo psicopatológicamente de sádico y de víctima de sus relaciones parentales tempranas.</a:t>
            </a:r>
            <a:endParaRPr b="0" lang="en-US" sz="2400" spc="-1" strike="noStrike">
              <a:solidFill>
                <a:srgbClr val="000000"/>
              </a:solidFill>
              <a:latin typeface="Arial"/>
            </a:endParaRPr>
          </a:p>
          <a:p>
            <a:pPr lvl="2" marL="15238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523880" indent="-609480">
              <a:lnSpc>
                <a:spcPct val="80000"/>
              </a:lnSpc>
              <a:spcBef>
                <a:spcPts val="601"/>
              </a:spcBef>
              <a:buClr>
                <a:srgbClr val="000000"/>
              </a:buClr>
              <a:buFont typeface="Arial"/>
              <a:buAutoNum type="romanUcPeriod" startAt="2"/>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foque humanista: El agresor busca ejercer influencias significativas sobre los eventos de sus vidas. Con “darse cuenta” (insight) y la expresión verbal, es posible un cambio de actitud. El enfoque minimiza la gravedad del problema.</a:t>
            </a:r>
            <a:endParaRPr b="0" lang="en-US" sz="2400" spc="-1" strike="noStrike">
              <a:solidFill>
                <a:srgbClr val="000000"/>
              </a:solidFill>
              <a:latin typeface="Arial"/>
            </a:endParaRPr>
          </a:p>
          <a:p>
            <a:pPr lvl="2" marL="152388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Porqué el ser humano es violento? (4)</a:t>
            </a:r>
            <a:endParaRPr b="0" lang="en-US" sz="36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2" marL="1523880" indent="-609480">
              <a:lnSpc>
                <a:spcPct val="90000"/>
              </a:lnSpc>
              <a:spcBef>
                <a:spcPts val="601"/>
              </a:spcBef>
              <a:buClr>
                <a:srgbClr val="000000"/>
              </a:buClr>
              <a:buFont typeface="Arial"/>
              <a:buAutoNum type="romanUcPeriod" startAt="3"/>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foque interpersonal o sistémico: el foco son los aspectos interaccionales de la conducta violenta. La pareja debe asumir la concepción circular de la comunicación violenta. No considera las distintas posiciones de poder. Altamente riesgosa la terapia de pareja o familia, para la víctima.</a:t>
            </a:r>
            <a:endParaRPr b="0" lang="en-US" sz="2400" spc="-1" strike="noStrike">
              <a:solidFill>
                <a:srgbClr val="000000"/>
              </a:solidFill>
              <a:latin typeface="Arial"/>
            </a:endParaRPr>
          </a:p>
          <a:p>
            <a:pPr lvl="2" marL="1523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523880" indent="-609480">
              <a:lnSpc>
                <a:spcPct val="90000"/>
              </a:lnSpc>
              <a:spcBef>
                <a:spcPts val="601"/>
              </a:spcBef>
              <a:buClr>
                <a:srgbClr val="000000"/>
              </a:buClr>
              <a:buFont typeface="Arial"/>
              <a:buAutoNum type="romanUcPeriod" startAt="4"/>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foques cognitivo-conductual: La conducta violenta es aprendida, desde modelos culturales, sociales u otros significativos. Es posible la resocialización.</a:t>
            </a:r>
            <a:endParaRPr b="0" lang="en-US" sz="2400" spc="-1" strike="noStrike">
              <a:solidFill>
                <a:srgbClr val="000000"/>
              </a:solidFill>
              <a:latin typeface="Arial"/>
            </a:endParaRPr>
          </a:p>
          <a:p>
            <a:pPr lvl="2" marL="1523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523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MODELO ECOLÓGICO O ECOSISTÉMICO</a:t>
            </a:r>
            <a:endParaRPr b="0" lang="en-US" sz="40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esde los aportes y limitaciones de los diferentes modelos explicativos surgió la necesidad de buscar un modelo integral que fuera capaz de considerar los diversos factor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Urie Bronfenbrenner (1979): La ecología del desarrollo huma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5634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ODELO ECOLÓGICO O ECOSISTÉMICO</a:t>
            </a:r>
            <a:endParaRPr b="0" lang="en-US" sz="3200" spc="-1" strike="noStrike">
              <a:solidFill>
                <a:srgbClr val="000000"/>
              </a:solidFill>
              <a:latin typeface="Arial"/>
            </a:endParaRPr>
          </a:p>
        </p:txBody>
      </p:sp>
      <p:sp>
        <p:nvSpPr>
          <p:cNvPr id="98" name=""/>
          <p:cNvSpPr/>
          <p:nvPr/>
        </p:nvSpPr>
        <p:spPr>
          <a:xfrm>
            <a:off x="152280" y="1066680"/>
            <a:ext cx="8839440" cy="5562720"/>
          </a:xfrm>
          <a:prstGeom prst="ellipse">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2209680" y="1828800"/>
            <a:ext cx="6705720" cy="4267080"/>
          </a:xfrm>
          <a:prstGeom prst="ellipse">
            <a:avLst/>
          </a:prstGeom>
          <a:solidFill>
            <a:srgbClr val="66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3886200" y="2209680"/>
            <a:ext cx="4876920" cy="342900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76320" y="3549600"/>
            <a:ext cx="2133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ACROSISTEM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ociedad y Cultura</a:t>
            </a:r>
            <a:endParaRPr b="0" lang="en-US" sz="1800" spc="-1" strike="noStrike">
              <a:solidFill>
                <a:srgbClr val="000000"/>
              </a:solidFill>
              <a:latin typeface="Arial"/>
            </a:endParaRPr>
          </a:p>
        </p:txBody>
      </p:sp>
      <p:sp>
        <p:nvSpPr>
          <p:cNvPr id="102" name=""/>
          <p:cNvSpPr/>
          <p:nvPr/>
        </p:nvSpPr>
        <p:spPr>
          <a:xfrm>
            <a:off x="2286000" y="3505320"/>
            <a:ext cx="1905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XOSISTEM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stituciones</a:t>
            </a:r>
            <a:endParaRPr b="0" lang="en-US" sz="1800" spc="-1" strike="noStrike">
              <a:solidFill>
                <a:srgbClr val="000000"/>
              </a:solidFill>
              <a:latin typeface="Arial"/>
            </a:endParaRPr>
          </a:p>
        </p:txBody>
      </p:sp>
      <p:sp>
        <p:nvSpPr>
          <p:cNvPr id="103" name=""/>
          <p:cNvSpPr/>
          <p:nvPr/>
        </p:nvSpPr>
        <p:spPr>
          <a:xfrm>
            <a:off x="4648320" y="3549600"/>
            <a:ext cx="2641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ICROSISTEM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laciones Cara a Cara</a:t>
            </a:r>
            <a:endParaRPr b="0" lang="en-US" sz="1800" spc="-1" strike="noStrike">
              <a:solidFill>
                <a:srgbClr val="000000"/>
              </a:solidFill>
              <a:latin typeface="Arial"/>
            </a:endParaRPr>
          </a:p>
        </p:txBody>
      </p:sp>
      <p:sp>
        <p:nvSpPr>
          <p:cNvPr id="104" name=""/>
          <p:cNvSpPr/>
          <p:nvPr/>
        </p:nvSpPr>
        <p:spPr>
          <a:xfrm>
            <a:off x="5181480" y="4495680"/>
            <a:ext cx="2362320" cy="8384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ivel Individu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ODELO ECOLÓGICO O ECOSISTÉMICO (1)</a:t>
            </a:r>
            <a:endParaRPr b="0" lang="en-US" sz="28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MACROSISTEMA</a:t>
            </a:r>
            <a:r>
              <a:rPr b="0" lang="es-ES_tradnl"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Se refiere a las formas de organización social, los sistemas de creencias y los estilos de vida que prevalecen en una cultura y subcultura en particul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Sociedad Patriarcal: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Define lo que es ser varón y mujer de manera estereotipad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952560" y="990720"/>
            <a:ext cx="3238560" cy="5029200"/>
          </a:xfrm>
          <a:prstGeom prst="rect">
            <a:avLst/>
          </a:prstGeom>
          <a:ln w="0">
            <a:noFill/>
          </a:ln>
        </p:spPr>
      </p:pic>
      <p:pic>
        <p:nvPicPr>
          <p:cNvPr id="48" name="" descr=""/>
          <p:cNvPicPr/>
          <p:nvPr/>
        </p:nvPicPr>
        <p:blipFill>
          <a:blip r:embed="rId2"/>
          <a:stretch/>
        </p:blipFill>
        <p:spPr>
          <a:xfrm>
            <a:off x="4915080" y="990720"/>
            <a:ext cx="3238200" cy="5029200"/>
          </a:xfrm>
          <a:prstGeom prst="rect">
            <a:avLst/>
          </a:prstGeom>
          <a:ln w="0">
            <a:noFill/>
          </a:ln>
        </p:spPr>
      </p:pic>
      <p:sp>
        <p:nvSpPr>
          <p:cNvPr id="49" name=""/>
          <p:cNvSpPr/>
          <p:nvPr/>
        </p:nvSpPr>
        <p:spPr>
          <a:xfrm>
            <a:off x="1221480" y="417600"/>
            <a:ext cx="683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AMPAÑAS EN CONTRA DE LA VIOLENCIA INTRAFAMILI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ODELO ECOLÓGICO O ECOSISTÉMICO (2)</a:t>
            </a:r>
            <a:endParaRPr b="0" lang="en-US" sz="28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EXOSISTEMA</a:t>
            </a:r>
            <a:r>
              <a:rPr b="0" lang="es-ES_tradnl"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Está compuesto por el nivel más próximo de la comunidad, que incluye a las instituciones mediadoras entre el nivel de la cultura y el nivel individual.</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Escuela, Iglesia, Medios de comunicación, Organismos judiciales y de seguridad, Instituciones laborales, Instituciones de Salud, Instituciones recreativas,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ODELO ECOLÓGICO O ECOSISTÉMICO (3)</a:t>
            </a:r>
            <a:endParaRPr b="0" lang="en-US" sz="28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MICROSISTEMA</a:t>
            </a:r>
            <a:r>
              <a:rPr b="0" lang="es-ES_tradnl"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Se refiere a las relaciones cara a cara de la red vincular más próxima de las persona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La familia.</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En este nivel se incluye un nivel INDIVIDUAL con cuatro dimensiones psicológicas: cognitiva, conductual, psicodinámica e interaccion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ODELO ECOLÓGICO O ECOSISTÉMICO (4)</a:t>
            </a:r>
            <a:endParaRPr b="0" lang="en-US" sz="28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Nivel INDIVIDUAL: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imensión cognitiva: forma de percibir y conceptualizar el mundo.</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imensión conductual: repertorio de comportamientos.</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imensión psicodinámica: dinámica intrapsíquica, emociones, ansiedades y conflictos concientes y manifestaciones del inconciente.</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imensión interaccional: pautas de relación y comunicación interperson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erspectiva interaccional: </a:t>
            </a:r>
            <a:br>
              <a:rPr sz="2800"/>
            </a:br>
            <a:r>
              <a:rPr b="0" lang="es-ES_tradnl" sz="2800" spc="-1" strike="noStrike">
                <a:solidFill>
                  <a:srgbClr val="000000"/>
                </a:solidFill>
                <a:latin typeface="Arial"/>
              </a:rPr>
              <a:t>Circuito de Abuso Familiar</a:t>
            </a:r>
            <a:r>
              <a:rPr b="0" lang="es-ES_tradnl" sz="4000" spc="-1" strike="noStrike">
                <a:solidFill>
                  <a:srgbClr val="000000"/>
                </a:solidFill>
                <a:latin typeface="Arial"/>
              </a:rPr>
              <a:t> </a:t>
            </a:r>
            <a:r>
              <a:rPr b="0" lang="es-ES_tradnl" sz="1800" spc="-1" strike="noStrike">
                <a:solidFill>
                  <a:srgbClr val="000000"/>
                </a:solidFill>
                <a:latin typeface="Arial"/>
              </a:rPr>
              <a:t>(Ravazzola, C., 1997)</a:t>
            </a:r>
            <a:endParaRPr b="0" lang="en-US" sz="1800" spc="-1" strike="noStrike">
              <a:solidFill>
                <a:srgbClr val="000000"/>
              </a:solidFill>
              <a:latin typeface="Arial"/>
            </a:endParaRPr>
          </a:p>
        </p:txBody>
      </p:sp>
      <p:graphicFrame>
        <p:nvGraphicFramePr>
          <p:cNvPr id="114" name=""/>
          <p:cNvGraphicFramePr/>
          <p:nvPr/>
        </p:nvGraphicFramePr>
        <p:xfrm>
          <a:off x="76320" y="1295280"/>
          <a:ext cx="8991360" cy="5189760"/>
        </p:xfrm>
        <a:graphic>
          <a:graphicData uri="http://schemas.openxmlformats.org/drawingml/2006/table">
            <a:tbl>
              <a:tblPr/>
              <a:tblGrid>
                <a:gridCol w="2479680"/>
                <a:gridCol w="6511680"/>
              </a:tblGrid>
              <a:tr h="11354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CTORE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rsona Abusadora</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rsona Abusada</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rsona testigo – Context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808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DEA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persona abusadora no puede controlars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persona abusada es inferior.</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familia debe mantenerse unida a cualquier costo.</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cuestiones familiares no deben intervenir los de afuera.</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22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CCIONE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s provocaciones y los malos tratos son elementos frecuentes y “naturales” o “normalizados” en las conversacion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232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RUCTURA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on rigidizadas. Se consideran por encima de las personas. Mantienen una organización con jerarquías fijas naturalizada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533520" y="1066680"/>
            <a:ext cx="3962160" cy="5105520"/>
          </a:xfrm>
          <a:prstGeom prst="rect">
            <a:avLst/>
          </a:prstGeom>
          <a:ln w="0">
            <a:noFill/>
          </a:ln>
        </p:spPr>
      </p:pic>
      <p:sp>
        <p:nvSpPr>
          <p:cNvPr id="116" name=""/>
          <p:cNvSpPr/>
          <p:nvPr/>
        </p:nvSpPr>
        <p:spPr>
          <a:xfrm>
            <a:off x="3887280" y="457200"/>
            <a:ext cx="1605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PAUSA</a:t>
            </a:r>
            <a:endParaRPr b="0" lang="en-US" sz="3200" spc="-1" strike="noStrike">
              <a:solidFill>
                <a:srgbClr val="000000"/>
              </a:solidFill>
              <a:latin typeface="Arial"/>
            </a:endParaRPr>
          </a:p>
        </p:txBody>
      </p:sp>
      <p:pic>
        <p:nvPicPr>
          <p:cNvPr id="117" name="" descr=""/>
          <p:cNvPicPr/>
          <p:nvPr/>
        </p:nvPicPr>
        <p:blipFill>
          <a:blip r:embed="rId2"/>
          <a:stretch/>
        </p:blipFill>
        <p:spPr>
          <a:xfrm>
            <a:off x="4724280" y="1066680"/>
            <a:ext cx="4038840" cy="51055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VIOLENCIA HACIA LA MUJER</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 Chile, casi la mitad de las mujeres reconoce haber sufrido episodios de violencia durante su vida, el 90% de los casos ha sido ejercida por sus parejas o ex parejas, y, cada semana al menos una mujer es asesinada por su pareja o ex parej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VIOLENCIA HACIA LA MUJER</a:t>
            </a:r>
            <a:endParaRPr b="0" lang="en-US" sz="4400" spc="-1" strike="noStrike">
              <a:solidFill>
                <a:srgbClr val="000000"/>
              </a:solidFill>
              <a:latin typeface="Arial"/>
            </a:endParaRPr>
          </a:p>
        </p:txBody>
      </p:sp>
      <p:sp>
        <p:nvSpPr>
          <p:cNvPr id="121"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s un fenómeno social que ocurre en un grupo familiar, sea éste el resultado de una unión consensual o legal, y que consiste en el uso de medios instrumentales por parte del cónyuge o pareja para intimidar psicológica, física, intelectual y/o moralmente a su pareja, con el objeto de disipar según su arbitrio y necesidad, la vida familia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2800" spc="-1" strike="noStrike">
                <a:solidFill>
                  <a:srgbClr val="000000"/>
                </a:solidFill>
                <a:latin typeface="Arial"/>
              </a:rPr>
              <a:t>(Larraín,S., 1992)</a:t>
            </a:r>
            <a:r>
              <a:rPr b="0" lang="es-E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iclo de la violencia doméstica </a:t>
            </a:r>
            <a:r>
              <a:rPr b="0" lang="es-ES_tradnl" sz="2400" spc="-1" strike="noStrike">
                <a:solidFill>
                  <a:srgbClr val="000000"/>
                </a:solidFill>
                <a:latin typeface="Arial"/>
              </a:rPr>
              <a:t>(Eleanor Walker, 1979)</a:t>
            </a:r>
            <a:endParaRPr b="0" lang="en-US" sz="2400" spc="-1" strike="noStrike">
              <a:solidFill>
                <a:srgbClr val="000000"/>
              </a:solidFill>
              <a:latin typeface="Arial"/>
            </a:endParaRPr>
          </a:p>
        </p:txBody>
      </p:sp>
      <p:sp>
        <p:nvSpPr>
          <p:cNvPr id="123" name=""/>
          <p:cNvSpPr/>
          <p:nvPr/>
        </p:nvSpPr>
        <p:spPr>
          <a:xfrm>
            <a:off x="1295280" y="1600200"/>
            <a:ext cx="2210040" cy="2514600"/>
          </a:xfrm>
          <a:prstGeom prst="ellipse">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STADIO 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CUMULAC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E TENSIONES</a:t>
            </a:r>
            <a:endParaRPr b="0" lang="en-US" sz="1800" spc="-1" strike="noStrike">
              <a:solidFill>
                <a:srgbClr val="000000"/>
              </a:solidFill>
              <a:latin typeface="Arial"/>
            </a:endParaRPr>
          </a:p>
        </p:txBody>
      </p:sp>
      <p:sp>
        <p:nvSpPr>
          <p:cNvPr id="124" name=""/>
          <p:cNvSpPr/>
          <p:nvPr/>
        </p:nvSpPr>
        <p:spPr>
          <a:xfrm>
            <a:off x="3581280" y="4191120"/>
            <a:ext cx="2210040" cy="2514600"/>
          </a:xfrm>
          <a:prstGeom prst="ellipse">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NDUCT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RREPENTID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Ó LUNA DE MIEL</a:t>
            </a:r>
            <a:endParaRPr b="0" lang="en-US" sz="1800" spc="-1" strike="noStrike">
              <a:solidFill>
                <a:srgbClr val="000000"/>
              </a:solidFill>
              <a:latin typeface="Arial"/>
            </a:endParaRPr>
          </a:p>
        </p:txBody>
      </p:sp>
      <p:sp>
        <p:nvSpPr>
          <p:cNvPr id="125" name=""/>
          <p:cNvSpPr/>
          <p:nvPr/>
        </p:nvSpPr>
        <p:spPr>
          <a:xfrm>
            <a:off x="5715000" y="1600200"/>
            <a:ext cx="2209680" cy="2514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RISIS 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PISODIO AGUDO</a:t>
            </a:r>
            <a:endParaRPr b="0" lang="en-US" sz="1800" spc="-1" strike="noStrike">
              <a:solidFill>
                <a:srgbClr val="000000"/>
              </a:solidFill>
              <a:latin typeface="Arial"/>
            </a:endParaRPr>
          </a:p>
        </p:txBody>
      </p:sp>
      <p:sp>
        <p:nvSpPr>
          <p:cNvPr id="126" name=""/>
          <p:cNvSpPr/>
          <p:nvPr/>
        </p:nvSpPr>
        <p:spPr>
          <a:xfrm rot="14694000">
            <a:off x="1968840" y="4659480"/>
            <a:ext cx="1214280" cy="733680"/>
          </a:xfrm>
          <a:custGeom>
            <a:avLst/>
            <a:gdLst>
              <a:gd name="textAreaLeft" fmla="*/ 212400 w 1214280"/>
              <a:gd name="textAreaRight" fmla="*/ 880560 w 1214280"/>
              <a:gd name="textAreaTop" fmla="*/ 98280 h 733680"/>
              <a:gd name="textAreaBottom" fmla="*/ 635400 h 7336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rot="20619600">
            <a:off x="3885840" y="1980720"/>
            <a:ext cx="1214280" cy="733680"/>
          </a:xfrm>
          <a:custGeom>
            <a:avLst/>
            <a:gdLst>
              <a:gd name="textAreaLeft" fmla="*/ 212400 w 1214280"/>
              <a:gd name="textAreaRight" fmla="*/ 880560 w 1214280"/>
              <a:gd name="textAreaTop" fmla="*/ 98280 h 733680"/>
              <a:gd name="textAreaBottom" fmla="*/ 635400 h 7336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rot="7315800">
            <a:off x="6159600" y="4736160"/>
            <a:ext cx="1214640" cy="733320"/>
          </a:xfrm>
          <a:custGeom>
            <a:avLst/>
            <a:gdLst>
              <a:gd name="textAreaLeft" fmla="*/ 212400 w 1214640"/>
              <a:gd name="textAreaRight" fmla="*/ 880560 w 1214640"/>
              <a:gd name="textAreaTop" fmla="*/ 98280 h 733320"/>
              <a:gd name="textAreaBottom" fmla="*/ 635040 h 7333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Estadio de acumulación de tensiones</a:t>
            </a:r>
            <a:r>
              <a:rPr b="0" lang="es-ES_tradnl" sz="2800" spc="-1" strike="noStrike">
                <a:solidFill>
                  <a:srgbClr val="000000"/>
                </a:solidFill>
                <a:latin typeface="Arial"/>
              </a:rPr>
              <a:t>: se producen agresiones psicológicas o físicas menores. La mujer golpeada intenta estrategias anteriormente exitosas para postergar la crisis. Llega un momento en que la tensión es insostenibl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Crisis o episodio agudo</a:t>
            </a:r>
            <a:r>
              <a:rPr b="0" lang="es-ES_tradnl" sz="2800" spc="-1" strike="noStrike">
                <a:solidFill>
                  <a:srgbClr val="000000"/>
                </a:solidFill>
                <a:latin typeface="Arial"/>
              </a:rPr>
              <a:t>: Pérdida del control. Sólo el agresor puede poner fin a esta fase. La mujer entra en fase de shock.</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1" i="1" lang="es-ES_tradnl" sz="2800" spc="-1" strike="noStrike">
                <a:solidFill>
                  <a:srgbClr val="000000"/>
                </a:solidFill>
                <a:latin typeface="Arial"/>
              </a:rPr>
              <a:t>Conducta arrepentida o luna de miel</a:t>
            </a:r>
            <a:r>
              <a:rPr b="0" lang="es-ES_tradnl" sz="2800" spc="-1" strike="noStrike">
                <a:solidFill>
                  <a:srgbClr val="000000"/>
                </a:solidFill>
                <a:latin typeface="Arial"/>
              </a:rPr>
              <a:t>: Arrepentimiento y demostración de afecto por parte del golpeador.</a:t>
            </a:r>
            <a:endParaRPr b="0" lang="en-US" sz="2800" spc="-1" strike="noStrike">
              <a:solidFill>
                <a:srgbClr val="000000"/>
              </a:solidFill>
              <a:latin typeface="Arial"/>
            </a:endParaRPr>
          </a:p>
        </p:txBody>
      </p:sp>
      <p:sp>
        <p:nvSpPr>
          <p:cNvPr id="130" name="PlaceHolder 2"/>
          <p:cNvSpPr>
            <a:spLocks noGrp="1"/>
          </p:cNvSpPr>
          <p:nvPr>
            <p:ph type="title"/>
          </p:nvPr>
        </p:nvSpPr>
        <p:spPr>
          <a:xfrm>
            <a:off x="457200" y="274320"/>
            <a:ext cx="8229600" cy="1143000"/>
          </a:xfrm>
          <a:prstGeom prst="rect">
            <a:avLst/>
          </a:prstGeom>
          <a:noFill/>
          <a:ln w="381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iclo de la violencia doméstica </a:t>
            </a:r>
            <a:r>
              <a:rPr b="0" lang="es-ES_tradnl" sz="2400" spc="-1" strike="noStrike">
                <a:solidFill>
                  <a:srgbClr val="000000"/>
                </a:solidFill>
                <a:latin typeface="Arial"/>
              </a:rPr>
              <a:t>(Eleanor Walker, 197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57200" y="2361960"/>
            <a:ext cx="8229600" cy="3763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Un proceso de ascenso paulatino de la intensidad, frecuencia y duración de la agresión de cada ciclo consecutivo</a:t>
            </a:r>
            <a:endParaRPr b="0" lang="en-US" sz="3200" spc="-1" strike="noStrike">
              <a:solidFill>
                <a:srgbClr val="000000"/>
              </a:solidFill>
              <a:latin typeface="Arial"/>
            </a:endParaRPr>
          </a:p>
        </p:txBody>
      </p:sp>
      <p:sp>
        <p:nvSpPr>
          <p:cNvPr id="132" name=""/>
          <p:cNvSpPr/>
          <p:nvPr/>
        </p:nvSpPr>
        <p:spPr>
          <a:xfrm>
            <a:off x="533520" y="533520"/>
            <a:ext cx="8229600" cy="1143000"/>
          </a:xfrm>
          <a:prstGeom prst="rect">
            <a:avLst/>
          </a:prstGeom>
          <a:no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scalada de violencia </a:t>
            </a:r>
            <a:br>
              <a:rPr sz="4000"/>
            </a:br>
            <a:r>
              <a:rPr b="0" lang="es-ES_tradnl" sz="2400" spc="-1" strike="noStrike">
                <a:solidFill>
                  <a:srgbClr val="000000"/>
                </a:solidFill>
                <a:latin typeface="Arial"/>
              </a:rPr>
              <a:t>(Eleanor Walker, 197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Definiciones</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Todas las formas de abuso que tienen lugar al interior de la familia y entre sus miembros. El abuso se refiere a toda conducta de un miembro de la familia que, por acción u omisión, ocasiona daño físico y/o psicológico a otro miembro de la familia (Larraín, 1995; Corsi, 1995; Larraín y Walker, 199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aracterísticas del hombre que ejerce violencia hacia su pareja:</a:t>
            </a:r>
            <a:endParaRPr b="0" lang="en-US" sz="3200" spc="-1" strike="noStrike">
              <a:solidFill>
                <a:srgbClr val="000000"/>
              </a:solidFill>
              <a:latin typeface="Arial"/>
            </a:endParaRPr>
          </a:p>
        </p:txBody>
      </p:sp>
      <p:sp>
        <p:nvSpPr>
          <p:cNvPr id="134"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609480" indent="-609480">
              <a:lnSpc>
                <a:spcPct val="9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egación o miniminización de la violencia.</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xternalización de la responsabilidad.</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iedo de dependencia.</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ternalización de un modelo masculino tradicional.</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xpresión inadecuada de sus emociones.</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islamiento social y emocional.</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bre control de impulsos.</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xperiencias infantiles de violencia.</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Baja autoestima.</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odo de conductas disociadas.</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ercepción rígida y estructurada de la realida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Evaluación por Ejes Diagnósticos:</a:t>
            </a:r>
            <a:endParaRPr b="0" lang="en-US" sz="36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 Violenc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 Soci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 Sintomátic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 Personalid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 Jurídic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 Interaccion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 Géner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je Violencia</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ilucidar las características de la violencia en todas sus dimension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explora: relación de violencia, los tipos y su severidad; las características de los episodios, la data, los ciclos, indicadores de riesgo de homicidio o lesión grave, grado de conciencia y auto-explicacion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define gravedad: Leve-Moderada-Sever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je Sintomático</a:t>
            </a: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Indagar síntomas psíquicos y/o somátic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resunción diagnóstica: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rastornos Depresivo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rastornos de Ansieda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rastornos Somatomorfo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sumo de psicofármac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je Social</a:t>
            </a: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des Social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islamiento social-emocional.</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d primaria débil.</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d primaria y secundaria de apoyo.</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cursos socio-económicos: dependencia económica, trabajo remunerado, condición socioeconómica, etc.</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oblemáticas de Salud de carácter grave, crónico o discapacitante de algún miembro de la famil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je Personalidad</a:t>
            </a: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servación de rasgos de personalidad, estilos de funcionamiento de la persona y de su pareja, que se asocian a una estructura permanente en el tiempo, que podrían trascender a la problemática de violenci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cluye evaluación de dimensiones cognitiva, conductual, psicodinámica e interaccional (recursos y habilidades personales, patología psiquiátrica, trastorno de personalidad, vínculo terapéutic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je Jurídico</a:t>
            </a: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aracterizar desde el punto de vista de los derechos y el marco jurídico existent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istingu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sos no constitutivos de delit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sos constitutivos de deli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Arial"/>
              </a:rPr>
              <a:t>Casos constitutivos de delito</a:t>
            </a: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aquellos casos en que la/el profesional se encuentre con una situación de violencia, maltrato físico, lesiones calificadas de menos graves, graves o gravísimas a las que se asimilan las mutilaciones, la denuncia será de conocimiento en primer término del Ministerio Público, a quien corresponde dar curso a la investigación criminal destinada a determinar la existencia del deli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je Interaccional</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eterminar dinámicas particulares de la relación de parej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uta relaciona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trones de simetría y complementarieda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racterísticas de los límites en el sistema famili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je Género</a:t>
            </a:r>
            <a:endParaRPr b="0" lang="en-US" sz="4400" spc="-1" strike="noStrike">
              <a:solidFill>
                <a:srgbClr val="000000"/>
              </a:solidFill>
              <a:latin typeface="Arial"/>
            </a:endParaRPr>
          </a:p>
        </p:txBody>
      </p:sp>
      <p:sp>
        <p:nvSpPr>
          <p:cNvPr id="152" name="PlaceHolder 2"/>
          <p:cNvSpPr>
            <a:spLocks noGrp="1"/>
          </p:cNvSpPr>
          <p:nvPr>
            <p:ph/>
          </p:nvPr>
        </p:nvSpPr>
        <p:spPr>
          <a:xfrm>
            <a:off x="457200" y="1981080"/>
            <a:ext cx="8229600" cy="41450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valuar la especificidad de la representación cultural de los roles femeninos y masculin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SERNAM</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a Violencia Intrafamiliar es toda conducta que por acción u omisión cometa algún miembro de la familia contra otro abusando de su relación de poder, ya sea dentro del hogar o fuera de éste y que perjudique su bienestar, su integridad física o psicológica, su libertad y su derecho a un pleno desarroll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600" cy="140184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INTERVENCIONES DE PRIMER ORDEN</a:t>
            </a:r>
            <a:endParaRPr b="0" lang="en-US" sz="4000" spc="-1" strike="noStrike">
              <a:solidFill>
                <a:srgbClr val="000000"/>
              </a:solidFill>
              <a:latin typeface="Arial"/>
            </a:endParaRPr>
          </a:p>
        </p:txBody>
      </p:sp>
      <p:sp>
        <p:nvSpPr>
          <p:cNvPr id="154"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construir un motivo de consulta en VIF.</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 de Intervención.</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tervenciones complementarias:</a:t>
            </a:r>
            <a:endParaRPr b="0" lang="en-US" sz="28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lan de Protección.</a:t>
            </a:r>
            <a:endParaRPr b="0" lang="en-US" sz="24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rategias de protección en caso de riesgo vital.</a:t>
            </a:r>
            <a:endParaRPr b="0" lang="en-US" sz="24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rategias en caso de riesgo de suicidio.</a:t>
            </a:r>
            <a:endParaRPr b="0" lang="en-US" sz="24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rategias en caso de riesgo de homicidio.</a:t>
            </a:r>
            <a:endParaRPr b="0" lang="en-US" sz="24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ocedimientos judiciales.</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INTERVENCIÓN GRUPAL en Atención Primaria</a:t>
            </a:r>
            <a:endParaRPr b="0" lang="en-US" sz="4000" spc="-1" strike="noStrike">
              <a:solidFill>
                <a:srgbClr val="000000"/>
              </a:solidFill>
              <a:latin typeface="Arial"/>
            </a:endParaRPr>
          </a:p>
        </p:txBody>
      </p:sp>
      <p:sp>
        <p:nvSpPr>
          <p:cNvPr id="156" name="PlaceHolder 2"/>
          <p:cNvSpPr>
            <a:spLocks noGrp="1"/>
          </p:cNvSpPr>
          <p:nvPr>
            <p:ph/>
          </p:nvPr>
        </p:nvSpPr>
        <p:spPr>
          <a:xfrm>
            <a:off x="457200" y="179856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snormalización de la violenci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visión de los roles de género que validan la violenci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significación de la experiencia abusiv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umento de la autoestim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minuir el aislamiento emocional y socia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ejorar el reconocimiento y expresión de emociones y sentimiento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sarrollar la autonomía y la responsabilida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mpliar el repertorio interaccional.</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55412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INTERVENCION INDIVIDUAL en Atención Primaria</a:t>
            </a:r>
            <a:endParaRPr b="0" lang="en-US" sz="4400" spc="-1" strike="noStrike">
              <a:solidFill>
                <a:srgbClr val="000000"/>
              </a:solidFill>
              <a:latin typeface="Arial"/>
            </a:endParaRPr>
          </a:p>
        </p:txBody>
      </p:sp>
      <p:sp>
        <p:nvSpPr>
          <p:cNvPr id="158"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oporcionar a la consultante un espacio de contención y estructur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Favorecer la toma de conciencia de la situación de violencia y de la forma en la cual la consultante participa de lo que le ocurr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iminar o disminuir las manifestaciones de abus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sarrollar habilidades psicoemocionales que permitan la resolución de la situación de abus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OTRAS INTERVENCIONES en Atención Primaria</a:t>
            </a:r>
            <a:endParaRPr b="0" lang="en-US" sz="4000" spc="-1" strike="noStrike">
              <a:solidFill>
                <a:srgbClr val="000000"/>
              </a:solidFill>
              <a:latin typeface="Arial"/>
            </a:endParaRPr>
          </a:p>
        </p:txBody>
      </p:sp>
      <p:sp>
        <p:nvSpPr>
          <p:cNvPr id="160"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Intervenciones familiar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isita domiciliari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siones de control y seguimient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ordinación interinstitucional y trabajo en r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nsulta y apoyo Socia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Orientación social-jurídic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Tratamiento farmacologic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1052640" y="38160"/>
            <a:ext cx="7038720" cy="67435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1409760" y="76320"/>
            <a:ext cx="6324480" cy="67816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4400" spc="-1" strike="noStrike">
                <a:solidFill>
                  <a:srgbClr val="000000"/>
                </a:solidFill>
                <a:latin typeface="Arial"/>
              </a:rPr>
              <a:t>¿QUÉ PUEDEN HACER LOS PROFESINALES DE LA SALUD CON RESPECTO A LA VIOLENCI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274680"/>
            <a:ext cx="8077320" cy="178272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stas formas de proceder contribuyen a la opresión de las víctimas…¡evítelas!</a:t>
            </a:r>
            <a:endParaRPr b="0" lang="en-US" sz="4000" spc="-1" strike="noStrike">
              <a:solidFill>
                <a:srgbClr val="000000"/>
              </a:solidFill>
              <a:latin typeface="Arial"/>
            </a:endParaRPr>
          </a:p>
        </p:txBody>
      </p:sp>
      <p:sp>
        <p:nvSpPr>
          <p:cNvPr id="165" name="PlaceHolder 2"/>
          <p:cNvSpPr>
            <a:spLocks noGrp="1"/>
          </p:cNvSpPr>
          <p:nvPr>
            <p:ph/>
          </p:nvPr>
        </p:nvSpPr>
        <p:spPr>
          <a:xfrm>
            <a:off x="457200" y="2285640"/>
            <a:ext cx="8229600" cy="43434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Violación de la información confidencia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trevista de la víctima (adulto) delante de la famili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tarles a los colegas los antecedentes confidenciales sin consentimiento de la afectad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lamar a la policía sin consentimiento o información de la afectad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rivalizar o subestimar el abus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No tomar en serio el peligro que la persona sien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a:t>
            </a:r>
            <a:r>
              <a:rPr b="0" lang="es-ES_tradnl" sz="4400" spc="-1" strike="noStrike">
                <a:solidFill>
                  <a:srgbClr val="000000"/>
                </a:solidFill>
                <a:latin typeface="Arial"/>
              </a:rPr>
              <a:t>¡evítelas!</a:t>
            </a:r>
            <a:endParaRPr b="0" lang="en-US" sz="4400" spc="-1" strike="noStrike">
              <a:solidFill>
                <a:srgbClr val="000000"/>
              </a:solidFill>
              <a:latin typeface="Arial"/>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uponer que si ha tolerado tantos años de abuso, no puede ser tan mal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nsiderar normal la opres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No reaccionar cuando le revela el abus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ceptar que la intimidación es normal en las relacio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reer que el abuso es el resultado natural de la desobediencia de la person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a:t>
            </a:r>
            <a:r>
              <a:rPr b="0" lang="es-ES_tradnl" sz="4400" spc="-1" strike="noStrike">
                <a:solidFill>
                  <a:srgbClr val="000000"/>
                </a:solidFill>
                <a:latin typeface="Arial"/>
              </a:rPr>
              <a:t>¡evítelas!</a:t>
            </a:r>
            <a:endParaRPr b="0" lang="en-US" sz="4400" spc="-1" strike="noStrike">
              <a:solidFill>
                <a:srgbClr val="000000"/>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Ignorar su necesidad de segurid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No reconocer que se siente en peligr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ólo indicarle calman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Indicarle el divorci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astigar a la persona por no hacer lo que se le indic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ulpar a la víctima, preguntarle qué hizo para provocar el abus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Definición de la Ley 20.066</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odo maltrato que afecte la vida o la integridad física o síquica de quien tenga o haya tenido la calidad de cónyuge del ofensor o una relación de convivencia con él; o sea, pariente del ofensor, su cónyuge o su actual conviviente, o bien, cuando esta conducta ocurre entre los padres de un hijo común, o sobre un menor de edad o discapacitado que se encuentre bajo el cuidado o dependencia de cualquiera de los integrantes del grupo famili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80880" y="304560"/>
            <a:ext cx="8229600" cy="144756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Estas acciones de salud promueven las relaciones no-violentas…¡úselas!</a:t>
            </a:r>
            <a:endParaRPr b="0" lang="en-US" sz="3600" spc="-1" strike="noStrike">
              <a:solidFill>
                <a:srgbClr val="000000"/>
              </a:solidFill>
              <a:latin typeface="Arial"/>
            </a:endParaRPr>
          </a:p>
        </p:txBody>
      </p:sp>
      <p:sp>
        <p:nvSpPr>
          <p:cNvPr id="171" name="PlaceHolder 2"/>
          <p:cNvSpPr>
            <a:spLocks noGrp="1"/>
          </p:cNvSpPr>
          <p:nvPr>
            <p:ph/>
          </p:nvPr>
        </p:nvSpPr>
        <p:spPr>
          <a:xfrm>
            <a:off x="457200" y="1752480"/>
            <a:ext cx="8229600" cy="5029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l personal de salud pued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olicitar capacitación acerca de la prevención y control de la violenci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jecutar los programas de prevención y control de la violenci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alizar vigilancia epidemiológica de la violenci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aborar material educativo para los diversos grupos objetivo de la població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pacitar y educar a monitores comunitarios en prevención de la violenci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laborar en la coordinación de los recursos comunitario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oporcionar atención humanizad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80880" y="304920"/>
            <a:ext cx="8229600" cy="9144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_tradnl" sz="3600" spc="-1" strike="noStrike">
                <a:solidFill>
                  <a:srgbClr val="000000"/>
                </a:solidFill>
                <a:latin typeface="Arial"/>
              </a:rPr>
              <a:t>…</a:t>
            </a:r>
            <a:r>
              <a:rPr b="0" lang="es-ES_tradnl" sz="3600" spc="-1" strike="noStrike">
                <a:solidFill>
                  <a:srgbClr val="000000"/>
                </a:solidFill>
                <a:latin typeface="Arial"/>
              </a:rPr>
              <a:t>úselas! </a:t>
            </a:r>
            <a:br>
              <a:rPr sz="3600"/>
            </a:br>
            <a:endParaRPr b="0" lang="en-US" sz="3600" spc="-1" strike="noStrike">
              <a:solidFill>
                <a:srgbClr val="000000"/>
              </a:solidFill>
              <a:latin typeface="Arial"/>
            </a:endParaRPr>
          </a:p>
        </p:txBody>
      </p:sp>
      <p:sp>
        <p:nvSpPr>
          <p:cNvPr id="173" name="PlaceHolder 2"/>
          <p:cNvSpPr>
            <a:spLocks noGrp="1"/>
          </p:cNvSpPr>
          <p:nvPr>
            <p:ph/>
          </p:nvPr>
        </p:nvSpPr>
        <p:spPr>
          <a:xfrm>
            <a:off x="457200" y="1523880"/>
            <a:ext cx="8229600" cy="50292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os encargados de programas de salud puede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sarrollar programas preventivos en los diferentes niveles de la red asistenci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ablecer protocolos de atención y referencia específico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omover la anticoncepción de emergenci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acilitar las instalaciones a las personas o grupos organizados de apoyo a las víctim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rabajar intersectorialmente el problema de la violencia en las comun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valuar el resultado e impacto de las diversas intervencion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680"/>
            <a:ext cx="8229600" cy="185904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PROMOCIÓN DE FACTORES PROTECTORES EN LA PRÁCTICA CLÍNICA (1)</a:t>
            </a:r>
            <a:endParaRPr b="0" lang="en-US" sz="4000" spc="-1" strike="noStrike">
              <a:solidFill>
                <a:srgbClr val="000000"/>
              </a:solidFill>
              <a:latin typeface="Arial"/>
            </a:endParaRPr>
          </a:p>
        </p:txBody>
      </p:sp>
      <p:sp>
        <p:nvSpPr>
          <p:cNvPr id="175" name="PlaceHolder 2"/>
          <p:cNvSpPr>
            <a:spLocks noGrp="1"/>
          </p:cNvSpPr>
          <p:nvPr>
            <p:ph/>
          </p:nvPr>
        </p:nvSpPr>
        <p:spPr>
          <a:xfrm>
            <a:off x="457200" y="2438280"/>
            <a:ext cx="8229600" cy="36878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poyo emocional durante el embaraz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utocuidado durante el embaraz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reparación integral para el part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reparación para la crianza, guías anticipatoria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poyo al desarrollo de vínculos tempranos, apoyo a la lactancia matern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680"/>
            <a:ext cx="8229600" cy="185904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PROMOCIÓN DE FACTORES PROTECTORES EN LA PRÁCTICA CLÍNICA (2)</a:t>
            </a:r>
            <a:endParaRPr b="0" lang="en-US" sz="4000" spc="-1" strike="noStrike">
              <a:solidFill>
                <a:srgbClr val="000000"/>
              </a:solidFill>
              <a:latin typeface="Arial"/>
            </a:endParaRPr>
          </a:p>
        </p:txBody>
      </p:sp>
      <p:sp>
        <p:nvSpPr>
          <p:cNvPr id="177" name="PlaceHolder 2"/>
          <p:cNvSpPr>
            <a:spLocks noGrp="1"/>
          </p:cNvSpPr>
          <p:nvPr>
            <p:ph/>
          </p:nvPr>
        </p:nvSpPr>
        <p:spPr>
          <a:xfrm>
            <a:off x="457200" y="2438280"/>
            <a:ext cx="8229600" cy="36878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timulación psicomotora a niños y niña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timulación a la participación comunitari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Factores protectores psicosociales: autoestima, asertividad, conducta de búsqueda de ayud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ducación en afectividad y sexualid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680"/>
            <a:ext cx="8229600" cy="94464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Bibliografía sugerida:</a:t>
            </a:r>
            <a:endParaRPr b="0" lang="en-US" sz="4400" spc="-1" strike="noStrike">
              <a:solidFill>
                <a:srgbClr val="000000"/>
              </a:solidFill>
              <a:latin typeface="Arial"/>
            </a:endParaRPr>
          </a:p>
        </p:txBody>
      </p:sp>
      <p:sp>
        <p:nvSpPr>
          <p:cNvPr id="179" name="PlaceHolder 2"/>
          <p:cNvSpPr>
            <a:spLocks noGrp="1"/>
          </p:cNvSpPr>
          <p:nvPr>
            <p:ph/>
          </p:nvPr>
        </p:nvSpPr>
        <p:spPr>
          <a:xfrm>
            <a:off x="457200" y="1371240"/>
            <a:ext cx="8229600" cy="5257800"/>
          </a:xfrm>
          <a:prstGeom prst="rect">
            <a:avLst/>
          </a:prstGeom>
          <a:noFill/>
          <a:ln w="38160">
            <a:solidFill>
              <a:srgbClr val="000000"/>
            </a:solidFill>
            <a:miter/>
          </a:ln>
        </p:spPr>
        <p:txBody>
          <a:bodyPr lIns="90000" rIns="90000" tIns="46800" bIns="46800" anchor="t">
            <a:normAutofit/>
          </a:bodyPr>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inisterio de Salud (2005). </a:t>
            </a:r>
            <a:r>
              <a:rPr b="0" i="1" lang="es-ES_tradnl" sz="1800" spc="-1" strike="noStrike">
                <a:solidFill>
                  <a:srgbClr val="000000"/>
                </a:solidFill>
                <a:latin typeface="Arial"/>
              </a:rPr>
              <a:t>Violencia Intrafamiliar. Detección, Diagnóstico y Tratamiento.</a:t>
            </a:r>
            <a:r>
              <a:rPr b="0" lang="es-ES_tradnl" sz="1800" spc="-1" strike="noStrike">
                <a:solidFill>
                  <a:srgbClr val="000000"/>
                </a:solidFill>
                <a:latin typeface="Arial"/>
              </a:rPr>
              <a:t> Chile: Ministerio de Salud.</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inisterio de Salud (2005). </a:t>
            </a:r>
            <a:r>
              <a:rPr b="0" i="1" lang="es-ES_tradnl" sz="1800" spc="-1" strike="noStrike">
                <a:solidFill>
                  <a:srgbClr val="000000"/>
                </a:solidFill>
                <a:latin typeface="Arial"/>
              </a:rPr>
              <a:t>Intervención Psicosocial de Grupo para la atención de mujeres que viven Violencia Intrafamiliar.</a:t>
            </a:r>
            <a:r>
              <a:rPr b="0" lang="es-ES_tradnl" sz="1800" spc="-1" strike="noStrike">
                <a:solidFill>
                  <a:srgbClr val="000000"/>
                </a:solidFill>
                <a:latin typeface="Arial"/>
              </a:rPr>
              <a:t> Chile: Ministerio de Salud.</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ddou, F.; Kunstman, G.; Maturana, H.; Méndez, C.L.; Montenegro, H. (1995). </a:t>
            </a:r>
            <a:r>
              <a:rPr b="0" i="1" lang="es-ES_tradnl" sz="1800" spc="-1" strike="noStrike">
                <a:solidFill>
                  <a:srgbClr val="000000"/>
                </a:solidFill>
                <a:latin typeface="Arial"/>
              </a:rPr>
              <a:t>Violencia en sus distintos ámbitos de expresión</a:t>
            </a:r>
            <a:r>
              <a:rPr b="0" lang="es-ES_tradnl" sz="1800" spc="-1" strike="noStrike">
                <a:solidFill>
                  <a:srgbClr val="000000"/>
                </a:solidFill>
                <a:latin typeface="Arial"/>
              </a:rPr>
              <a:t>. Santiago de Chile: Dolmen Ediciones S.A.</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rsi, J. (1995). </a:t>
            </a:r>
            <a:r>
              <a:rPr b="0" i="1" lang="es-ES_tradnl" sz="1800" spc="-1" strike="noStrike">
                <a:solidFill>
                  <a:srgbClr val="000000"/>
                </a:solidFill>
                <a:latin typeface="Arial"/>
              </a:rPr>
              <a:t>Violencia masculina en la pareja: una aproximación al diagnóstico y a los modelos de intervención</a:t>
            </a:r>
            <a:r>
              <a:rPr b="0" lang="es-ES_tradnl" sz="1800" spc="-1" strike="noStrike">
                <a:solidFill>
                  <a:srgbClr val="000000"/>
                </a:solidFill>
                <a:latin typeface="Arial"/>
              </a:rPr>
              <a:t>. Buenos Aires: Editorial Paidós.</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avazzola, C. (1997). </a:t>
            </a:r>
            <a:r>
              <a:rPr b="0" i="1" lang="es-ES_tradnl" sz="1800" spc="-1" strike="noStrike">
                <a:solidFill>
                  <a:srgbClr val="000000"/>
                </a:solidFill>
                <a:latin typeface="Arial"/>
              </a:rPr>
              <a:t>Historias Infames: el maltrato en las relaciones</a:t>
            </a:r>
            <a:r>
              <a:rPr b="0" lang="es-ES_tradnl" sz="1800" spc="-1" strike="noStrike">
                <a:solidFill>
                  <a:srgbClr val="000000"/>
                </a:solidFill>
                <a:latin typeface="Arial"/>
              </a:rPr>
              <a:t>. Buenos Aires: Editorial Paidós.</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entro Clínico y de Investigación Corporación La Morada y Fondo de Población Naciones Unidas (2007). </a:t>
            </a:r>
            <a:r>
              <a:rPr b="0" i="1" lang="es-ES_tradnl" sz="1800" spc="-1" strike="noStrike">
                <a:solidFill>
                  <a:srgbClr val="000000"/>
                </a:solidFill>
                <a:latin typeface="Arial"/>
              </a:rPr>
              <a:t>Proyecto Modelo de Atención Nivel Secundario en Violencia hacia la Mujer</a:t>
            </a:r>
            <a:r>
              <a:rPr b="0" lang="es-ES_tradnl" sz="1800" spc="-1" strike="noStrike">
                <a:solidFill>
                  <a:srgbClr val="000000"/>
                </a:solidFill>
                <a:latin typeface="Arial"/>
              </a:rPr>
              <a:t>. Chile: Corporación La Morada y UNFPA.</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inisterio de Salud (2004). </a:t>
            </a:r>
            <a:r>
              <a:rPr b="0" i="1" lang="es-ES_tradnl" sz="1800" spc="-1" strike="noStrike">
                <a:solidFill>
                  <a:srgbClr val="000000"/>
                </a:solidFill>
                <a:latin typeface="Arial"/>
              </a:rPr>
              <a:t>Cómo contribuir a prevenir y controlar la violencia.</a:t>
            </a:r>
            <a:r>
              <a:rPr b="0" lang="es-ES_tradnl" sz="1800" spc="-1" strike="noStrike">
                <a:solidFill>
                  <a:srgbClr val="000000"/>
                </a:solidFill>
                <a:latin typeface="Arial"/>
              </a:rPr>
              <a:t> Chile: Ministerio de Salud.</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inisterio de Salud (2000). </a:t>
            </a:r>
            <a:r>
              <a:rPr b="0" i="1" lang="es-ES_tradnl" sz="1800" spc="-1" strike="noStrike">
                <a:solidFill>
                  <a:srgbClr val="000000"/>
                </a:solidFill>
                <a:latin typeface="Arial"/>
              </a:rPr>
              <a:t>Plan Nacional de Salud Mental y Psiquiatría 2000-2010</a:t>
            </a:r>
            <a:r>
              <a:rPr b="0" lang="es-ES_tradnl" sz="1800" spc="-1" strike="noStrike">
                <a:solidFill>
                  <a:srgbClr val="000000"/>
                </a:solidFill>
                <a:latin typeface="Arial"/>
              </a:rPr>
              <a:t>. Chile: Ministerio de Salu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n las definiciones destacar tres criterios fundamentales:</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80000"/>
              </a:lnSpc>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La relación entre las personas implicadas</a:t>
            </a:r>
            <a:r>
              <a:rPr b="0" lang="es-ES_tradnl" sz="2800" spc="-1" strike="noStrike">
                <a:solidFill>
                  <a:srgbClr val="000000"/>
                </a:solidFill>
                <a:latin typeface="Arial"/>
              </a:rPr>
              <a:t>: amplía concepto tradicional de familia, es necesario aceptar relaciones según la relación íntima y personal, así como de cuidado.</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La naturaleza de los actos de violencia</a:t>
            </a:r>
            <a:r>
              <a:rPr b="0" lang="es-ES_tradnl" sz="2800" spc="-1" strike="noStrike">
                <a:solidFill>
                  <a:srgbClr val="000000"/>
                </a:solidFill>
                <a:latin typeface="Arial"/>
              </a:rPr>
              <a:t>: por acción o por omisión.</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Distinguir entre “AGRESIÓN” (derecho del propio territorio) y “VIOLENCIA” (invasión de otro territorio).</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La intensidad y frecuencia de las agresiones</a:t>
            </a:r>
            <a:r>
              <a:rPr b="0" lang="es-ES_tradnl"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A partir de estos criterios se establecen tres categorías:</a:t>
            </a:r>
            <a:endParaRPr b="0" lang="en-US" sz="4000" spc="-1" strike="noStrike">
              <a:solidFill>
                <a:srgbClr val="000000"/>
              </a:solidFill>
              <a:latin typeface="Arial"/>
            </a:endParaRPr>
          </a:p>
        </p:txBody>
      </p:sp>
      <p:sp>
        <p:nvSpPr>
          <p:cNvPr id="59" name="PlaceHolder 2"/>
          <p:cNvSpPr>
            <a:spLocks noGrp="1"/>
          </p:cNvSpPr>
          <p:nvPr>
            <p:ph/>
          </p:nvPr>
        </p:nvSpPr>
        <p:spPr>
          <a:xfrm>
            <a:off x="457200" y="2361960"/>
            <a:ext cx="8229600" cy="376380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iolencia doméstica, conyugal ó hacia la pareja.</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altrato Infantil.</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iolencia hacia el adulto mayor.</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Tipos de violencia</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Físic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sicológic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xu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Negligencia y abandon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iolencia económic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Fac. de Medicina</cp:lastModifiedBy>
  <dcterms:modified xsi:type="dcterms:W3CDTF">2009-03-27T12:21:53Z</dcterms:modified>
  <cp:revision>2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