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BD2C9-5C7A-4EBC-AB2A-224D8EA0C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6829C-F212-437E-860D-1270871D0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72E79-2BE6-415D-97F6-A99E4BA5D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5A2C3-379F-4A3F-9661-3B221F597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E1D6D-05FA-4328-AB4F-C948185D2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751DC-33BB-4834-904E-567B0DC7D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60C29-7693-4FFE-8A97-32D3ADFE1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756D2-6300-43DB-B690-1D474F02A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CBCB1-542A-4679-96B5-DBB93F21E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807A0-0BA3-408A-B2F1-BFED730C2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978B7-B971-4743-8B2A-FFEE647B5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12400-E10B-4A66-8B71-FC36EE2A2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4358-3C3A-4ECE-9E8F-66EC7520C53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solidFill>
            <a:srgbClr val="009999"/>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Violencia Intrafamili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14440"/>
            <a:ext cx="6400800" cy="152388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lga Toro Devi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sicólog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gister en Salud Públic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 2009</a:t>
            </a:r>
            <a:endParaRPr b="0" lang="en-US" sz="1200" spc="-1" strike="noStrike">
              <a:solidFill>
                <a:srgbClr val="000000"/>
              </a:solidFill>
              <a:latin typeface="Arial"/>
            </a:endParaRPr>
          </a:p>
        </p:txBody>
      </p:sp>
      <p:pic>
        <p:nvPicPr>
          <p:cNvPr id="43" name="" descr=""/>
          <p:cNvPicPr/>
          <p:nvPr/>
        </p:nvPicPr>
        <p:blipFill>
          <a:blip r:embed="rId1"/>
          <a:stretch/>
        </p:blipFill>
        <p:spPr>
          <a:xfrm>
            <a:off x="1116000" y="404640"/>
            <a:ext cx="590400" cy="1008360"/>
          </a:xfrm>
          <a:prstGeom prst="rect">
            <a:avLst/>
          </a:prstGeom>
          <a:ln w="0">
            <a:noFill/>
          </a:ln>
        </p:spPr>
      </p:pic>
      <p:sp>
        <p:nvSpPr>
          <p:cNvPr id="44" name=""/>
          <p:cNvSpPr/>
          <p:nvPr/>
        </p:nvSpPr>
        <p:spPr>
          <a:xfrm>
            <a:off x="1042920" y="1412280"/>
            <a:ext cx="21542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宋体"/>
              </a:rPr>
              <a:t>UNIVERSIDAD DE CH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FACULTAD DE MEDI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ESCUELA  DE ENFERMERÍ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físic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manifestaciones de violencia dirigidas al cuerpo de la otra persona y comprende diversas conductas, entre ellas, empujones, tirones de pelo, cachetadas, golpes con puños, golpes con objetos, patadas, palizas, quemaduras, etc.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psicológico o emociona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conductas que por acción u omisión, se orientan a causar temor, intimidar y controlar la conducta, los sentimientos y pensamientos de la persona agredida. Se pueden distinguir los insultos, garabatos, las descalificaciones, amenazas, extorsiones, manipulaciones, el control y restricciones de la libertad personal, el abandono, etc.</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sexual</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ste en la imposición de actos de orden sexual, contra la voluntad del o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incluyen las relaciones sexuales forzadas, la violación marital, el acoso o asedio sexual, la exposición a actividades sexuales no deseadas, la manipulación a través de la sexualida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buso financiero o violencia económica</a:t>
            </a:r>
            <a:endParaRPr b="0" lang="en-US" sz="4000" spc="-1" strike="noStrike">
              <a:solidFill>
                <a:srgbClr val="000000"/>
              </a:solidFill>
              <a:latin typeface="Arial"/>
            </a:endParaRPr>
          </a:p>
        </p:txBody>
      </p:sp>
      <p:sp>
        <p:nvSpPr>
          <p:cNvPr id="6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conductas orientadas a privar al otro de sus necesidades básicas como una forma de control,  y puede manifestarse a través de la privación económica, la extorsión, la apropiación de bienes y dine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1)</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evalencia conyugal en distintas regiones de Chile oscila entre un 42,2% y un 55,3%. La mitad de las mujeres chilenas viven o han vivido situaciones de violencia en la pareja alguna vez en su vida.</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udios OMS-SENAM y U. de Chile 2001, 2003, 2004 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2)</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de cada 10 niños chilenos son víctimas de violencia física de parte de sus padres y el 34,2% de ellos sufre agresiones consideradas grave (Encuesta a una muestra representativa de alumnos de 8vo. Básico, U. de Chile-UNICEF, 199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73,6% de los niños y niñas viven o han vivido una situación de violencia física o psicológica de parte de sus padres o cuidadores (UNICEF,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25,4% de niños y niñas víctimas de violencia física gr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7,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quedó con l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 sz="3200" spc="-1" strike="noStrike">
                <a:solidFill>
                  <a:srgbClr val="000000"/>
                </a:solidFill>
                <a:latin typeface="Arial"/>
              </a:rPr>
              <a:t>1,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grave </a:t>
            </a:r>
            <a:r>
              <a:rPr b="0" lang="es-ES_tradnl" sz="3200" spc="-1" strike="noStrike">
                <a:solidFill>
                  <a:srgbClr val="000000"/>
                </a:solidFill>
                <a:latin typeface="Arial"/>
              </a:rPr>
              <a:t> </a:t>
            </a:r>
            <a:r>
              <a:rPr b="0" lang="es-ES" sz="3200" spc="-1" strike="noStrike">
                <a:solidFill>
                  <a:srgbClr val="000000"/>
                </a:solidFill>
                <a:latin typeface="Arial"/>
              </a:rPr>
              <a:t>debió ir al hospital</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plano de </a:t>
            </a:r>
            <a:r>
              <a:rPr b="0" i="1" lang="en-US" sz="2400" spc="-1" strike="noStrike">
                <a:solidFill>
                  <a:srgbClr val="000000"/>
                </a:solidFill>
                <a:latin typeface="Arial"/>
              </a:rPr>
              <a:t>salud físic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ginecológicas: dolor crónico pelviano, flujo vaginal, persistente, sangrado genital de origen disfuncional.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y dependencia de alcohol y sustanci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de transmisión sexual (ETS) y SID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ños corporales: daños más permanentes como quemaduras, mordidas, hematomas, heridas (lesiones con arma blan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2)</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jas somáticas poco definidas: cefalea crónica, dolor  abdominal, pélvico y muscular, fatiga crónic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s repentinos de peso.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nte el embarazo: aumento del tabaquismo, aborto, control prenatal tardío, retardo de crecimiento, hemorragias del feto, muerte fetal y muerte matern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3)</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plano de la </a:t>
            </a:r>
            <a:r>
              <a:rPr b="0" i="1" lang="es-ES" sz="2400" spc="-1" strike="noStrike">
                <a:solidFill>
                  <a:srgbClr val="000000"/>
                </a:solidFill>
                <a:latin typeface="Arial"/>
              </a:rPr>
              <a:t>salud mental</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tornos Mentales: trastornos del ánimo, depresiones severas, trastornos obsesivos-compulsivos, trastornos por conversión, trastornos de pánico, trastornos en la conducta alimentaria, trastornos en el sueño, episodios psicóticos, entre otr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índrome de estrés post-traumátic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do y ansiedad.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i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pos de viole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gnitud del probl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daños a la salu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explicativos de la conducta viol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ecológico o ecosistémic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y Estrategias de Intervención en la violencia hacia la muj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es protectores ante la violencia intrafamiliar.</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timientos de vergüenza.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ducta extremadamente dependiente.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uresis y encopresi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conduc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icidi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title"/>
          </p:nvPr>
        </p:nvSpPr>
        <p:spPr>
          <a:xfrm>
            <a:off x="457200" y="30456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plano de la </a:t>
            </a:r>
            <a:r>
              <a:rPr b="0" i="1" lang="es-ES_tradnl" sz="2400" spc="-1" strike="noStrike">
                <a:solidFill>
                  <a:srgbClr val="000000"/>
                </a:solidFill>
                <a:latin typeface="Arial"/>
              </a:rPr>
              <a:t>salud sexual</a:t>
            </a:r>
            <a:r>
              <a:rPr b="0" lang="es-ES_tradnl"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barazos no deseados.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funciones sexuales, Fobias sexuales y de la sexualidad en genera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ejercida por parte del varón de la práctica de abort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hibición del uso de anticonceptiv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ihinibición, sobreexposición, hipersexualización.</a:t>
            </a:r>
            <a:endParaRPr b="0" lang="en-US" sz="2400" spc="-1" strike="noStrike">
              <a:solidFill>
                <a:srgbClr val="000000"/>
              </a:solidFill>
              <a:latin typeface="Arial"/>
            </a:endParaRPr>
          </a:p>
        </p:txBody>
      </p:sp>
      <p:sp>
        <p:nvSpPr>
          <p:cNvPr id="85" name="PlaceHolder 2"/>
          <p:cNvSpPr>
            <a:spLocks noGrp="1"/>
          </p:cNvSpPr>
          <p:nvPr>
            <p:ph type="title"/>
          </p:nvPr>
        </p:nvSpPr>
        <p:spPr>
          <a:xfrm>
            <a:off x="457200" y="27432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2210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S EXPLICATIVOS DE LA CONDUCTA VIOLENTA:</a:t>
            </a:r>
            <a:br>
              <a:rPr sz="4400"/>
            </a:br>
            <a:r>
              <a:rPr b="0" lang="es-ES_tradnl" sz="4400" spc="-1" strike="noStrike">
                <a:solidFill>
                  <a:srgbClr val="000000"/>
                </a:solidFill>
                <a:latin typeface="Arial"/>
              </a:rPr>
              <a:t>una descripción crít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1)</a:t>
            </a:r>
            <a:endParaRPr b="0" lang="en-US" sz="3600" spc="-1" strike="noStrike">
              <a:solidFill>
                <a:srgbClr val="000000"/>
              </a:solidFill>
              <a:latin typeface="Arial"/>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Biológico: primeras explicaciones específicas sobre la conducta criminal violenta.</a:t>
            </a:r>
            <a:endParaRPr b="0" lang="en-US" sz="28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oría Biocriminogenética: A) Cesar Lombroso (1835-1909), postuló que el delincuente es un tipo antropológico determinado por anomalías físicas. B) Par de cromosomas XY que determina el sexo masculino determina nivel de agresividad de los individuos.</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Neurológica: ciertas formas de daño cerebral a nivel del sistema límbico.</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Endocrinológica: influencia de la testosterona.</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Bioquímica: estrés permanente, adicción a la propia secreción de adrenalina.</a:t>
            </a:r>
            <a:endParaRPr b="0" lang="en-US" sz="2000" spc="-1" strike="noStrike">
              <a:solidFill>
                <a:srgbClr val="000000"/>
              </a:solidFill>
              <a:latin typeface="Arial"/>
            </a:endParaRPr>
          </a:p>
          <a:p>
            <a:pPr lvl="2" marL="152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2)</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Psiquiátrico: determinado por las características de personalidad y por condiciones psicopatológicas.</a:t>
            </a:r>
            <a:endParaRPr b="0" lang="en-US" sz="2800" spc="-1" strike="noStrike">
              <a:solidFill>
                <a:srgbClr val="000000"/>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Sociológico: Straus y Gelles (década del 70) plantean que la VIF está sustentada en la trama de estructuras sociales: instituciones patriarcales y sexismo. Hay prescripciones culturales en la relación entre hombres y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3)</a:t>
            </a:r>
            <a:endParaRPr b="0" lang="en-US" sz="3600" spc="-1" strike="noStrike">
              <a:solidFill>
                <a:srgbClr val="000000"/>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812880" indent="-812880">
              <a:lnSpc>
                <a:spcPct val="80000"/>
              </a:lnSpc>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Psicológicos:</a:t>
            </a:r>
            <a:endParaRPr b="0" lang="en-US" sz="28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psicoanalítico: Responsabiliza a la mujer golpeada asumiéndola como masoquista y desresponsabiliza al hombre golpeador al etiquetarlo psicopatológicamente de sádico y de víctima de sus relaciones parentales tempranas.</a:t>
            </a:r>
            <a:endParaRPr b="0" lang="en-US" sz="2400" spc="-1" strike="noStrike">
              <a:solidFill>
                <a:srgbClr val="000000"/>
              </a:solidFill>
              <a:latin typeface="Arial"/>
            </a:endParaRPr>
          </a:p>
          <a:p>
            <a:pPr lvl="2" marL="15238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humanista: El agresor busca ejercer influencias significativas sobre los eventos de sus vidas. Con “darse cuenta” (insight) y la expresión verbal, es posible un cambio de actitud. El enfoque minimiza la gravedad del problema.</a:t>
            </a:r>
            <a:endParaRPr b="0" lang="en-US" sz="2400" spc="-1" strike="noStrike">
              <a:solidFill>
                <a:srgbClr val="000000"/>
              </a:solidFill>
              <a:latin typeface="Arial"/>
            </a:endParaRPr>
          </a:p>
          <a:p>
            <a:pPr lvl="2" marL="15238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4)</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523880" indent="-609480">
              <a:lnSpc>
                <a:spcPct val="90000"/>
              </a:lnSpc>
              <a:spcBef>
                <a:spcPts val="601"/>
              </a:spcBef>
              <a:buClr>
                <a:srgbClr val="000000"/>
              </a:buClr>
              <a:buFont typeface="Arial"/>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interpersonal o sistémico: el foco son los aspectos interaccionales de la conducta violenta. La pareja debe asumir la concepción circular de la comunicación violenta. No considera las distintas posiciones de poder. Altamente riesgosa la terapia de pareja o familia, para la víctima.</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90000"/>
              </a:lnSpc>
              <a:spcBef>
                <a:spcPts val="601"/>
              </a:spcBef>
              <a:buClr>
                <a:srgbClr val="000000"/>
              </a:buClr>
              <a:buFont typeface="Arial"/>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s cognitivo-conductual: La conducta violenta es aprendida, desde modelos culturales, sociales u otros significativos. Es posible la resocialización.</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ECOLÓGICO O ECOSISTÉMICO</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de los aportes y limitaciones de los diferentes modelos explicativos surgió la necesidad de buscar un modelo integral que fuera capaz de considerar los diversos fact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rie Bronfenbrenner (1979): La ecología del desarrollo hum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3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ECOLÓGICO O ECOSISTÉMICO</a:t>
            </a:r>
            <a:endParaRPr b="0" lang="en-US" sz="3200" spc="-1" strike="noStrike">
              <a:solidFill>
                <a:srgbClr val="000000"/>
              </a:solidFill>
              <a:latin typeface="Arial"/>
            </a:endParaRPr>
          </a:p>
        </p:txBody>
      </p:sp>
      <p:sp>
        <p:nvSpPr>
          <p:cNvPr id="98" name=""/>
          <p:cNvSpPr/>
          <p:nvPr/>
        </p:nvSpPr>
        <p:spPr>
          <a:xfrm>
            <a:off x="152280" y="1066680"/>
            <a:ext cx="8839440" cy="5562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209680" y="1828800"/>
            <a:ext cx="6705720" cy="4267080"/>
          </a:xfrm>
          <a:prstGeom prst="ellips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886200" y="2209680"/>
            <a:ext cx="4876920" cy="3429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6320" y="35496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edad y Cultura</a:t>
            </a:r>
            <a:endParaRPr b="0" lang="en-US" sz="1800" spc="-1" strike="noStrike">
              <a:solidFill>
                <a:srgbClr val="000000"/>
              </a:solidFill>
              <a:latin typeface="Arial"/>
            </a:endParaRPr>
          </a:p>
        </p:txBody>
      </p:sp>
      <p:sp>
        <p:nvSpPr>
          <p:cNvPr id="102" name=""/>
          <p:cNvSpPr/>
          <p:nvPr/>
        </p:nvSpPr>
        <p:spPr>
          <a:xfrm>
            <a:off x="2286000" y="350532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ituciones</a:t>
            </a:r>
            <a:endParaRPr b="0" lang="en-US" sz="1800" spc="-1" strike="noStrike">
              <a:solidFill>
                <a:srgbClr val="000000"/>
              </a:solidFill>
              <a:latin typeface="Arial"/>
            </a:endParaRPr>
          </a:p>
        </p:txBody>
      </p:sp>
      <p:sp>
        <p:nvSpPr>
          <p:cNvPr id="103" name=""/>
          <p:cNvSpPr/>
          <p:nvPr/>
        </p:nvSpPr>
        <p:spPr>
          <a:xfrm>
            <a:off x="4648320" y="3549600"/>
            <a:ext cx="264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laciones Cara a Cara</a:t>
            </a:r>
            <a:endParaRPr b="0" lang="en-US" sz="1800" spc="-1" strike="noStrike">
              <a:solidFill>
                <a:srgbClr val="000000"/>
              </a:solidFill>
              <a:latin typeface="Arial"/>
            </a:endParaRPr>
          </a:p>
        </p:txBody>
      </p:sp>
      <p:sp>
        <p:nvSpPr>
          <p:cNvPr id="104" name=""/>
          <p:cNvSpPr/>
          <p:nvPr/>
        </p:nvSpPr>
        <p:spPr>
          <a:xfrm>
            <a:off x="5181480" y="4495680"/>
            <a:ext cx="236232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Indiv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1)</a:t>
            </a:r>
            <a:endParaRPr b="0" lang="en-US" sz="28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formas de organización social, los sistemas de creencias y los estilos de vida que prevalecen en una cultura y subcultura en particu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ciedad Patriarc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fine lo que es ser varón y mujer de manera estereotip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52560" y="990720"/>
            <a:ext cx="3238560" cy="5029200"/>
          </a:xfrm>
          <a:prstGeom prst="rect">
            <a:avLst/>
          </a:prstGeom>
          <a:ln w="0">
            <a:noFill/>
          </a:ln>
        </p:spPr>
      </p:pic>
      <p:pic>
        <p:nvPicPr>
          <p:cNvPr id="48" name="" descr=""/>
          <p:cNvPicPr/>
          <p:nvPr/>
        </p:nvPicPr>
        <p:blipFill>
          <a:blip r:embed="rId2"/>
          <a:stretch/>
        </p:blipFill>
        <p:spPr>
          <a:xfrm>
            <a:off x="4915080" y="990720"/>
            <a:ext cx="3238200" cy="5029200"/>
          </a:xfrm>
          <a:prstGeom prst="rect">
            <a:avLst/>
          </a:prstGeom>
          <a:ln w="0">
            <a:noFill/>
          </a:ln>
        </p:spPr>
      </p:pic>
      <p:sp>
        <p:nvSpPr>
          <p:cNvPr id="49" name=""/>
          <p:cNvSpPr/>
          <p:nvPr/>
        </p:nvSpPr>
        <p:spPr>
          <a:xfrm>
            <a:off x="1221480" y="417600"/>
            <a:ext cx="68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AÑAS EN CONTRA DE LA VIOLENCIA INTRA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2)</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X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tá compuesto por el nivel más próximo de la comunidad, que incluye a las instituciones mediadoras entre el nivel de la cultura y el nivel individ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cuela, Iglesia, Medios de comunicación, Organismos judiciales y de seguridad, Instituciones laborales, Instituciones de Salud, Instituciones recreativa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3)</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I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relaciones cara a cara de la red vincular más próxima de las person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famil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este nivel se incluye un nivel INDIVIDUAL con cuatro dimensiones psicológicas: cognitiva, conductual, psicodinámica e interac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4)</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 INDIVIDU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gnitiva: forma de percibir y conceptualizar el mun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nductual: repertorio de comportamiento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psicodinámica: dinámica intrapsíquica, emociones, ansiedades y conflictos concientes y manifestaciones del inconcient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interaccional: pautas de relación y comunicación inter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pectiva interaccional: </a:t>
            </a:r>
            <a:br>
              <a:rPr sz="2800"/>
            </a:br>
            <a:r>
              <a:rPr b="0" lang="es-ES_tradnl" sz="2800" spc="-1" strike="noStrike">
                <a:solidFill>
                  <a:srgbClr val="000000"/>
                </a:solidFill>
                <a:latin typeface="Arial"/>
              </a:rPr>
              <a:t>Circuito de Abuso Familiar</a:t>
            </a:r>
            <a:r>
              <a:rPr b="0" lang="es-ES_tradnl" sz="4000" spc="-1" strike="noStrike">
                <a:solidFill>
                  <a:srgbClr val="000000"/>
                </a:solidFill>
                <a:latin typeface="Arial"/>
              </a:rPr>
              <a:t> </a:t>
            </a:r>
            <a:r>
              <a:rPr b="0" lang="es-ES_tradnl" sz="1800" spc="-1" strike="noStrike">
                <a:solidFill>
                  <a:srgbClr val="000000"/>
                </a:solidFill>
                <a:latin typeface="Arial"/>
              </a:rPr>
              <a:t>(Ravazzola, C., 1997)</a:t>
            </a:r>
            <a:endParaRPr b="0" lang="en-US" sz="1800" spc="-1" strike="noStrike">
              <a:solidFill>
                <a:srgbClr val="000000"/>
              </a:solidFill>
              <a:latin typeface="Arial"/>
            </a:endParaRPr>
          </a:p>
        </p:txBody>
      </p:sp>
      <p:graphicFrame>
        <p:nvGraphicFramePr>
          <p:cNvPr id="114" name=""/>
          <p:cNvGraphicFramePr/>
          <p:nvPr/>
        </p:nvGraphicFramePr>
        <p:xfrm>
          <a:off x="76320" y="1295280"/>
          <a:ext cx="8991360" cy="5189760"/>
        </p:xfrm>
        <a:graphic>
          <a:graphicData uri="http://schemas.openxmlformats.org/drawingml/2006/table">
            <a:tbl>
              <a:tblPr/>
              <a:tblGrid>
                <a:gridCol w="2479680"/>
                <a:gridCol w="6511680"/>
              </a:tblGrid>
              <a:tr h="113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OR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o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testigo – Context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DE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ora no puede controlar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a es inferi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amilia debe mantenerse unida a cualquier cos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uestiones familiares no deben intervenir los de afue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provocaciones y los malos tratos son elementos frecuentes y “naturales” o “normalizados” en las convers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rigidizadas. Se consideran por encima de las personas. Mantienen una organización con jerarquías fijas naturalizad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33520" y="1066680"/>
            <a:ext cx="3962160" cy="5105520"/>
          </a:xfrm>
          <a:prstGeom prst="rect">
            <a:avLst/>
          </a:prstGeom>
          <a:ln w="0">
            <a:noFill/>
          </a:ln>
        </p:spPr>
      </p:pic>
      <p:sp>
        <p:nvSpPr>
          <p:cNvPr id="116" name=""/>
          <p:cNvSpPr/>
          <p:nvPr/>
        </p:nvSpPr>
        <p:spPr>
          <a:xfrm>
            <a:off x="3887280" y="457200"/>
            <a:ext cx="160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USA</a:t>
            </a:r>
            <a:endParaRPr b="0" lang="en-US" sz="3200" spc="-1" strike="noStrike">
              <a:solidFill>
                <a:srgbClr val="000000"/>
              </a:solidFill>
              <a:latin typeface="Arial"/>
            </a:endParaRPr>
          </a:p>
        </p:txBody>
      </p:sp>
      <p:pic>
        <p:nvPicPr>
          <p:cNvPr id="117" name="" descr=""/>
          <p:cNvPicPr/>
          <p:nvPr/>
        </p:nvPicPr>
        <p:blipFill>
          <a:blip r:embed="rId2"/>
          <a:stretch/>
        </p:blipFill>
        <p:spPr>
          <a:xfrm>
            <a:off x="4724280" y="1066680"/>
            <a:ext cx="4038840" cy="510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casi la mitad de las mujeres reconoce haber sufrido episodios de violencia durante su vida, el 90% de los casos ha sido ejercida por sus parejas o ex parejas, y, cada semana al menos una mujer es asesinada por su pareja o ex pare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fenómeno social que ocurre en un grupo familiar, sea éste el resultado de una unión consensual o legal, y que consiste en el uso de medios instrumentales por parte del cónyuge o pareja para intimidar psicológica, física, intelectual y/o moralmente a su pareja, con el objeto de disipar según su arbitrio y necesidad, la vida famili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Larraín,S., 1992)</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
        <p:nvSpPr>
          <p:cNvPr id="123" name=""/>
          <p:cNvSpPr/>
          <p:nvPr/>
        </p:nvSpPr>
        <p:spPr>
          <a:xfrm>
            <a:off x="1295280" y="1600200"/>
            <a:ext cx="2210040" cy="25146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I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UMUL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TENSIONES</a:t>
            </a:r>
            <a:endParaRPr b="0" lang="en-US" sz="1800" spc="-1" strike="noStrike">
              <a:solidFill>
                <a:srgbClr val="000000"/>
              </a:solidFill>
              <a:latin typeface="Arial"/>
            </a:endParaRPr>
          </a:p>
        </p:txBody>
      </p:sp>
      <p:sp>
        <p:nvSpPr>
          <p:cNvPr id="124" name=""/>
          <p:cNvSpPr/>
          <p:nvPr/>
        </p:nvSpPr>
        <p:spPr>
          <a:xfrm>
            <a:off x="3581280" y="4191120"/>
            <a:ext cx="2210040" cy="25146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REPENTI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 LUNA DE MIEL</a:t>
            </a:r>
            <a:endParaRPr b="0" lang="en-US" sz="1800" spc="-1" strike="noStrike">
              <a:solidFill>
                <a:srgbClr val="000000"/>
              </a:solidFill>
              <a:latin typeface="Arial"/>
            </a:endParaRPr>
          </a:p>
        </p:txBody>
      </p:sp>
      <p:sp>
        <p:nvSpPr>
          <p:cNvPr id="125" name=""/>
          <p:cNvSpPr/>
          <p:nvPr/>
        </p:nvSpPr>
        <p:spPr>
          <a:xfrm>
            <a:off x="5715000" y="1600200"/>
            <a:ext cx="2209680" cy="2514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PISODIO AGUDO</a:t>
            </a:r>
            <a:endParaRPr b="0" lang="en-US" sz="1800" spc="-1" strike="noStrike">
              <a:solidFill>
                <a:srgbClr val="000000"/>
              </a:solidFill>
              <a:latin typeface="Arial"/>
            </a:endParaRPr>
          </a:p>
        </p:txBody>
      </p:sp>
      <p:sp>
        <p:nvSpPr>
          <p:cNvPr id="126" name=""/>
          <p:cNvSpPr/>
          <p:nvPr/>
        </p:nvSpPr>
        <p:spPr>
          <a:xfrm rot="14694000">
            <a:off x="1968840" y="46594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20619600">
            <a:off x="3885840" y="198072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7315800">
            <a:off x="6159600" y="47361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stadio de acumulación de tensiones</a:t>
            </a:r>
            <a:r>
              <a:rPr b="0" lang="es-ES_tradnl" sz="2800" spc="-1" strike="noStrike">
                <a:solidFill>
                  <a:srgbClr val="000000"/>
                </a:solidFill>
                <a:latin typeface="Arial"/>
              </a:rPr>
              <a:t>: se producen agresiones psicológicas o físicas menores. La mujer golpeada intenta estrategias anteriormente exitosas para postergar la crisis. Llega un momento en que la tensión es insosten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risis o episodio agudo</a:t>
            </a:r>
            <a:r>
              <a:rPr b="0" lang="es-ES_tradnl" sz="2800" spc="-1" strike="noStrike">
                <a:solidFill>
                  <a:srgbClr val="000000"/>
                </a:solidFill>
                <a:latin typeface="Arial"/>
              </a:rPr>
              <a:t>: Pérdida del control. Sólo el agresor puede poner fin a esta fase. La mujer entra en fase de sho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i="1" lang="es-ES_tradnl" sz="2800" spc="-1" strike="noStrike">
                <a:solidFill>
                  <a:srgbClr val="000000"/>
                </a:solidFill>
                <a:latin typeface="Arial"/>
              </a:rPr>
              <a:t>Conducta arrepentida o luna de miel</a:t>
            </a:r>
            <a:r>
              <a:rPr b="0" lang="es-ES_tradnl" sz="2800" spc="-1" strike="noStrike">
                <a:solidFill>
                  <a:srgbClr val="000000"/>
                </a:solidFill>
                <a:latin typeface="Arial"/>
              </a:rPr>
              <a:t>: Arrepentimiento y demostración de afecto por parte del golpeador.</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proceso de ascenso paulatino de la intensidad, frecuencia y duración de la agresión de cada ciclo consecutivo</a:t>
            </a:r>
            <a:endParaRPr b="0" lang="en-US" sz="3200" spc="-1" strike="noStrike">
              <a:solidFill>
                <a:srgbClr val="000000"/>
              </a:solidFill>
              <a:latin typeface="Arial"/>
            </a:endParaRPr>
          </a:p>
        </p:txBody>
      </p:sp>
      <p:sp>
        <p:nvSpPr>
          <p:cNvPr id="132" name=""/>
          <p:cNvSpPr/>
          <p:nvPr/>
        </p:nvSpPr>
        <p:spPr>
          <a:xfrm>
            <a:off x="533520" y="533520"/>
            <a:ext cx="8229600" cy="11430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calada de violencia </a:t>
            </a:r>
            <a:br>
              <a:rPr sz="4000"/>
            </a:b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Todas las formas de abuso que tienen lugar al interior de la familia y entre sus miembros. El abuso se refiere a toda conducta de un miembro de la familia que, por acción u omisión, ocasiona daño físico y/o psicológico a otro miembro de la familia (Larraín, 1995; Corsi, 1995; Larraín y Walker,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ísticas del hombre que ejerce violencia hacia su pareja:</a:t>
            </a:r>
            <a:endParaRPr b="0" lang="en-US" sz="3200" spc="-1" strike="noStrike">
              <a:solidFill>
                <a:srgbClr val="000000"/>
              </a:solidFill>
              <a:latin typeface="Arial"/>
            </a:endParaRPr>
          </a:p>
        </p:txBody>
      </p:sp>
      <p:sp>
        <p:nvSpPr>
          <p:cNvPr id="13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ación o miniminización de la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ternalización de la responsabilida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edo de depend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nalización de un modelo masculino tradi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ión inadecuada de sus emoci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 y emo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bre control de impuls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riencias infantiles de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ja autoestim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o de conductas disociad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rígida y estructurada de la rea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valuación por Ejes Diagnósticos:</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Viol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intomá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Person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Juríd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Interac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Gén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Violenci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lucidar las características de la violencia en todas sus dimens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explora: relación de violencia, los tipos y su severidad; las características de los episodios, la data, los ciclos, indicadores de riesgo de homicidio o lesión grave, grado de conciencia y auto-explic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fine gravedad: Leve-Moderada-Sev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intomátic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agar síntomas psíquicos y/o somá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unción diagnóst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presiv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morf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umo de psicofárma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ocia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es Socia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emoc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déb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y secundaria de apoy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socio-económicos: dependencia económica, trabajo remunerado, condición socioeconómica,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áticas de Salud de carácter grave, crónico o discapacitante de algún miembro de la fami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Personalidad</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ervación de rasgos de personalidad, estilos de funcionamiento de la persona y de su pareja, que se asocian a una estructura permanente en el tiempo, que podrían trascender a la problemática de viol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ye evaluación de dimensiones cognitiva, conductual, psicodinámica e interaccional (recursos y habilidades personales, patología psiquiátrica, trastorno de personalidad, vínculo terapéu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Jurídico</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r desde el punto de vista de los derechos y el marco jurídico exist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g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no constitutivos de deli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constitutivos de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Arial"/>
              </a:rPr>
              <a:t>Casos constitutivos de delit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quellos casos en que la/el profesional se encuentre con una situación de violencia, maltrato físico, lesiones calificadas de menos graves, graves o gravísimas a las que se asimilan las mutilaciones, la denuncia será de conocimiento en primer término del Ministerio Público, a quien corresponde dar curso a la investigación criminal destinada a determinar la existencia del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Interaccional</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terminar dinámicas particulares de la relación de parej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uta relac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trones de simetría y complementar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de los límites en el sistema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Género</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la especificidad de la representación cultural de los roles femeninos y masculi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RNA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Violencia Intrafamiliar es toda conducta que por acción u omisión cometa algún miembro de la familia contra otro abusando de su relación de poder, ya sea dentro del hogar o fuera de éste y que perjudique su bienestar, su integridad física o psicológica, su libertad y su derecho a un pleno desarrol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ONES DE PRIMER ORDEN</a:t>
            </a:r>
            <a:endParaRPr b="0" lang="en-US" sz="4000" spc="-1" strike="noStrike">
              <a:solidFill>
                <a:srgbClr val="000000"/>
              </a:solidFill>
              <a:latin typeface="Arial"/>
            </a:endParaRPr>
          </a:p>
        </p:txBody>
      </p:sp>
      <p:sp>
        <p:nvSpPr>
          <p:cNvPr id="1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construir un motivo de consulta en VIF.</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 de Intervenció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complementarias:</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otecc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de protección en caso de riesgo vital.</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su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hom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dimientos judicia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ÓN GRUPAL en Atención Primaria</a:t>
            </a:r>
            <a:endParaRPr b="0" lang="en-US" sz="4000" spc="-1" strike="noStrike">
              <a:solidFill>
                <a:srgbClr val="000000"/>
              </a:solidFill>
              <a:latin typeface="Arial"/>
            </a:endParaRPr>
          </a:p>
        </p:txBody>
      </p:sp>
      <p:sp>
        <p:nvSpPr>
          <p:cNvPr id="156"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normalización de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visión de los roles de género que validan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ignificación de la experiencia abusiv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 la autoes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ir el aislamiento emocional y so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jorar el reconocimiento y expresión de emociones y sent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la autonomía y la responsabi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mpliar el repertorio interaccio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5541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ERVENCION INDIVIDUAL en Atención Primaria</a:t>
            </a:r>
            <a:endParaRPr b="0" lang="en-US" sz="4400" spc="-1" strike="noStrike">
              <a:solidFill>
                <a:srgbClr val="000000"/>
              </a:solidFill>
              <a:latin typeface="Arial"/>
            </a:endParaRPr>
          </a:p>
        </p:txBody>
      </p:sp>
      <p:sp>
        <p:nvSpPr>
          <p:cNvPr id="1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r a la consultante un espacio de contención y estructu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toma de conciencia de la situación de violencia y de la forma en la cual la consultante participa de lo que le ocur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iminar o disminuir las manifestaciones de ab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habilidades psicoemocionales que permitan la resolución de la situación de abu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TRAS INTERVENCIONES en Atención Primaria</a:t>
            </a:r>
            <a:endParaRPr b="0" lang="en-US" sz="4000" spc="-1" strike="noStrike">
              <a:solidFill>
                <a:srgbClr val="000000"/>
              </a:solidFill>
              <a:latin typeface="Arial"/>
            </a:endParaRPr>
          </a:p>
        </p:txBody>
      </p:sp>
      <p:sp>
        <p:nvSpPr>
          <p:cNvPr id="16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venciones familia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sita domicili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siones de control y segu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interinstitucional y trabajo en 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ulta y apoyo So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social-juríd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farmacolo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052640" y="38160"/>
            <a:ext cx="7038720" cy="6743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09760" y="76320"/>
            <a:ext cx="6324480" cy="6781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4400" spc="-1" strike="noStrike">
                <a:solidFill>
                  <a:srgbClr val="000000"/>
                </a:solidFill>
                <a:latin typeface="Arial"/>
              </a:rPr>
              <a:t>¿QUÉ PUEDEN HACER LOS PROFESINALES DE LA SALUD CON RESPECTO A LA VIOL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077320" cy="17827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s formas de proceder contribuyen a la opresión de las víctimas…¡evítelas!</a:t>
            </a:r>
            <a:endParaRPr b="0" lang="en-US" sz="4000" spc="-1" strike="noStrike">
              <a:solidFill>
                <a:srgbClr val="000000"/>
              </a:solidFill>
              <a:latin typeface="Arial"/>
            </a:endParaRPr>
          </a:p>
        </p:txBody>
      </p:sp>
      <p:sp>
        <p:nvSpPr>
          <p:cNvPr id="165"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olación de la información confiden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vista de la víctima (adulto) delante de la famil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les a los colegas los antecedentes confidenciales sin consentimiento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r a la policía sin consentimiento o información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ivalizar o subestimar el abus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tomar en serio el peligro que la persona s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oner que si ha tolerado tantos años de abuso, no puede ser tan ma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derar normal la o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accionar cuando le revela el abu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eptar que la intimidación es normal en las rel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er que el abuso es el resultado natural de la desobediencia de la perso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gnorar su necesidad de segur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conocer que se siente en pelig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ólo indicarle calm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rle el divor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tigar a la persona por no hacer lo que se le ind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lpar a la víctima, preguntarle qué hizo para provocar el abu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a Ley 20.066</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o maltrato que afecte la vida o la integridad física o síquica de quien tenga o haya tenido la calidad de cónyuge del ofensor o una relación de convivencia con él; o sea, pariente del ofensor, su cónyuge o su actual conviviente, o bien, cuando esta conducta ocurre entre los padres de un hijo común, o sobre un menor de edad o discapacitado que se encuentre bajo el cuidado o dependencia de cualquiera de los integrantes del grupo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04560"/>
            <a:ext cx="8229600" cy="144756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as acciones de salud promueven las relaciones no-violentas…¡úselas!</a:t>
            </a:r>
            <a:endParaRPr b="0" lang="en-US" sz="3600" spc="-1" strike="noStrike">
              <a:solidFill>
                <a:srgbClr val="000000"/>
              </a:solidFill>
              <a:latin typeface="Arial"/>
            </a:endParaRPr>
          </a:p>
        </p:txBody>
      </p:sp>
      <p:sp>
        <p:nvSpPr>
          <p:cNvPr id="171" name="PlaceHolder 2"/>
          <p:cNvSpPr>
            <a:spLocks noGrp="1"/>
          </p:cNvSpPr>
          <p:nvPr>
            <p:ph/>
          </p:nvPr>
        </p:nvSpPr>
        <p:spPr>
          <a:xfrm>
            <a:off x="457200" y="175248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ersonal de salud pue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icitar capacitación acerca de la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cutar los programas de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lizar vigilancia epidemiológica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borar material educativo para los diversos grupos objetivo de la pobl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acitar y educar a monitores comunitarios en prevención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aborar en la coordinación de los recursos comunitari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orcionar atención humani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304920"/>
            <a:ext cx="8229600" cy="914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Arial"/>
              </a:rPr>
              <a:t>…</a:t>
            </a:r>
            <a:r>
              <a:rPr b="0" lang="es-ES_tradnl" sz="3600" spc="-1" strike="noStrike">
                <a:solidFill>
                  <a:srgbClr val="000000"/>
                </a:solidFill>
                <a:latin typeface="Arial"/>
              </a:rPr>
              <a:t>úselas! </a:t>
            </a:r>
            <a:br>
              <a:rPr sz="3600"/>
            </a:br>
            <a:endParaRPr b="0" lang="en-US" sz="3600" spc="-1" strike="noStrike">
              <a:solidFill>
                <a:srgbClr val="000000"/>
              </a:solidFill>
              <a:latin typeface="Arial"/>
            </a:endParaRPr>
          </a:p>
        </p:txBody>
      </p:sp>
      <p:sp>
        <p:nvSpPr>
          <p:cNvPr id="17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encargados de programas de salud pue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ar programas preventivos en los diferentes niveles de la red asistenc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blecer protocolos de atención y referencia específ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mover la anticoncepción de emergenc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ilitar las instalaciones a las personas o grupos organizados de apoyo a las vícti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ar intersectorialmente el problema de la violencia en las comun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aluar el resultado e impacto de las diversas interven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1)</a:t>
            </a:r>
            <a:endParaRPr b="0" lang="en-US" sz="4000" spc="-1" strike="noStrike">
              <a:solidFill>
                <a:srgbClr val="000000"/>
              </a:solidFill>
              <a:latin typeface="Arial"/>
            </a:endParaRPr>
          </a:p>
        </p:txBody>
      </p:sp>
      <p:sp>
        <p:nvSpPr>
          <p:cNvPr id="17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emocional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tocuidado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integral para el par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para la crianza, guías anticipato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al desarrollo de vínculos tempranos, apoyo a la lactancia mate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2)</a:t>
            </a:r>
            <a:endParaRPr b="0" lang="en-US" sz="4000" spc="-1" strike="noStrike">
              <a:solidFill>
                <a:srgbClr val="000000"/>
              </a:solidFill>
              <a:latin typeface="Arial"/>
            </a:endParaRPr>
          </a:p>
        </p:txBody>
      </p:sp>
      <p:sp>
        <p:nvSpPr>
          <p:cNvPr id="177"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psicomotora a niños y niñ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a la participación comunit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ores protectores psicosociales: autoestima, asertividad, conducta de búsqueda de ayud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ucación en afectividad y sex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bliografía sugerida:</a:t>
            </a:r>
            <a:endParaRPr b="0" lang="en-US" sz="4400" spc="-1" strike="noStrike">
              <a:solidFill>
                <a:srgbClr val="000000"/>
              </a:solidFill>
              <a:latin typeface="Arial"/>
            </a:endParaRPr>
          </a:p>
        </p:txBody>
      </p:sp>
      <p:sp>
        <p:nvSpPr>
          <p:cNvPr id="179" name="PlaceHolder 2"/>
          <p:cNvSpPr>
            <a:spLocks noGrp="1"/>
          </p:cNvSpPr>
          <p:nvPr>
            <p:ph/>
          </p:nvPr>
        </p:nvSpPr>
        <p:spPr>
          <a:xfrm>
            <a:off x="457200" y="1371240"/>
            <a:ext cx="8229600" cy="5257800"/>
          </a:xfrm>
          <a:prstGeom prst="rect">
            <a:avLst/>
          </a:prstGeom>
          <a:noFill/>
          <a:ln w="38160">
            <a:solidFill>
              <a:srgbClr val="000000"/>
            </a:solidFill>
            <a:miter/>
          </a:ln>
        </p:spPr>
        <p:txBody>
          <a:bodyPr lIns="90000" rIns="90000" tIns="46800" bIns="4680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Violencia Intrafamiliar. Detección, Diagnóstico y Tratamiento.</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Intervención Psicosocial de Grupo para la atención de mujeres que viven Violencia Intrafamiliar.</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ddou, F.; Kunstman, G.; Maturana, H.; Méndez, C.L.; Montenegro, H. (1995). </a:t>
            </a:r>
            <a:r>
              <a:rPr b="0" i="1" lang="es-ES_tradnl" sz="1800" spc="-1" strike="noStrike">
                <a:solidFill>
                  <a:srgbClr val="000000"/>
                </a:solidFill>
                <a:latin typeface="Arial"/>
              </a:rPr>
              <a:t>Violencia en sus distintos ámbitos de expresión</a:t>
            </a:r>
            <a:r>
              <a:rPr b="0" lang="es-ES_tradnl" sz="1800" spc="-1" strike="noStrike">
                <a:solidFill>
                  <a:srgbClr val="000000"/>
                </a:solidFill>
                <a:latin typeface="Arial"/>
              </a:rPr>
              <a:t>. Santiago de Chile: Dolmen Ediciones S.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si, J. (1995). </a:t>
            </a:r>
            <a:r>
              <a:rPr b="0" i="1" lang="es-ES_tradnl" sz="1800" spc="-1" strike="noStrike">
                <a:solidFill>
                  <a:srgbClr val="000000"/>
                </a:solidFill>
                <a:latin typeface="Arial"/>
              </a:rPr>
              <a:t>Violencia masculina en la pareja: una aproximación al diagnóstico y a los modelos de intervención</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vazzola, C. (1997). </a:t>
            </a:r>
            <a:r>
              <a:rPr b="0" i="1" lang="es-ES_tradnl" sz="1800" spc="-1" strike="noStrike">
                <a:solidFill>
                  <a:srgbClr val="000000"/>
                </a:solidFill>
                <a:latin typeface="Arial"/>
              </a:rPr>
              <a:t>Historias Infames: el maltrato en las relaciones</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o Clínico y de Investigación Corporación La Morada y Fondo de Población Naciones Unidas (2007). </a:t>
            </a:r>
            <a:r>
              <a:rPr b="0" i="1" lang="es-ES_tradnl" sz="1800" spc="-1" strike="noStrike">
                <a:solidFill>
                  <a:srgbClr val="000000"/>
                </a:solidFill>
                <a:latin typeface="Arial"/>
              </a:rPr>
              <a:t>Proyecto Modelo de Atención Nivel Secundario en Violencia hacia la Mujer</a:t>
            </a:r>
            <a:r>
              <a:rPr b="0" lang="es-ES_tradnl" sz="1800" spc="-1" strike="noStrike">
                <a:solidFill>
                  <a:srgbClr val="000000"/>
                </a:solidFill>
                <a:latin typeface="Arial"/>
              </a:rPr>
              <a:t>. Chile: Corporación La Morada y UNFP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4). </a:t>
            </a:r>
            <a:r>
              <a:rPr b="0" i="1" lang="es-ES_tradnl" sz="1800" spc="-1" strike="noStrike">
                <a:solidFill>
                  <a:srgbClr val="000000"/>
                </a:solidFill>
                <a:latin typeface="Arial"/>
              </a:rPr>
              <a:t>Cómo contribuir a prevenir y controlar la violencia.</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0). </a:t>
            </a:r>
            <a:r>
              <a:rPr b="0" i="1" lang="es-ES_tradnl" sz="1800" spc="-1" strike="noStrike">
                <a:solidFill>
                  <a:srgbClr val="000000"/>
                </a:solidFill>
                <a:latin typeface="Arial"/>
              </a:rPr>
              <a:t>Plan Nacional de Salud Mental y Psiquiatría 2000-2010</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n las definiciones destacar tres criterios fundamental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relación entre las personas implicadas</a:t>
            </a:r>
            <a:r>
              <a:rPr b="0" lang="es-ES_tradnl" sz="2800" spc="-1" strike="noStrike">
                <a:solidFill>
                  <a:srgbClr val="000000"/>
                </a:solidFill>
                <a:latin typeface="Arial"/>
              </a:rPr>
              <a:t>: amplía concepto tradicional de familia, es necesario aceptar relaciones según la relación íntima y personal, así como de cuidad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naturaleza de los actos de violencia</a:t>
            </a:r>
            <a:r>
              <a:rPr b="0" lang="es-ES_tradnl" sz="2800" spc="-1" strike="noStrike">
                <a:solidFill>
                  <a:srgbClr val="000000"/>
                </a:solidFill>
                <a:latin typeface="Arial"/>
              </a:rPr>
              <a:t>: por acción o por omisió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istinguir entre “AGRESIÓN” (derecho del propio territorio) y “VIOLENCIA” (invasión de otro territori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intensidad y frecuencia de las agresiones</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 partir de estos criterios se establecen tres categorías:</a:t>
            </a:r>
            <a:endParaRPr b="0" lang="en-US" sz="40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doméstica, conyugal ó hacia la parej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ltrato Infant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hacia el adulto may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de violenci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ís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ló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x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gligencia y aban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c. de Medicina</cp:lastModifiedBy>
  <dcterms:modified xsi:type="dcterms:W3CDTF">2009-03-27T12:52:1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