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7A5D-F50D-47C1-B273-F169B644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E93-F000-4292-85A8-A078F8BA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109-57BC-410B-BE7C-0936172C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8EA-7950-4A88-85F7-40B59F38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DD6F-5EB4-4161-9000-89BC8F5F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8426-2F96-4C3E-8434-69F41009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7589-5CC3-4ED9-B61F-A9964017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918A-E084-40B3-BAD6-61E5BD0F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8FB3-9E82-4D24-A99F-B745060B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5F12-4B06-48AD-A07C-F94BBA56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0008-E4B4-4088-98B7-98FAED24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477-3BD3-4DCD-9B0D-F59D2B24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94A1-7E61-4D59-BEF7-0C0FFD7E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F953-914D-4C5D-A379-71BEF122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68B8-D466-479B-922E-D3B6F906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506D-2081-43BF-AB09-4D541901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940B-EBB0-4476-9E1E-2251E1F7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465-63C3-4DC3-A29E-550C9C72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5D8-D692-49A6-B082-B3D037DB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3DF-96D9-4FC1-94F9-4E63B25D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D584-38F1-43EB-9A46-6DCD4522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474-9ED8-45ED-BDA4-59D61B39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FA01-DC6F-402F-B3E8-6C275B3F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2DF-EC01-4666-B58F-D94034A6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4C42-9B98-4EF5-8AE3-E1E7C6BA4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063E-66A5-465C-AD5D-5228C5266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NORMA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ANORMA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. Edda Bust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1676520"/>
            <a:ext cx="457200" cy="1371600"/>
          </a:xfrm>
          <a:prstGeom prst="upDownArrow">
            <a:avLst>
              <a:gd name="adj1" fmla="val 50000"/>
              <a:gd name="adj2" fmla="val 59722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cepto de anormalidades una medida muy relativ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que puede ser una condición del desarrollo  de un Ge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 bien la máxima  expresión de Salud m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iderar que la genialidad puede ir acompañada de cuadros angustiosos “ Desorden de Ansiedad generalizada”, se ha observado que esta misma “anormalidad”o sufrimiento derivado de los síntomas ha sido un estímulo para alcanzar una dimensión más elevada del espíritu ( Artes, Música, Religión)                                           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Kirkegaard , filósofo danés inspirador de la Filosofí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existencialsta, sufrió trastorno de la person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Rainer Maria Rilke, poeta alemán, presentó Trastorno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Depre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lidad y Anormalidad 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ano y Enferm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ienen una frontera sutil y a veces difusa que posibili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imperfección, error y la enferm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mbién la libertad y la sal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posible encontrar en esta frontera lo esencial y distintivo del Ser Humano..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TALLER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A </a:t>
            </a: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partir de la información recibida, el grupo debe reflexionar y distinguir si estamos frente a una situación de Normalidad o Anormalidad. Pueden trabajar en el caso presentado y en otros casos identificados entre conocidos o en los medios de comunicació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l grupo fundamentará su decisión apoyándose en Modelos de Desarrollo Evolutivo, Modelos Sistémicos, Modelos Sociológicos, Modelos Culturales, que permitan una comprensión científica de la situación en estu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Una vez que el grupo decida si lo considera  que se trata de un comportamiento Normal o un comportamiento Anormal, debe proponer en líneas generales un plan de cuidado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l grupo elegirá dos de sus integrantes, para que los represente en la presentación y debate final con el curso comple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ntrega de informe final</a:t>
            </a: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lidad y Anormalidad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alud y Enfermeda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Cuál es su relació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Cómo entendemos cada concepto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Concepto de Enfermeda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roussais, establece que los fenómenos de Enfermedad coinciden con los de la Salud, difieren sólo por la intensidad. Define la enfermedad desde los hallazgos anátomo - patoló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laude Bernard (filósofo), expresa que Salud y Enfermedad, son alteraciones cualitativas y cuantitativas de la fisiología. El estado patológico está constituído por la exageración, desproporción y disarmonía  de los fenómenos 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Concepto de Enfermeda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riche (1936) , toma en cuenta la Subjetividad del enfermo y defin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lud es  “la Vida en el silencio de los órgano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fermedad “ es aquello que molesta a los hombres en el normal ejercicio de su vida, en sus ocupaciones y sobretodo aquello que lo hace sufri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llenbach (1980) , habló de la posibilidad de que la Normalidad o exceso de normalidad , puede llegar a ser un factor generador de pat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Jaspers: une conceptos anteriores y agrega  Factor Socia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j: Relación de Anorexia Nerviosa y el Ideal de Delgadez imperante en la sociedad post mod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alta frecuencia de obesidad y la filosofía de vida del consumismo desenfrenado y la comida ráp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Estadístic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blece como “Hombre promedio” aquel que se aproxima a la Media Aritmética de las características del grupo a que pertene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a mayor parte  de la conducta del ser humano se ajustan a una distribución Normal, es decir, sus comportamientos tienen una distribución en torno a un Promedio y aquellos comportamientos comprendidos entre +/- 2 Desviaciones Estándar, son considerados 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Estadístic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iterio Cuantitativo, basado en hechos observados.... Y distribuídos según la Curva de Gau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una persona tiene una conducta semejante a las conductas de la mayoría de su grupo sociales Normal, está adaptado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cambio, aquellos que se alejan del promedio, hacia los extremos de la Curva de Gauss, son considerados a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¿ Enfermos y Geni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Normativo o Valorativ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idera al Hombre como Normal , cuando se asemeja a u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delo Ide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que reúne característic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seab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acuerdo a un sistema de valores imper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stablece como el Hombre “Debe Ser”, para lo cuál Normalidad es una condición cualit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ordar que Anormales y Enfermos son considerados como un “Disvalor Social” ( Jaspers)... Un juicio de Valor que implica considerarlo como ser inferior , nocivo e indese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Enfermedad ment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necesario determinar ¿Está psicótico o no? ¿ es psiquicamente normal o n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l es la Norma que se altera o desvía? ¿Sus Percepciones? ¿La cognición?¿ La voluntad? ¿o su conducta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cierto que una persona con Alucinaciones o delirios, presenta algo no esperado en las personas corrientes , pero también hay EQZ simples o larvadas o EQZ “residual” y en ninguna de ellas hay sínto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En los Trastornos afectivos, se localiza la enfermedad en una desviación cuantitativa del nivel del ánim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1:47:58Z</dcterms:created>
  <dc:creator>ebb</dc:creator>
  <dc:description/>
  <dc:language>en-US</dc:language>
  <cp:lastModifiedBy>Fac. de Medicina</cp:lastModifiedBy>
  <dcterms:modified xsi:type="dcterms:W3CDTF">2009-03-13T16:56:58Z</dcterms:modified>
  <cp:revision>17</cp:revision>
  <dc:subject/>
  <dc:title>Sin título de diapositiva</dc:title>
</cp:coreProperties>
</file>