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2FD-A350-4512-B499-D8E04373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CA7-40D3-4EC6-BAA9-046AFC95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E34-BCF6-4E0D-A073-AB8D1CBD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D45F-B20B-46BA-A376-2BE2FA3D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1572-6454-4FA1-A1CA-65CECFBF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ABD3-B45B-4166-BA2D-6A55014F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A727-F892-46A6-A544-1F2BEEC6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E0F6-74C9-4AC7-A65F-F42D5E54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2E09-4FA1-4EF1-9E1E-E985ACBF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B197-4FAB-42AB-ADF9-BB4658C4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5A68-8A3A-47FF-BCFE-92BB13BA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B7A-D68A-47E4-B678-587D7220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D97D-D8C6-4A38-A08D-750044A2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4404-D410-4B5C-B17C-B5F628D7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FE87-AC76-499F-83D5-FFCCB841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4D93-F22B-47D9-8688-0725C082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514C-B77D-438D-AABD-6ACE548A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B90-FFD2-426C-8038-58FA950A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368-8F55-4E79-B0C0-D1F600D3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4ED-BA80-4101-87A3-7FDF5976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1AB1-87D5-4A3F-BAB4-83D8E50A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C8E-DD11-4178-93EA-2C8295B2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72E-8149-4372-A4D4-03D7BCD4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D33-7F02-44DE-B985-E157D537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AEDD-A589-47C9-B188-54C1ADDFD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260F-5745-42FE-AC0C-0A79E5809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A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. Edda Bust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1676520"/>
            <a:ext cx="457200" cy="1371600"/>
          </a:xfrm>
          <a:prstGeom prst="upDownArrow">
            <a:avLst>
              <a:gd name="adj1" fmla="val 50000"/>
              <a:gd name="adj2" fmla="val 59722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cepto de anormalidades una medida muy relativ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que puede ser una condición del desarrollo  de un Ge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 bien la máxima  expresión de Salud m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r que la genialidad puede ir acompañada de cuadros angustiosos “ Desorden de Ansiedad generalizada”, se ha observado que esta misma “anormalidad”o sufrimiento derivado de los síntomas ha sido un estímulo para alcanzar una dimensión más elevada del espíritu ( Artes, Música, Religión)                                           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Kirkegaard , filósofo danés inspirador de la Filosofí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existencialsta, sufrió trastorno de la person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Rainer Maria Rilke, poeta alemán, presentó Trastorno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pre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 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no y Enferm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ienen una frontera sutil y a veces difusa que posibili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imperfección, error y la enferm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mbién la libertad y la sal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posible encontrar en esta frontera lo esencial y distintivo del Ser Humano.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TALLE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A </a:t>
            </a: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partir de la información recibida, el grupo debe reflexionar y distinguir si estamos frente a una situación de Normalidad o Anormalidad. Pueden trabajar en el caso presentado y en otros casos identificados entre conocidos o en los medios de comunicac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fundamentará su decisión apoyándose en Modelos de Desarrollo Evolutivo, Modelos Sistémicos, Modelos Sociológicos, Modelos Culturales, que permitan una comprensión científica de la situación en estu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Una vez que el grupo decida si lo considera  que se trata de un comportamiento Normal o un comportamiento Anormal, debe proponer en líneas generales un plan de cuidado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elegirá dos de sus integrantes, para que los represente en la presentación y debate final con el curso compl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ntrega de informe final</a:t>
            </a: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lud y Enfermeda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uál es su relació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ómo entendemos cada concepto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roussais, establece que los fenómenos de Enfermedad coinciden con los de la Salud, difieren sólo por la intensidad. Define la enfermedad desde los hallazgos anátomo - patoló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laude Bernard (filósofo), expresa que Salud y Enfermedad, son alteraciones cualitativas y cuantitativas de la fisiología. El estado patológico está constituído por la exageración, desproporción y disarmonía  de los fenómen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riche (1936) , toma en cuenta la Subjetividad del enfermo y defin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ud es  “la Vida en el silencio de los órgan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fermedad “ es aquello que molesta a los hombres en el normal ejercicio de su vida, en sus ocupaciones y sobretodo aquello que lo hace sufr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llenbach (1980) , habló de la posibilidad de que la Normalidad o exceso de normalidad , puede llegar a ser un factor generador de pat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Jaspers: une conceptos anteriores y agrega  Factor Socia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j: Relación de Anorexia Nerviosa y el Ideal de Delgadez imperante en la sociedad post mod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alta frecuencia de obesidad y la filosofía de vida del consumismo desenfrenado y la comida ráp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blece como “Hombre promedio” aquel que se aproxima a la Media Aritmética de las características del grupo a que pertene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a mayor parte  de la conducta del ser humano se ajustan a una distribución Normal, es decir, sus comportamientos tienen una distribución en torno a un Promedio y aquellos comportamientos comprendidos entre +/- 2 Desviaciones Estándar, son considerad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iterio Cuantitativo, basado en hechos observados.... Y distribuídos según la Curva de Gau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una persona tiene una conducta semejante a las conductas de la mayoría de su grupo sociales Normal, está adaptado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cambio, aquellos que se alejan del promedio, hacia los extremos de la Curva de Gauss, son considerados a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¿ Enfermos y Geni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Normativo o Valorativ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 al Hombre como Normal , cuando se asemeja a u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delo Ide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que reúne característic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eab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un sistema de valores imper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stablece como el Hombre “Debe Ser”, para lo cuál Normalidad es una condición cualit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ordar que Anormales y Enfermos son considerados como un “Disvalor Social” ( Jaspers)... Un juicio de Valor que implica considerarlo como ser inferior , nocivo e indese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Enfermedad ment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necesario determinar ¿Está psicótico o no? ¿ es psiquicamente normal o n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l es la Norma que se altera o desvía? ¿Sus Percepciones? ¿La cognición?¿ La voluntad? ¿o su conducta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cierto que una persona con Alucinaciones o delirios, presenta algo no esperado en las personas corrientes , pero también hay EQZ simples o larvadas o EQZ “residual” y en ninguna de ellas hay sínto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En los Trastornos afectivos, se localiza la enfermedad en una desviación cuantitativa del nivel del ánim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1:47:58Z</dcterms:created>
  <dc:creator>ebb</dc:creator>
  <dc:description/>
  <dc:language>en-US</dc:language>
  <cp:lastModifiedBy>Fac. de Medicina</cp:lastModifiedBy>
  <dcterms:modified xsi:type="dcterms:W3CDTF">2009-03-13T16:56:58Z</dcterms:modified>
  <cp:revision>17</cp:revision>
  <dc:subject/>
  <dc:title>Sin título de diapositiva</dc:title>
</cp:coreProperties>
</file>