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532-5BAD-4635-B8C9-AC80C67F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6BA-6F03-4029-B5B7-CBC0E9AD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3F07-CC92-43B9-9CAA-E667BBE1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EE5-7A65-4974-A768-DC16AEFE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9052-8EC7-4793-8FD5-B41F2FCA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5B06-26CF-46A9-B38C-A67531C5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B7D2-C88B-42D5-8C10-12EE0FE0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86A5-EB58-4DE7-8F21-5A406EC0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AA04-2614-45DE-A8AB-5B245717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B5EA-A01A-4C56-84BD-55125D03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CD68-8A79-406A-A3EB-1CE9C67B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6B4-8C65-4F78-80B6-D9743B2A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573B-2ECB-4A87-9C3D-22FECDD1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129C-E1A8-4C15-8E33-D0C402D3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60CB-9A4C-40C5-888B-3FD6EFEC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F89E-874A-4321-8B19-105DB6AE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0D74-AD68-4890-9D30-B98A6B89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B040-94C3-4D17-B5A2-EDAAA65E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2012-9BA0-43D4-8EED-1127DE8B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275-BC3F-4018-B5E4-37AFB38C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BB5-802B-4AAD-9940-779051BA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408-F057-4B92-AC1A-2246B058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5B1-B6C9-4DD6-AAF6-8FD41FFA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062-94E3-4F66-BFB8-3CE65F3C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40BC-840A-4CFC-80D7-B292743A1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BF03-5475-4B18-A83D-69B7C5550D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NORMAL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ANORMAL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f. Edda Bust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1676520"/>
            <a:ext cx="457200" cy="1371600"/>
          </a:xfrm>
          <a:prstGeom prst="upDownArrow">
            <a:avLst>
              <a:gd name="adj1" fmla="val 50000"/>
              <a:gd name="adj2" fmla="val 59722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cepto de anormalidades una medida muy relativ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que puede ser una condición del desarrollo  de un Ge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 bien la máxima  expresión de Salud me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iderar que la genialidad puede ir acompañada de cuadros angustiosos “ Desorden de Ansiedad generalizada”, se ha observado que esta misma “anormalidad”o sufrimiento derivado de los síntomas ha sido un estímulo para alcanzar una dimensión más elevada del espíritu ( Artes, Música, Religión)                                           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Kirkegaard , filósofo danés inspirador de la Filosofí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existencialsta, sufrió trastorno de la person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Rainer Maria Rilke, poeta alemán, presentó Trastorno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Depre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ormalidad y Anormalidad 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ano y Enferm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ienen una frontera sutil y a veces difusa que posibili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imperfección, error y la enferm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mbién la libertad y la sal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posible encontrar en esta frontera lo esencial y distintivo del Ser Humano..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TALLER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A </a:t>
            </a: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partir de la información recibida, el grupo debe reflexionar y distinguir si estamos frente a una situación de Normalidad o Anormalidad. Pueden trabajar en el caso presentado y en otros casos identificados entre conocidos o en los medios de comunicació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l grupo fundamentará su decisión apoyándose en Modelos de Desarrollo Evolutivo, Modelos Sistémicos, Modelos Sociológicos, Modelos Culturales, que permitan una comprensión científica de la situación en estu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Una vez que el grupo decida si lo considera  que se trata de un comportamiento Normal o un comportamiento Anormal, debe proponer en líneas generales un plan de cuidado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l grupo elegirá dos de sus integrantes, para que los represente en la presentación y debate final con el curso comple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ntrega de informe final</a:t>
            </a: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ormalidad y Anormalidad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alud y Enfermedad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Cuál es su relació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Cómo entendemos cada concepto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Concepto de Enfermedad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roussais, establece que los fenómenos de Enfermedad coinciden con los de la Salud, difieren sólo por la intensidad. Define la enfermedad desde los hallazgos anátomo - patoló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laude Bernard (filósofo), expresa que Salud y Enfermedad, son alteraciones cualitativas y cuantitativas de la fisiología. El estado patológico está constituído por la exageración, desproporción y disarmonía  de los fenómenos 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Concepto de Enfermedad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riche (1936) , toma en cuenta la Subjetividad del enfermo y defin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lud es  “la Vida en el silencio de los órgano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fermedad “ es aquello que molesta a los hombres en el normal ejercicio de su vida, en sus ocupaciones y sobretodo aquello que lo hace sufri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llenbach (1980) , habló de la posibilidad de que la Normalidad o exceso de normalidad , puede llegar a ser un factor generador de pat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Jaspers: une conceptos anteriores y agrega  Factor Socia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j: Relación de Anorexia Nerviosa y el Ideal de Delgadez imperante en la sociedad post mod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alta frecuencia de obesidad y la filosofía de vida del consumismo desenfrenado y la comida ráp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Estadístic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blece como “Hombre promedio” aquel que se aproxima a la Media Aritmética de las características del grupo a que pertene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a mayor parte  de la conducta del ser humano se ajustan a una distribución Normal, es decir, sus comportamientos tienen una distribución en torno a un Promedio y aquellos comportamientos comprendidos entre +/- 2 Desviaciones Estándar, son considerados 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Estadístic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iterio Cuantitativo, basado en hechos observados.... Y distribuídos según la Curva de Gau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una persona tiene una conducta semejante a las conductas de la mayoría de su grupo sociales Normal, está adaptado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cambio, aquellos que se alejan del promedio, hacia los extremos de la Curva de Gauss, son considerados a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¿ Enfermos y Geni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Normativo o Valorativ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idera al Hombre como Normal , cuando se asemeja a u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delo Ide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que reúne característic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seab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acuerdo a un sistema de valores imper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stablece como el Hombre “Debe Ser”, para lo cuál Normalidad es una condición cualit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ordar que Anormales y Enfermos son considerados como un “Disvalor Social” ( Jaspers)... Un juicio de Valor que implica considerarlo como ser inferior , nocivo e indese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Enfermedad ment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necesario determinar ¿Está psicótico o no? ¿ es psiquicamente normal o n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l es la Norma que se altera o desvía? ¿Sus Percepciones? ¿La cognición?¿ La voluntad? ¿o su conducta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cierto que una persona con Alucinaciones o delirios, presenta algo no esperado en las personas corrientes , pero también hay EQZ simples o larvadas o EQZ “residual” y en ninguna de ellas hay sínto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En los Trastornos afectivos, se localiza la enfermedad en una desviación cuantitativa del nivel del ánim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1:47:58Z</dcterms:created>
  <dc:creator>ebb</dc:creator>
  <dc:description/>
  <dc:language>en-US</dc:language>
  <cp:lastModifiedBy>Fac. de Medicina</cp:lastModifiedBy>
  <dcterms:modified xsi:type="dcterms:W3CDTF">2009-03-13T16:56:58Z</dcterms:modified>
  <cp:revision>17</cp:revision>
  <dc:subject/>
  <dc:title>Sin título de diapositiva</dc:title>
</cp:coreProperties>
</file>