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D2B-B160-4C0B-9F6B-0F79FE03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1EB-97CA-4828-A396-561C9349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4CF-1E05-40D5-B8EC-7DEA9A54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B5B-6421-4509-AF79-756C6D10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1F0A-C04F-4731-80FA-BAF97351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A29D-6233-4B44-A73D-D24E0E7D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A60E-036F-49F1-A0DE-22B43191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2DBF-E4AB-4D37-B418-3B8C4428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8CDF-849F-40DD-9612-6AB1D5F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E20A-5F1A-426C-8457-637B7780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D229-7204-424C-9494-AE11025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24F-5180-4583-B0C3-D884875F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7F59-7324-483F-BE0A-B0E7BB45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2542-86E0-4DF4-AB66-74FDC95A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BAAD-F1E0-44CD-B00B-869334A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A25C-4310-4AB8-90A9-DF23BC47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6A9C-4333-453B-A06E-05043898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5A4-06E0-4E20-B258-11A3D0EE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D4D-63B1-4A7D-A85F-8D099A1E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503-36F2-470B-BAE3-53CCC0DA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FF0-A1F6-4868-BAAC-8F1F26A6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B14-1CAB-4714-B49D-194B8DD5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DF6-0732-4E71-94BA-D440A63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4EE-BE2B-464D-A267-EA9C4C88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95C9-E458-4760-AF5D-ED56151B9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FF9D-C425-43CF-9EB1-4C8898522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A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. Edda Bu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676520"/>
            <a:ext cx="457200" cy="13716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cepto de anormalidades una medida muy relat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que puede ser una condición del desarrollo  de un Ge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la máxima  expresión de Salud 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r que la genialidad puede ir acompañada de cuadros angustiosos “ Desorden de Ansiedad generalizada”, se ha observado que esta misma “anormalidad”o sufrimiento derivado de los síntomas ha sido un estímulo para alcanzar una dimensión más elevada del espíritu ( Artes, Música, Religión)                       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Kirkegaard , filósofo danés inspirador de la Filosofí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xistencialsta, sufrió trastorno de la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Rainer Maria Rilke, poeta alemán, presentó Trastorn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pr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no y Enferm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enen una frontera sutil y a veces difusa que posibili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mperfección, error y la enferm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la libertad y la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ble encontrar en esta frontera lo esencial y distintivo del Ser Humano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ALL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artir de la información recibida, el grupo debe reflexionar y distinguir si estamos frente a una situación de Normalidad o Anormalidad. Pueden trabajar en el caso presentado y en otros casos identificados entre conocidos o en los medios de comunic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fundamentará su decisión apoyándose en Modelos de Desarrollo Evolutivo, Modelos Sistémicos, Modelos Sociológicos, Modelos Culturales, que permitan una comprensión científica de la situación en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Una vez que el grupo decida si lo considera  que se trata de un comportamiento Normal o un comportamiento Anormal, debe proponer en líneas generales un plan de cuidad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elegirá dos de sus integrantes, para que los represente en la presentación y debate final con el curso 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trega de informe final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lud y Enfermeda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uál es su relació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ómo entendemos cada concept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oussais, establece que los fenómenos de Enfermedad coinciden con los de la Salud, difieren sólo por la intensidad. Define la enfermedad desde los hallazgos anátomo - pat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laude Bernard (filósofo), expresa que Salud y Enfermedad, son alteraciones cualitativas y cuantitativas de la fisiología. El estado patológico está constituído por la exageración, desproporción y disarmonía  de los fenómen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riche (1936) , toma en cuenta la Subjetividad del enfermo y def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ud es  “la Vida en el silencio de los órgan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fermedad “ es aquello que molesta a los hombres en el normal ejercicio de su vida, en sus ocupaciones y sobretodo aquello que lo hace sufr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llenbach (1980) , habló de la posibilidad de que la Normalidad o exceso de normalidad , puede llegar a ser un factor generador de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Jaspers: une conceptos anteriores y agrega  Factor So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: Relación de Anorexia Nerviosa y el Ideal de Delgadez imperante en la sociedad post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alta frecuencia de obesidad y la filosofía de vida del consumismo desenfrenado y la comida ráp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blece como “Hombre promedio” aquel que se aproxima a la Media Aritmética de las características del grupo a que pertene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mayor parte  de la conducta del ser humano se ajustan a una distribución Normal, es decir, sus comportamientos tienen una distribución en torno a un Promedio y aquellos comportamientos comprendidos entre +/- 2 Desviaciones Estándar, son considerad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Cuantitativo, basado en hechos observados.... Y distribuídos según la Curva de Gau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na persona tiene una conducta semejante a las conductas de la mayoría de su grupo sociales Normal, está adaptado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mbio, aquellos que se alejan del promedio, hacia los extremos de la Curva de Gauss, son considerados a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¿ Enfermos y Geni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Normativo o Valora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 al Hombre como Normal , cuando se asemeja a u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elo Ide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ue reúne característic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eab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un sistema de valores imp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stablece como el Hombre “Debe Ser”, para lo cuál Normalidad es una condición c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que Anormales y Enfermos son considerados como un “Disvalor Social” ( Jaspers)... Un juicio de Valor que implica considerarlo como ser inferior , nocivo e indes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Enfermedad ment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necesario determinar ¿Está psicótico o no? ¿ es psiquicamente normal o n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la Norma que se altera o desvía? ¿Sus Percepciones? ¿La cognición?¿ La voluntad? ¿o su conduct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cierto que una persona con Alucinaciones o delirios, presenta algo no esperado en las personas corrientes , pero también hay EQZ simples o larvadas o EQZ “residual” y en ninguna de ellas hay sínto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En los Trastornos afectivos, se localiza la enfermedad en una desviación cuantitativa del nivel del ánim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47:58Z</dcterms:created>
  <dc:creator>ebb</dc:creator>
  <dc:description/>
  <dc:language>en-US</dc:language>
  <cp:lastModifiedBy>Fac. de Medicina</cp:lastModifiedBy>
  <dcterms:modified xsi:type="dcterms:W3CDTF">2009-03-13T16:56:58Z</dcterms:modified>
  <cp:revision>17</cp:revision>
  <dc:subject/>
  <dc:title>Sin título de diapositiva</dc:title>
</cp:coreProperties>
</file>