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C61-FDF3-4C51-AB90-5CC989B9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BEE-AF5D-4EDD-95C4-2B47BD5A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F8C-7160-4964-9517-2E86B03E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D08-30C9-44E9-B2D8-546A254F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AA84-703A-4EED-A980-569952EB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D4FA-F87C-4012-9581-3CA1F9E0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EAE1-C636-4E0C-94CE-A0B3442A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8954-A887-43CF-A5E7-57DDDCF2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F5C4-803F-46D3-8A91-473A3A99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1FAD-E9E6-4094-8F74-82569248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F8A1-C59C-4DD3-ACAF-D306926B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AE6-933C-408B-B1B0-9E3BE59A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EAFB-7318-4CEA-86F4-9F0059E3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ADB7-FF1B-4604-A107-53E4C09E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E483-0EB3-406E-A55B-5E4C4698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07A1-0AED-4C8A-833C-0BDE3DCE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6805-415A-4B23-8A73-8F962C4D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354-A56E-425B-BA28-B26BA87F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CF8-19A9-4F38-9CB8-71F247FC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5492-9CBF-41AB-AE18-7D84D430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CBC-E532-4FBB-A9CB-8FEC3E5F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271-46B5-4CAC-A325-802FCE05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875-C6E5-4069-937F-E24304A4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46A6-1673-4661-A59C-B1515FDB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D727-8F1D-4FA6-B44B-96EAE528D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4C74-859C-49C9-9CFA-6C829BA8B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ucarchile.cl/ntg/personajes/1611/article-94939.html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wikiderecho.cl/wiki/Imagen:GGV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www.educarchile.cl/ntg/personajes/1611/article-95011.html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Sistemas</a:t>
            </a: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Políticos </a:t>
            </a: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y </a:t>
            </a:r>
            <a:br>
              <a:rPr sz="4000"/>
            </a:b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Políticas Públicas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logou" descr="Universidad de Chile"/>
          <p:cNvPicPr/>
          <p:nvPr/>
        </p:nvPicPr>
        <p:blipFill>
          <a:blip r:embed="rId2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7280" y="0"/>
            <a:ext cx="471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ahoma"/>
              </a:rPr>
              <a:t>La crisis de un modelo social y su contexto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88000" y="2133720"/>
            <a:ext cx="40320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límites de la integ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agotamiento de la alianza gobern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Una época de transform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os cambios cul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16360" y="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5ffff"/>
                </a:solidFill>
                <a:latin typeface="Tahoma"/>
              </a:rPr>
              <a:t>El agotamiento de las políticas </a:t>
            </a:r>
            <a:r>
              <a:rPr b="1" lang="es-CL" sz="2800" spc="-1" strike="noStrike">
                <a:solidFill>
                  <a:srgbClr val="e5ffff"/>
                </a:solidFill>
                <a:latin typeface="Tahoma"/>
              </a:rPr>
              <a:t>públ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1127160"/>
            <a:ext cx="450072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“Revolución en Liberta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experimento chile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“Gatopardism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reforma agr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promoción pop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sindical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Nuevos actores: pobres del campo y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Líneas de expl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teoría de la modern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Un desarrollo capitalista insufic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Teoría de la Depend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asfixia del merc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88000" y="18900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Perspectiv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viabilidad de las políticas públicas: Los límites de la focaliz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¿Camino de integració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Bibliografí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lfredo Jocelyn Holt et, Al. “El siglo XX Chileno” Ed, Sudamericana 1998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Gabriel Salazar. “Las anchas alamedas”. Ed. LOM 1994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omás Moulian. “Chile anatomía del un mito” Ed. LOM 1997. Santiago, Ch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Los sistemas políticos: condiciones estructur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ominación v/s Particip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servación y Cambio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es dimensiones del confli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sistema político y el control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332160" y="0"/>
            <a:ext cx="58118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327672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tado v/s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concepto de merc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mercado como asignador de recurs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sistema político y el Est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bienestar social como misió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El bienestar desde el Estado: </a:t>
            </a:r>
            <a:r>
              <a:rPr b="0" i="1" lang="es-ES" sz="2100" spc="-1" strike="noStrike">
                <a:solidFill>
                  <a:srgbClr val="ffffff"/>
                </a:solidFill>
                <a:latin typeface="Tahoma"/>
              </a:rPr>
              <a:t>el caso de la educación y la salu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Las políticas públicas y el Estad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Tahoma"/>
              </a:rPr>
              <a:t>Los sistemas políticos en Ch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ffff"/>
                </a:solidFill>
                <a:latin typeface="Tahoma"/>
              </a:rPr>
              <a:t>La Sociedad Oligárqu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fundamentos: El Orden tradi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Legitimidad: la cultura de la do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Perfil Social: estructura y st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sistema político: la endogam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ahoma"/>
              </a:rPr>
              <a:t>La lógica aristocrática: que gobiernen los mej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got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Crisis y Transforma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La constitución de 1925: régimen presidencial y sufragio “universal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Auge y caída de la dictadura de Carlos Ibáñez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Marmaduke Grove y la República Socialist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Crisis política y socia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Nuevos grupos sociales en ascens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Un nuevo rol para es Esta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Arturo Alessandri Palma"/>
          <p:cNvPicPr/>
          <p:nvPr/>
        </p:nvPicPr>
        <p:blipFill>
          <a:blip r:embed="rId2"/>
          <a:stretch/>
        </p:blipFill>
        <p:spPr>
          <a:xfrm>
            <a:off x="6804000" y="981000"/>
            <a:ext cx="2340000" cy="3024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932360" y="3716280"/>
            <a:ext cx="4211640" cy="3141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Marmaduke Grove instaló una emisora en La Moneda"/>
          <p:cNvPicPr/>
          <p:nvPr/>
        </p:nvPicPr>
        <p:blipFill>
          <a:blip r:embed="rId4"/>
          <a:stretch/>
        </p:blipFill>
        <p:spPr>
          <a:xfrm>
            <a:off x="4930920" y="981000"/>
            <a:ext cx="1946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907920"/>
            <a:ext cx="3168360" cy="378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907920"/>
            <a:ext cx="3059280" cy="3789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907920"/>
            <a:ext cx="2916360" cy="3789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4869000"/>
            <a:ext cx="6912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industrialización: un modelo virtu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urbanización: el proceso migr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n nuevo sistema político: la instituciona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Frente Popular: La modern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ffff"/>
                </a:solidFill>
                <a:latin typeface="Tahoma"/>
              </a:rPr>
              <a:t>Un nuevo modelo de políticas pública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ilares de la intervenció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u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cción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Integración, modernización y expectativas</a:t>
            </a: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risis social como frust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construcción de las expectati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limitación de la integ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4:27:16Z</dcterms:created>
  <dc:creator>Patricio Escobar</dc:creator>
  <dc:description/>
  <dc:language>en-US</dc:language>
  <cp:lastModifiedBy>Patricio Escobar S.</cp:lastModifiedBy>
  <dcterms:modified xsi:type="dcterms:W3CDTF">2008-11-07T01:05:03Z</dcterms:modified>
  <cp:revision>15</cp:revision>
  <dc:subject/>
  <dc:title>La Sociedad del Trabajo</dc:title>
</cp:coreProperties>
</file>