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B0C-338B-43E2-B28E-4407307F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5AE-A58C-47D2-B2A9-35904B5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9D1-097A-49DD-9289-4C527789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F86-F063-4ACD-8629-7D314804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B9DC-54A9-4C7C-BA7E-7D960239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7B18-5CC4-4339-B2E0-9E94D44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5D7-8546-48D6-9841-392C687C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1688-950D-464B-AA8D-7DF22804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050-2E3F-4D74-90B7-7D7CCF0C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67F-6FBA-4C2D-BF92-7AE75E19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7085-7A1B-4BBB-AF0A-051E17D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455-3F3D-49D8-8B13-816A3A6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3337-3270-489E-8C8B-5B5D1B1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DE4-24E8-4581-AF2C-05CCC5E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DF7-43A0-489F-A72D-D8FF29E9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25BE-B591-44B6-A7BD-C3663320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6CA0-9F81-4194-B177-137E1B6A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226-51F4-4D06-812B-42F3792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D8D-A4CC-4E42-8DB8-14543E02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3FB-CC35-46DB-8FF4-0DEFD6B1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CEB-2B9D-4BE5-9A18-0568EF0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AF6-D308-429C-8EEA-CB29796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C9F-75F7-4A6A-91EF-10F250E4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CD1-DCE3-4B7A-9574-2B3E951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297-5C14-4703-B80D-52B6CCB08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50EC-102E-4452-ACF2-9E819ED79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rchile.cl/ntg/personajes/1611/article-94939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wikiderecho.cl/wiki/Imagen:GGV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educarchile.cl/ntg/personajes/1611/article-95011.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Sistemas</a:t>
            </a: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os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y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as Públicas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La crisis de un modelo social y su context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2133720"/>
            <a:ext cx="403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límites de la integ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agotamiento de la alianza gober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Una época de transform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cambios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16360" y="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El agotamiento de las políticas </a:t>
            </a:r>
            <a:r>
              <a:rPr b="1" lang="es-CL" sz="2800" spc="-1" strike="noStrike">
                <a:solidFill>
                  <a:srgbClr val="e5ffff"/>
                </a:solidFill>
                <a:latin typeface="Tahoma"/>
              </a:rPr>
              <a:t>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127160"/>
            <a:ext cx="45007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“Revolución en 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experimento chile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“Gatopard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reforma agr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promoción po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sindic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uevos actores: pobres del campo y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íneas de expl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modern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Un desarrollo capitalista insufi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Depen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asfixia del merc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89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Perspectiv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viabilidad de las políticas públicas: Los límites de la fo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¿Camino de integració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fredo Jocelyn Holt et, Al. “El siglo XX Chileno” Ed, Sudamericana 1998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abriel Salazar. “Las anchas alamedas”. Ed. LOM 1994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más Moulian. “Chile anatomía del un mito” Ed. LOM 1997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os sistemas políticos: condiciones estructur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minación v/s Particip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servación y Cambio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es dimensiones del confli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sistema político y el control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32160" y="0"/>
            <a:ext cx="5811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32767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tado v/s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concepto de merc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mercado como asignador de recurs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sistema político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social como mis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desde el Estado: </a:t>
            </a:r>
            <a:r>
              <a:rPr b="0" i="1" lang="es-ES" sz="2100" spc="-1" strike="noStrike">
                <a:solidFill>
                  <a:srgbClr val="ffffff"/>
                </a:solidFill>
                <a:latin typeface="Tahoma"/>
              </a:rPr>
              <a:t>el caso de la educación y la salu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as políticas públicas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os sistemas políticos en Ch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a Sociedad Oligárqu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fundamentos: El Orden 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Legitimidad: la cultura de la do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erfil Social: estructura y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sistema político: la endog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a lógica aristocrática: que gobiernen los mej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go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Crisis y Transform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constitución de 1925: régimen presidencial y sufragio “universal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Auge y caída de la dictadura de Carlos Ibáñez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Marmaduke Grove y la República Social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Crisis política y soci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Nuevos grupos sociales en ascens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Un nuevo rol para es Esta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Arturo Alessandri Palma"/>
          <p:cNvPicPr/>
          <p:nvPr/>
        </p:nvPicPr>
        <p:blipFill>
          <a:blip r:embed="rId2"/>
          <a:stretch/>
        </p:blipFill>
        <p:spPr>
          <a:xfrm>
            <a:off x="6804000" y="98100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armaduke Grove instaló una emisora en La Moneda"/>
          <p:cNvPicPr/>
          <p:nvPr/>
        </p:nvPicPr>
        <p:blipFill>
          <a:blip r:embed="rId4"/>
          <a:stretch/>
        </p:blipFill>
        <p:spPr>
          <a:xfrm>
            <a:off x="4930920" y="981000"/>
            <a:ext cx="194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907920"/>
            <a:ext cx="3168360" cy="37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90792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07920"/>
            <a:ext cx="2916360" cy="378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4869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dustrialización: un modelo virt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urbanización: el proceso migr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nuevo sistema político: la institucion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Frente Popular: La moder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Un nuevo modelo de políticas públic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lares de la interven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ción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Integración, modernización y expectativa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risis social como fru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strucción de las expect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limitación de la integ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11-07T01:05:03Z</dcterms:modified>
  <cp:revision>15</cp:revision>
  <dc:subject/>
  <dc:title>La Sociedad del Trabajo</dc:title>
</cp:coreProperties>
</file>