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wmf" ContentType="image/x-wmf"/>
  <Override PartName="/ppt/media/image15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F410-BAEF-458F-A95D-EA410BE25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49E0-0A4A-4712-BA38-0CF0F779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D2AA-5BA7-47EE-AE4E-5BDB39B96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140B-1302-474E-AF23-E6911DEF7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42C2-6087-402F-A4B6-273743BDB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CF91-3A21-4635-90E0-BBACFA58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0A4C-8EA8-4DC6-B071-E2561890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5046-92C5-423A-ADDE-EC167073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989E-A08C-4AC9-B9F8-EAD93348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3855-F05A-41A9-9658-59D2452E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EAE3-7F35-45B8-BA86-A082FBCD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7122-C3B9-4C66-8124-B6C8B810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156B1-717A-4587-976B-8E12C589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3371-98BD-4591-8912-7445E860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B74F-D94D-425C-9750-D0CA7D73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B0F4-50EE-4E2B-99C2-F41F26D6F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1813-A29C-4220-BCB6-AA09CBFDF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0D53-5233-49B3-992E-41D81653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4B76-1D1E-4D2C-8D32-CE52AF60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A513-8C2C-4BFD-8505-47776A94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A95D-F1CB-4867-95E5-7FBE6F01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134C-18F9-412F-AD1D-41F478A4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1745-2904-42DC-8FF9-0666B888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214B-DC17-45F3-B749-86DDF99C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AD42-77FD-4C42-A5A1-C44C76F426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92D8-97D5-41C7-8237-9ABD3323DA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ducarchile.cl/ntg/personajes/1611/article-94939.html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www.wikiderecho.cl/wiki/Imagen:GGV.jpg" TargetMode="External"/><Relationship Id="rId5" Type="http://schemas.openxmlformats.org/officeDocument/2006/relationships/image" Target="../media/image9.jpeg"/><Relationship Id="rId6" Type="http://schemas.openxmlformats.org/officeDocument/2006/relationships/hyperlink" Target="http://www.educarchile.cl/ntg/personajes/1611/article-95011.html" TargetMode="External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CL" sz="4000" spc="-1" strike="noStrike">
                <a:solidFill>
                  <a:srgbClr val="e5ffff"/>
                </a:solidFill>
                <a:latin typeface="Tahoma"/>
              </a:rPr>
              <a:t>Sistemas</a:t>
            </a:r>
            <a:r>
              <a:rPr b="0" lang="es-CL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s-CL" sz="4000" spc="-1" strike="noStrike">
                <a:solidFill>
                  <a:srgbClr val="e5ffff"/>
                </a:solidFill>
                <a:latin typeface="Tahoma"/>
              </a:rPr>
              <a:t>Políticos </a:t>
            </a:r>
            <a:br>
              <a:rPr sz="4000"/>
            </a:br>
            <a:r>
              <a:rPr b="1" lang="es-CL" sz="4000" spc="-1" strike="noStrike">
                <a:solidFill>
                  <a:srgbClr val="e5ffff"/>
                </a:solidFill>
                <a:latin typeface="Tahoma"/>
              </a:rPr>
              <a:t>y </a:t>
            </a:r>
            <a:br>
              <a:rPr sz="4000"/>
            </a:br>
            <a:r>
              <a:rPr b="1" lang="es-CL" sz="4000" spc="-1" strike="noStrike">
                <a:solidFill>
                  <a:srgbClr val="e5ffff"/>
                </a:solidFill>
                <a:latin typeface="Tahoma"/>
              </a:rPr>
              <a:t>Políticas Públicas</a:t>
            </a:r>
            <a:br>
              <a:rPr sz="4000"/>
            </a:br>
            <a:br>
              <a:rPr sz="4000"/>
            </a:br>
            <a:r>
              <a:rPr b="1" lang="es-CL" sz="2000" spc="-1" strike="noStrike">
                <a:solidFill>
                  <a:srgbClr val="e5ffff"/>
                </a:solidFill>
                <a:latin typeface="Tahoma"/>
              </a:rPr>
              <a:t>Curso de Sociología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5ffff"/>
                </a:solidFill>
                <a:latin typeface="Tahoma"/>
              </a:rPr>
              <a:t>Escuela de Terapia Ocupacional</a:t>
            </a:r>
            <a:br>
              <a:rPr sz="4000"/>
            </a:br>
            <a:br>
              <a:rPr sz="4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logou" descr="Universidad de Chile"/>
          <p:cNvPicPr/>
          <p:nvPr/>
        </p:nvPicPr>
        <p:blipFill>
          <a:blip r:embed="rId2"/>
          <a:stretch/>
        </p:blipFill>
        <p:spPr>
          <a:xfrm>
            <a:off x="7164360" y="836640"/>
            <a:ext cx="111780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27280" y="0"/>
            <a:ext cx="471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e5ffff"/>
                </a:solidFill>
                <a:latin typeface="Tahoma"/>
              </a:rPr>
              <a:t>La crisis de un modelo social y su contexto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788000" y="2133720"/>
            <a:ext cx="4032000" cy="39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Los límites de la integr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l agotamiento de la alianza goberna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Una época de transform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Los cambios cultur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6244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716360" y="0"/>
            <a:ext cx="442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e5ffff"/>
                </a:solidFill>
                <a:latin typeface="Tahoma"/>
              </a:rPr>
              <a:t>El agotamiento de las políticas </a:t>
            </a:r>
            <a:r>
              <a:rPr b="1" lang="es-CL" sz="2800" spc="-1" strike="noStrike">
                <a:solidFill>
                  <a:srgbClr val="e5ffff"/>
                </a:solidFill>
                <a:latin typeface="Tahoma"/>
              </a:rPr>
              <a:t>públ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43280" y="1127160"/>
            <a:ext cx="4500720" cy="58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La “Revolución en Libertad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l experimento chile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l “Gatopardismo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La reforma agr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La promoción popu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La sindicaliz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Nuevos actores: pobres del campo y la ciu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ffff"/>
                </a:solidFill>
                <a:latin typeface="Tahoma"/>
              </a:rPr>
              <a:t>Líneas de explic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La teoría de la moderniz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Un desarrollo capitalista insuficien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La Teoría de la Depende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La asfixia del merc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788000" y="189000"/>
            <a:ext cx="41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ffff"/>
                </a:solidFill>
                <a:latin typeface="Tahoma"/>
              </a:rPr>
              <a:t>Perspectiv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La viabilidad de las políticas públicas: Los límites de la focaliz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¿Camino de integració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0" y="0"/>
          <a:ext cx="9144000" cy="682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Bibliografí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Alfredo Jocelyn Holt et, Al. “El siglo XX Chileno” Ed, Sudamericana 1998. Santiago, Chi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Gabriel Salazar. “Las anchas alamedas”. Ed. LOM 1994. Santiago, Chi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Tomás Moulian. “Chile anatomía del un mito” Ed. LOM 1997. Santiago, Chi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e5ffff"/>
                </a:solidFill>
                <a:latin typeface="Tahoma"/>
              </a:rPr>
              <a:t>Los sistemas políticos: condiciones estructural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ominación v/s Particip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onservación y Cambio Soc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Tres dimensiones del conflic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l sistema político y el control soc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332160" y="0"/>
            <a:ext cx="581184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0"/>
            <a:ext cx="3276720" cy="68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Estado v/s Merc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100" spc="-1" strike="noStrike">
                <a:solidFill>
                  <a:srgbClr val="ffffff"/>
                </a:solidFill>
                <a:latin typeface="Tahoma"/>
              </a:rPr>
              <a:t>El concepto de mercado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100" spc="-1" strike="noStrike">
                <a:solidFill>
                  <a:srgbClr val="ffffff"/>
                </a:solidFill>
                <a:latin typeface="Tahoma"/>
              </a:rPr>
              <a:t>El mercado como asignador de recurso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100" spc="-1" strike="noStrike">
                <a:solidFill>
                  <a:srgbClr val="ffffff"/>
                </a:solidFill>
                <a:latin typeface="Tahoma"/>
              </a:rPr>
              <a:t>El sistema político y el Estado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100" spc="-1" strike="noStrike">
                <a:solidFill>
                  <a:srgbClr val="ffffff"/>
                </a:solidFill>
                <a:latin typeface="Tahoma"/>
              </a:rPr>
              <a:t>El bienestar social como misió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100" spc="-1" strike="noStrike">
                <a:solidFill>
                  <a:srgbClr val="ffffff"/>
                </a:solidFill>
                <a:latin typeface="Tahoma"/>
              </a:rPr>
              <a:t>El bienestar desde el Estado: </a:t>
            </a:r>
            <a:r>
              <a:rPr b="0" i="1" lang="es-ES" sz="2100" spc="-1" strike="noStrike">
                <a:solidFill>
                  <a:srgbClr val="ffffff"/>
                </a:solidFill>
                <a:latin typeface="Tahoma"/>
              </a:rPr>
              <a:t>el caso de la educación y la salu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100" spc="-1" strike="noStrike">
                <a:solidFill>
                  <a:srgbClr val="ffffff"/>
                </a:solidFill>
                <a:latin typeface="Tahoma"/>
              </a:rPr>
              <a:t>Las políticas públicas y el Estado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100" spc="-1" strike="noStrike">
                <a:solidFill>
                  <a:srgbClr val="ffffff"/>
                </a:solidFill>
                <a:latin typeface="Tahoma"/>
              </a:rPr>
              <a:t>Los sistemas políticos en Chi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ffff"/>
                </a:solidFill>
                <a:latin typeface="Tahoma"/>
              </a:rPr>
              <a:t>La Sociedad Oligárquic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os fundamentos: El Orden tradic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Legitimidad: la cultura de la domin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Perfil Social: estructura y stat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sistema político: la endogam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La lógica aristocrática: que gobiernen los mej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l agotami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5ffff"/>
                </a:solidFill>
                <a:latin typeface="Tahoma"/>
              </a:rPr>
              <a:t>Crisis y Transformació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384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La constitución de 1925: régimen presidencial y sufragio “universal”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Tahoma"/>
              </a:rPr>
              <a:t>Auge y caída de la dictadura de Carlos Ibáñez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Tahoma"/>
              </a:rPr>
              <a:t>Marmaduke Grove y la República Socialista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Tahoma"/>
              </a:rPr>
              <a:t>Crisis política y social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Tahoma"/>
              </a:rPr>
              <a:t>Nuevos grupos sociales en ascenso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Un nuevo rol para es Estad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Arturo Alessandri Palma"/>
          <p:cNvPicPr/>
          <p:nvPr/>
        </p:nvPicPr>
        <p:blipFill>
          <a:blip r:embed="rId2"/>
          <a:stretch/>
        </p:blipFill>
        <p:spPr>
          <a:xfrm>
            <a:off x="6804000" y="981000"/>
            <a:ext cx="2340000" cy="3024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932360" y="3716280"/>
            <a:ext cx="4211640" cy="3141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Marmaduke Grove instaló una emisora en La Moneda"/>
          <p:cNvPicPr/>
          <p:nvPr/>
        </p:nvPicPr>
        <p:blipFill>
          <a:blip r:embed="rId4"/>
          <a:stretch/>
        </p:blipFill>
        <p:spPr>
          <a:xfrm>
            <a:off x="4930920" y="981000"/>
            <a:ext cx="19461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16360" y="907920"/>
            <a:ext cx="3168360" cy="3789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84720" y="907920"/>
            <a:ext cx="3059280" cy="3789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907920"/>
            <a:ext cx="2916360" cy="3789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116000" y="4869000"/>
            <a:ext cx="6912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industrialización: un modelo virtuo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urbanización: el proceso migrato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Un nuevo sistema político: la institucionaliz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l Frente Popular: La moderniz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e5ffff"/>
                </a:solidFill>
                <a:latin typeface="Tahoma"/>
              </a:rPr>
              <a:t>Un nuevo modelo de políticas pública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ilares de la intervenció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lu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duc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ección soc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5ffff"/>
                </a:solidFill>
                <a:latin typeface="Tahoma"/>
              </a:rPr>
              <a:t>Integración, modernización y expectativas</a:t>
            </a:r>
            <a:r>
              <a:rPr b="0" lang="es-E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crisis social como frustr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construcción de las expectativ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limitación de la integr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4:27:16Z</dcterms:created>
  <dc:creator>Patricio Escobar</dc:creator>
  <dc:description/>
  <dc:language>en-US</dc:language>
  <cp:lastModifiedBy>Patricio Escobar S.</cp:lastModifiedBy>
  <dcterms:modified xsi:type="dcterms:W3CDTF">2008-11-07T01:05:03Z</dcterms:modified>
  <cp:revision>15</cp:revision>
  <dc:subject/>
  <dc:title>La Sociedad del Trabajo</dc:title>
</cp:coreProperties>
</file>